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0DB-035E-43CB-BFE0-74203A85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797-07FA-46A9-AE18-A47262AD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7FD-269C-451D-BBD2-26438A86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49B-9E74-4C30-9F61-CF548EE6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D986-1035-49C4-82E7-F86A87E8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A0BD-975E-45DF-9B6C-522E1DE3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777A-5794-4F2B-A51C-F8A3B801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031E-448C-4273-A91F-10418534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3A54-752D-471A-8FCC-4BCE1BC1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1B5C-E46D-4C17-AEAC-99500F54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F219-F67B-475E-866C-476DEB07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D48-92C6-4CC5-B4F0-CC7DAE35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2399-D7D4-4496-A265-0B53AE81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1215-7C82-48CB-89B0-96460098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4C5F-8751-4891-9E26-EC90353E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5D77-E0EE-4AEE-A699-F5C21969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F7BA-5A20-41E1-99D2-5B928878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8130-B6FF-42C6-A431-464997EE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BF73-705D-4A70-868A-088A8772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9DEB-3EBC-4D10-AA82-B789D341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D47A-E825-4C20-B124-61D910FA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1391-4C70-4032-962E-2782A40F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CC6-B863-4F90-BD82-DA2484D6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8D44-4F31-424D-A5FC-98CC3E4C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067D-35D7-42AF-9D15-6510E75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BA4F-649E-499D-9717-F49B16F0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AD03-4E33-4CC4-9D18-41EFB28E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B69F9-0716-4074-AAF9-1ACF9E4F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CAC0-6641-4EB3-9A96-63BA8247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37A4-9DC4-4ADE-818D-58B5C12E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EF851-4515-4458-98B4-BE6E238C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11F4-C4BC-408B-B46E-0EF9C698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2F6B-2537-453A-A524-83DB5C1E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A18-7B4D-43A9-826E-F7AE4069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703F0-1105-439D-B37F-45B9AE68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229D-96D2-444D-91B2-E8E4340F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ABBC8-BCAA-441C-99D2-C40F314C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212D-41F6-401E-B82C-01450671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BCE0-5E74-4BE2-8D88-613EE6A1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ED7C-9355-4924-897D-7603FFE0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3C2EE-07BF-4AEC-B551-161A7148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FD0AA-FADD-439D-8852-716A4C68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16FD-D5CD-4FCA-B321-D433CF9B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95C-512D-414C-96E5-3D8B10DB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043-8749-4BB1-966B-40DD2484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49D-0CC5-4449-9E38-6A6A937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58F-8016-4835-A704-3A3F481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126-1F72-4937-8CBB-01E9BADD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9C27-3047-4103-B8A1-7836179FA6F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B54-2545-44BC-A6FE-F0236819D79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6E4A-CA97-45CD-84E2-5A0278D9EFD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FF9E-B6A9-4DD6-B57F-D2386B9D7E8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384120" y="1255680"/>
            <a:ext cx="858852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Pedro Lei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pjsl@cin.ufpe.b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openal_c.png"/>
          <p:cNvPicPr/>
          <p:nvPr/>
        </p:nvPicPr>
        <p:blipFill>
          <a:blip r:embed="rId2"/>
          <a:stretch/>
        </p:blipFill>
        <p:spPr>
          <a:xfrm>
            <a:off x="428760" y="3786120"/>
            <a:ext cx="4857480" cy="263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Buffers - Cria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dem ser criados e deletados dinamica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void alGenBuffers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ALsizei n, ALuint* buffers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void alDeleteBuffers(ALsizei n,const ALuint* buffers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ão referenciados pelo nome gerado na função alGenBuff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ormatos inclue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Mono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tereo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com 8 ou 16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b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_FORMAT_MONO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_FORMAT_MONO1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_FORMAT_STEREO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_FORMAT_STEREO1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Buffers - Est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UNU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Não está incluído em nenhuma fila para nenhu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nome d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buffer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pode ser deletado neste est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ROCES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tá na fila de pelo menos algu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áudio já foi consumi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E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tá na fila de pelo menos algu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áudio ainda não foi totalmente consumi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Listen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ntidade </a:t>
            </a:r>
            <a:r>
              <a:rPr b="1" lang="pt-BR" sz="2600" spc="-1" strike="noStrike">
                <a:solidFill>
                  <a:srgbClr val="000000"/>
                </a:solidFill>
                <a:latin typeface="Constantia"/>
              </a:rPr>
              <a:t>estática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que percebe o s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penAL define somente u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por contex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Não possui n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Listener - Proprie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Posiçã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v(AL_POSITION, listener_positio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Velocidad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ão atualiza a posição d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com o temp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v(AL_VELOCITY, listener_velocity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Ganh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Define um multiplicador de amplitude escal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(AL_GAIN, listener_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(AL_MIN_GAIN, listener_min_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(AL_MAX_GAIN, listener_max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Orientaçã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Dois vetores: direção (“at”) e normal (“up”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v(AL_ORIENTATION, listener_orientatio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ontes sonor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penAL permite a criação de vários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ssuem u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buffer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de dados associ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om a ser emitido pel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finem um som localizado e um conjunto de atributos a serem aplicados ao som, em sua orig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rimeiro estágio de processamento no caminho a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listen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 - Proprie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Posiçã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v(AL_POSITION, source_positio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Velocidad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ão atualiza a posição d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com o temp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v(AL_VELOCITY, source_velocity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Ganh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Define um multiplicador de amplitude escal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(AL_GAIN, source_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(AL_MIN_GAIN, source_min_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(AL_MAX_GAIN, source_max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Pit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orcentagem da freqüência do áudio a ser utiliza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(AL_PITCH, source_pitch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 - Proprie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sicionam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m relação a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ou glob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urcei(AL_SOURCE_RELATIVE,  source_relative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Tipo da fonte pode ser </a:t>
            </a:r>
            <a:r>
              <a:rPr b="1" lang="pt-BR" sz="2400" spc="-1" strike="noStrike">
                <a:solidFill>
                  <a:srgbClr val="000000"/>
                </a:solidFill>
                <a:latin typeface="Constantia"/>
              </a:rPr>
              <a:t>estática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pt-BR" sz="2400" spc="-1" strike="noStrike">
                <a:solidFill>
                  <a:srgbClr val="000000"/>
                </a:solidFill>
                <a:latin typeface="Constantia"/>
              </a:rPr>
              <a:t>streaming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ou indetermin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Loop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Indica se 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deve estar ou não e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lSourcei(AL_LOOPING,  source_loop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 - Proprie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efine ângulo interno, externo e o ganho do exter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urcef(AL_CONE_INNER_ANGLE,  angle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urcef(AL_CONE_OUTER_ANGLE,  angle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urcef(AL_CONE_OUTER_GAIN,  value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cones.gif"/>
          <p:cNvPicPr/>
          <p:nvPr/>
        </p:nvPicPr>
        <p:blipFill>
          <a:blip r:embed="rId1"/>
          <a:stretch/>
        </p:blipFill>
        <p:spPr>
          <a:xfrm>
            <a:off x="2471760" y="4386240"/>
            <a:ext cx="3957480" cy="22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 - Cria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dem ser criados sob demanda da aplicaçã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void alGenSources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ALsizei n, ALuint* buffers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void alDeleteSources(ALsizei n,const ALuint* buffers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ados podem ser atribuídos a u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estatica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urcei(source_id, AL_BUFFER, buffer_na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ources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podem ser do tipo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tream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lSourceQueueBuff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lSourceUnqueueBuff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 - Est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INITI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ndo 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é criado ou quando a função alSourceRewind  foi devidamente chama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óximos estados: AL_PLAY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PLAY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source 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está tocando o conteúdo d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buffer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associado a ele (estaticamente ou por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streaming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) através da função alSourcePla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óximos estados: AL_PAUSED, AL_INITIAL, AL_STOPP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PAUS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foi pausado através da função alSourcePau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óximos estados: AL_INITIAL, AL_STOPPED, AL_PLAY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STOPP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foi parado através da função alSourceSto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óximos estados: AL_INIT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ntroduçã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Buff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Liste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odelos de Distâ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m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nclusã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Referên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penAL possui diferentes modelos de distâ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Ganho de cada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é atenuado pela distâ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finido pelo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bit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AL_DISTANCE_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Bits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AL_REFERENCE_DISTANCE e AL_ROLLOFF_FACTOR influem diretamente no modelo escolh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L_REFERENCE_DISTANCE é a distância máxima d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no qual 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possui ganh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N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enhum modelo associ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INVERSE_DIST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Ganho inversamente proporcional à distânc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INVERSE_DISTANCE_CLAMP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ão permite ganho maior que 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857160" y="3286080"/>
            <a:ext cx="7496280" cy="104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857160" y="5172120"/>
            <a:ext cx="7715520" cy="154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LINEAR_DIST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Ganho calculado através de uma função line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LINEAR_DISTANCE_CLAMP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ão permite ganho maior que 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857160" y="2633760"/>
            <a:ext cx="7844040" cy="1357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785880" y="4910040"/>
            <a:ext cx="7829640" cy="166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L_EXPONENCIAL_DIST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ganho calculado através de uma função exponenc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L_EXPONENCIAL_DISTANCE_CLAMP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Não permite ganho maior que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671480" y="3019320"/>
            <a:ext cx="5801040" cy="819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1643040" y="4929120"/>
            <a:ext cx="6429240" cy="142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3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Static Source, Looping &amp; Fadeaway, Multiple Sources, Sharing Buffers, Stream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Picture 5" descr="openal_c.png"/>
          <p:cNvPicPr/>
          <p:nvPr/>
        </p:nvPicPr>
        <p:blipFill>
          <a:blip r:embed="rId2"/>
          <a:stretch/>
        </p:blipFill>
        <p:spPr>
          <a:xfrm>
            <a:off x="3643200" y="3786120"/>
            <a:ext cx="4857840" cy="263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clus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ntos fo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Multiplatafor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ódigo fonte aber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Grandes empresas e projetos utilizan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Fácil utilização no desenvolvim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ntos fra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Versão no Linux ainda está na 0.0.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omente uma empresa fornece aceleração e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eferênc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penAL 1.1 Specif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ttp://www.openal.org/documentation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reative La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ttp://developer.creative.com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Wikip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ttp://en.wikipedia.org/wiki/Ope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penAL é uma API multiplataforma para áudio 3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bjetivo de situar fontes de áudio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ources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 num espaço tridimensional, em volta de um ouvinte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ódigo fonte aber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senvolvida em 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Utiliza a notação de OpenGL para descrever comandos e argum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glBegin, glEnd, glIsEnable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lBuffer, alSource, alListener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reative Labs suporta OpenAL em seu hardw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ngines que utiliz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oom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Jedi Knight e Jedi Knight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Jedi Academ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Quake 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3" descr="Creative_logo.png"/>
          <p:cNvPicPr/>
          <p:nvPr/>
        </p:nvPicPr>
        <p:blipFill>
          <a:blip r:embed="rId1"/>
          <a:stretch/>
        </p:blipFill>
        <p:spPr>
          <a:xfrm>
            <a:off x="1428840" y="2357280"/>
            <a:ext cx="6143400" cy="1389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ossui tipos primitivos bem defini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boolean, ALchar, ALbyte, etc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etecta algumas condições que podem levar a err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GetErr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Implementa efeito Dopp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Sources,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e o próprio som possuem uma velocidade associad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DopplerFact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iferentes modelos de distâ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LINEAR_DIST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INVERSE_DIST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EXPONENCIAL_DIST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penAL fornece uma máquina de estados si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GetBooleanv, alGetIntegerv, alGetFloatv, alGetDoublev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GetBoolean, alGetInteger, alGetFloat, alGetDoub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Tempo e freqüê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Métrica padrão definida em segundos e Hertz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paço e distâ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Nenhuma métrica definid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 critério do desenvolved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ssim como OpenG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penAL 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forne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m mecanismo para extensõ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Cada vendendor pode prover extensões diferentes em suas placas de so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460520" y="1935000"/>
            <a:ext cx="622296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Buff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ncapsula os dados do á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Buffers em OpenAL possuem dados de áudio no formato PC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Utiliza 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byte order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nativo do processad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Constantia"/>
              </a:rPr>
              <a:t>Big endi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Constantia"/>
              </a:rPr>
              <a:t>Little endi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dem ser compartilhados em vários contex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dem ser referenciados por vários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Buffers - Proprie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Freqüê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Samples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por segundo (Hertz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FREQUENC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Tamanh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Quantidade de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byt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SIZ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Quantidade de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bits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por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samp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BI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ana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Quantidade de canais para os dados contidos no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CHANNE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2:59:58Z</dcterms:created>
  <dc:creator>Pedro Leite</dc:creator>
  <dc:description/>
  <dc:language>en-US</dc:language>
  <cp:lastModifiedBy>Pedro Leite</cp:lastModifiedBy>
  <dcterms:modified xsi:type="dcterms:W3CDTF">2007-08-09T11:51:05Z</dcterms:modified>
  <cp:revision>172</cp:revision>
  <dc:subject/>
  <dc:title>OpenAL – Uma Biblioteca para Som 3D</dc:title>
</cp:coreProperties>
</file>