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0C0-705D-4856-AA44-D8A21001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C9C-6B06-41A5-A93B-C2A67FA2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C36-840F-4C6D-9805-FE1328C4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1E1-14CA-4F11-A949-F9005BAA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E6D-3A56-467A-A71D-F2BDE68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1BD-B111-454D-B698-7CEA15C9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48E-1A2F-4A2B-945A-6ACD8D6F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E58-B648-4016-A7CF-5CD09156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89E-A5C4-428C-B0F7-7EDD6AB1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B39-A44E-4B61-BE1E-1040A17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9D0-FB1D-4DC9-A586-33F774A3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5B4-629F-42F0-ABF3-12E9FB0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70F9-F404-4001-BAD6-E2A21CFD7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va 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 que é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va Sound Eng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lasses importan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xemplo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Diagrama de Class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Comic Sans MS"/>
              </a:rPr>
              <a:t>http://falkhausen.com/en/diagram/spec/javax.sound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ne(1/2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21840" y="1731960"/>
            <a:ext cx="85503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Representa um caminho por onde o som flu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ip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Cli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trada de áudio se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strea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SourceData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trada de áudio co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strea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trada ou saída de dispositivo (microfone, alto-falante etc.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TargetData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aída de áudio co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strea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Mix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ne(2/2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uncionalid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ontroles (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control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volume, panorama,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reverb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tatu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bert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echad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berto, aloca recursos exclusivam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echado, lib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ven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via os eventos para os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listener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cadastrad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ubinterfaces introduzem mais even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udio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Agrupa métodos estáticos para alocar os principais recursos do siste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Mixers, Lines, AudioInputStreams, conversores de formato etc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almente, a requisição do recurso é feita através da </a:t>
            </a: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inner class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ourier New"/>
              </a:rPr>
              <a:t>Info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do mesmo recurs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tatic Mixer getMixer(Mixer.Info info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tatic Line getLine(Line.Info info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udioInput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35240" y="2154240"/>
            <a:ext cx="8550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InputStrea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crescido de </a:t>
            </a: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Audio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ormato de áudio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amanho do segmento de dados (em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frame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osicão atual (em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frame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amanho do frame (em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yte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Gravação a partir do Microf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assaBaixa de n estági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xempl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cum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Java Med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Tahoma"/>
              </a:rPr>
              <a:t>http://java.sun.com/products/java-media/sound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P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Tahoma"/>
              </a:rPr>
              <a:t>http://java.sun.com/products/java-media/sound/doc-sampled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Guia do Programa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Tahoma"/>
              </a:rPr>
              <a:t>http://java.sun.com/j2se/1.4.1/docs/guide/sound/programmer_guide/contents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Java Sound Resour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Tahoma"/>
              </a:rPr>
              <a:t>http://www.jsresources.or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que é? (1/3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8200" y="2095200"/>
            <a:ext cx="85518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I Java para manipular sons (áudio e MID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ponível a partir do jdk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pac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javax.sound.sampl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captura, mixagem e reprodução de áudi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javax.sound.mid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íntese, sequenciamento, transporte de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ervice provider interfa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implementação de serviços adicionais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lug-i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javax.sound.sampled.sp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p3, conversão de forma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javax.sound.midi.sp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ntetizadores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oundban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que é? (2/3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nipulação de áudio em baixo ní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Outras APIs consideradas alto-nível (</a:t>
            </a: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Java Media Framework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xecução, controle e sincronização de múltiplas mídias (</a:t>
            </a:r>
            <a:r>
              <a:rPr b="0" i="1" lang="en-US" sz="2700" spc="-1" strike="noStrike">
                <a:solidFill>
                  <a:srgbClr val="ffffff"/>
                </a:solidFill>
                <a:latin typeface="Verdana"/>
              </a:rPr>
              <a:t>time-based media: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vídeo, sons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oco no transporte de dado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mo mover bytes de dados formatados (áudio) para/de uma aplicaçã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cesso aos dispositivos de áudio do PC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que é? (3/3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ahoma"/>
              </a:rPr>
              <a:t>Audio Engin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formato: aiff, au e wav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anais: mono ou estére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axa de amostragem: 8 a 48 kH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resolução: 8 ou 16 bi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dificação: linear, a-law ou 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µ-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la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mixer de 64 canais de áudio digital ou midi em softwa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mpled audi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(Áudio digital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aptura de áudi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ispositivos de entrada (microfones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ixagem e reproduçã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ontro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juste de volume, reverberação, etc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onversores de formato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tatus e notificaçõ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recebimento de eventos relacionados à reproduçã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quite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09720" y="2127240"/>
            <a:ext cx="8170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incipais 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ransporte de dado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trada/Aplicação, Aplicação/Saíd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ara executar/capturar um som é necessário, no mínim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ado format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U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mixer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U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line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(meio de transporte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nipulação do áudio digital com ou se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buff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dos Forma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2840" y="1252440"/>
            <a:ext cx="8551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istinção entre formato de dados e formato de arquiv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Audio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écnica da codificação (normalmente PC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canais (1-mono, 2-estéreo ...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xa de amostr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lução da amostr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xa d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manho do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udioFile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po do arquivo (WAVE, AIFF ...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manho do arquivo em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manho, em frames, dos dados contidos no arqu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to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udio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ix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71440" y="2084400"/>
            <a:ext cx="55944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capsula dispositivos que manipulam á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laca de som, sintetizador exte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bstração de uma mesa de mix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s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+ entradas de á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+ saídas de á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es de volume, reverberação e panorama de conjuntos de 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étodos de sincronização das 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50000" y="2844720"/>
            <a:ext cx="40878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arcio</cp:lastModifiedBy>
  <dcterms:modified xsi:type="dcterms:W3CDTF">2009-04-13T19:39:28Z</dcterms:modified>
  <cp:revision>25</cp:revision>
  <dc:subject/>
  <dc:title>PowerPoint Presentation</dc:title>
</cp:coreProperties>
</file>