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Click to edit the outline text format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60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econd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Third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3" marL="16002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Four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4" marL="20574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Fif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ix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even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78040"/>
            <a:ext cx="9144000" cy="0"/>
          </a:xfrm>
          <a:prstGeom prst="line">
            <a:avLst/>
          </a:prstGeom>
          <a:ln w="9360">
            <a:solidFill>
              <a:srgbClr val="00c8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98520" y="56386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0bbd0"/>
                </a:solidFill>
                <a:latin typeface="Arial MT Black"/>
              </a:rPr>
              <a:t>java sound ap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915400" y="3429000"/>
            <a:ext cx="457200" cy="2362320"/>
            <a:chOff x="8915400" y="3429000"/>
            <a:chExt cx="457200" cy="2362320"/>
          </a:xfrm>
        </p:grpSpPr>
        <p:sp>
          <p:nvSpPr>
            <p:cNvPr id="4" name=""/>
            <p:cNvSpPr/>
            <p:nvPr/>
          </p:nvSpPr>
          <p:spPr>
            <a:xfrm>
              <a:off x="8915400" y="5153040"/>
              <a:ext cx="457200" cy="63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915400" y="3429000"/>
              <a:ext cx="457200" cy="63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15400" y="3683880"/>
              <a:ext cx="228600" cy="172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-266760" y="5724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060b0"/>
                </a:solidFill>
                <a:latin typeface="Futura Lt BT"/>
              </a:rPr>
              <a:t>S L I D E</a:t>
            </a:r>
            <a:r>
              <a:rPr b="1" lang="en-US" sz="1800" spc="-1" strike="noStrike">
                <a:solidFill>
                  <a:srgbClr val="1060b0"/>
                </a:solidFill>
                <a:latin typeface="Futura Lt BT"/>
              </a:rPr>
              <a:t> </a:t>
            </a:r>
            <a:fld id="{F3C7C081-9270-4BE2-9D2D-3849527D5744}" type="slidenum">
              <a:rPr b="1" lang="en-US" sz="1000" spc="-1" strike="noStrike">
                <a:solidFill>
                  <a:srgbClr val="1060b0"/>
                </a:solidFill>
                <a:latin typeface="Futura Lt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81760" y="6545160"/>
            <a:ext cx="301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060b0"/>
                </a:solidFill>
                <a:latin typeface="Futura Lt BT"/>
              </a:rPr>
              <a:t>©2000 Fábio Buchmann, Saulo Arau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81840"/>
            <a:ext cx="990720" cy="9360"/>
          </a:xfrm>
          <a:prstGeom prst="rect">
            <a:avLst/>
          </a:prstGeom>
          <a:gradFill rotWithShape="0">
            <a:gsLst>
              <a:gs pos="0">
                <a:srgbClr val="10b0cf"/>
              </a:gs>
              <a:gs pos="100000">
                <a:srgbClr val="00c8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93720" y="6553080"/>
            <a:ext cx="8450280" cy="9720"/>
          </a:xfrm>
          <a:prstGeom prst="rect">
            <a:avLst/>
          </a:prstGeom>
          <a:gradFill rotWithShape="0">
            <a:gsLst>
              <a:gs pos="0">
                <a:srgbClr val="00c8df"/>
              </a:gs>
              <a:gs pos="100000">
                <a:srgbClr val="10b0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API 1.0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8380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0bbd0"/>
                </a:solidFill>
                <a:latin typeface="Arial MT Black"/>
              </a:rPr>
              <a:t>java sound ap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áudio digital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aptura de áudi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aptura através de dispositivos de entrada [microfones, ...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xagem e reproduçã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ixagem e reprodução à partir de vários disposit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ntrole e codec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juste de volume, reverberação, etc. a aplicação de conversões entre format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tatus e notificaçõe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recebimento de eventos relacionados à reproduçã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anipulação do áudio digital com ou sem buffer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Format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: distinção de </a:t>
            </a:r>
            <a:r>
              <a:rPr b="0" lang="pt-BR" sz="2400" spc="-1" strike="noStrike" u="sng">
                <a:solidFill>
                  <a:srgbClr val="1060b0"/>
                </a:solidFill>
                <a:uFillTx/>
                <a:latin typeface="Arial MT Black"/>
              </a:rPr>
              <a:t>formato de dados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 e </a:t>
            </a:r>
            <a:r>
              <a:rPr b="0" lang="pt-BR" sz="2400" spc="-1" strike="noStrike" u="sng">
                <a:solidFill>
                  <a:srgbClr val="1060b0"/>
                </a:solidFill>
                <a:uFillTx/>
                <a:latin typeface="Arial MT Black"/>
              </a:rPr>
              <a:t>formato de arquiv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formato de dados: objeto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écnica da codificação [normalmente PCM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Número de canais [1-mono, 2-estéreo ...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xa de amostragem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Resolução da amostragem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xa de Fram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 do Frame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formato de arquivo: objeto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udioFileForma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ipo do arquivo [WAVE, AIFF ...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 do arquivo em byt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, em frames, dos dados contidos no arquivo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Objeto AudioFormat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Mixer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um mixer contém uma ou mais linhas de entrada e uma de saíd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3581280"/>
          <a:ext cx="7772400" cy="16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772400" cy="166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Lin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lemento do pipeline de áudio digital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ortas de entrada e saída nos mixers são Lines.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nálogo a microfones e caixas de som ligadas fisicamente a uma mesa de som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geração de eventos associados ao início e fim da reprodução, alteração nos controles, etc.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Lin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ropriedade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Audio Format - associado ao stream de dad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Media Position - frames processad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Buffer Size - buffer interno em byt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Level - amplitude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Active Status - em ação?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Start/Stop, Pause/Resume reprodução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Flush - descarta processamento anterior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vent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hierarquia de interface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324160"/>
            <a:ext cx="853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276720"/>
            <a:ext cx="1006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276720"/>
            <a:ext cx="990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3276720"/>
            <a:ext cx="114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4360" y="4952880"/>
            <a:ext cx="1692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urce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952880"/>
            <a:ext cx="1692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rget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4952880"/>
            <a:ext cx="1692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1" idx="2"/>
            <a:endCxn id="82" idx="0"/>
          </p:cNvCxnSpPr>
          <p:nvPr/>
        </p:nvCxnSpPr>
        <p:spPr>
          <a:xfrm rot="5400000">
            <a:off x="2790000" y="1982520"/>
            <a:ext cx="60732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1" idx="2"/>
            <a:endCxn id="83" idx="0"/>
          </p:cNvCxnSpPr>
          <p:nvPr/>
        </p:nvCxnSpPr>
        <p:spPr>
          <a:xfrm rot="5400000">
            <a:off x="3624480" y="2817000"/>
            <a:ext cx="607320" cy="313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1" idx="2"/>
            <a:endCxn id="84" idx="0"/>
          </p:cNvCxnSpPr>
          <p:nvPr/>
        </p:nvCxnSpPr>
        <p:spPr>
          <a:xfrm flipH="1" rot="16200000">
            <a:off x="4652640" y="2100600"/>
            <a:ext cx="607320" cy="174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4" idx="2"/>
            <a:endCxn id="85" idx="0"/>
          </p:cNvCxnSpPr>
          <p:nvPr/>
        </p:nvCxnSpPr>
        <p:spPr>
          <a:xfrm rot="5400000">
            <a:off x="3464280" y="2588040"/>
            <a:ext cx="1330920" cy="339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4" idx="2"/>
            <a:endCxn id="86" idx="0"/>
          </p:cNvCxnSpPr>
          <p:nvPr/>
        </p:nvCxnSpPr>
        <p:spPr>
          <a:xfrm rot="5400000">
            <a:off x="4424760" y="3548520"/>
            <a:ext cx="1330920" cy="147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4" idx="2"/>
            <a:endCxn id="87" idx="0"/>
          </p:cNvCxnSpPr>
          <p:nvPr/>
        </p:nvCxnSpPr>
        <p:spPr>
          <a:xfrm flipH="1" rot="16200000">
            <a:off x="5377680" y="4073760"/>
            <a:ext cx="1330920" cy="427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obtendo os recursos do sistema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8458200" cy="4474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0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.Info[] descricoesDosMixers = AudioSystem.getMixerInf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 mix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ine.Info[] descricoesDasLinhasDe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i = 0; i &lt; descricoesDosMixers.length; ++i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ome: " + descricoesDosMixers[i].getName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Versão: " + descricoesDosMixers[i].getVersion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Descrição: " + descricoesDosMixers[i].getDescription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Vendedor: " + descricoesDosMixers[i].getVendor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 = AudioSystem.getMixer(descricoesDosMixers[i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oesDasLinhasDeEntrada = mixer.getSourceLineInf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j = 0; j &lt; descricoesDasLinhasDeEntrada.length; ++j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descricoesDasLinhasDeEntrada[j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geração de áudio: onda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871640"/>
            <a:ext cx="8458200" cy="4291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1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ile arquiv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InputStream entrada = nu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Format format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ataLine.Info descrica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 cli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rquivo = new File("teste.wav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 = AudioSystem.getAudioInputStream(arquiv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matoDaEntrada = entrada.getForma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aoDaEntrada = new DataLine.Info(Clip.class, 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Continua na próxima transpa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geração de áudio: onda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AudioSystem.isLineSupported(descricaoDaEntrada) == fals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é possível reproduzir arquivos deste tipo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 = (Clip) AudioSystem.getLine(descrica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.open(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.loop(Clip.LOOP_CONTINUOUSL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UnsupportedAudioFi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Line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entrada !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clos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Suporte a Som do JDK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1.0 e 1.1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5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getAudioClip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da classe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pplet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5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play()</a:t>
            </a: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,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loop()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top() 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 da classe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udioClip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som de qualidade telefônica (.au, 8-bit, 8-kHz)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1.2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 estático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ewAudioClip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incorporado a classe Apple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incorporação do Java Sound Engine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áudio: arquivo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871640"/>
            <a:ext cx="8458200" cy="4291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2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TAXA_DE_AMOSTRAGEM = 2205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RESOLUCAO =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MONOFONICO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FREQUENCIA = 4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Format format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ataLine.Info descrica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ourceDataLine 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yte[] amostr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matoDaEntrada = new AudioFormat(TAXA_DE_AMOSTRAGEM, RESOLUCAO, MONOFONICO, false, 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aoDaEntrada = new DataLine.Info(SourceDataLine.class, 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áudio: arquivo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57240"/>
            <a:ext cx="8458200" cy="483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AudioSystem.isLineSupported(descricaoDaEntrada) == fals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é possível reproduzir arquivos deste tipo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 = (SourceDataLine) AudioSystem.getLine(descrica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open(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mostra = new byte[TAXA_DE_AMOSTRAGEM / FREQUENCIA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i = 0; i &lt; amostra.length; ++i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mostra[i] = (byte) (255 * i / amostra.lengt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star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; ;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write(amostra, 0, amostra.lengt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Line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suporte a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ensagens 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oca de mensagens [note on, note off, etc.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enciament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atar sequência MIDI, iniciar e parar reprodução, ajuste de temp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íntes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simulação de instrumentos e geração de som à partir de dado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representação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ensagens MIDI[MidiMessage]: representa uma mensagem MIDI ‘raw’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hortMessages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ysexMessages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etaMessage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ências e track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idiEvent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Mensagem MIDI + TimeStamp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rack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coleção de MidiEvent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quence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coleção de Track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dispositivos: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idiDevice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interface implementada por quem transmite e recebe 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representação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transmissores e receptores: interfaces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ransmitt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 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Receive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enciadores: interfac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quenc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captura e reprodução de eventos MIDI. Gera eventos ao processar mensagens MIDI.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intetizadores: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ynthesiz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único objeto no pacote que produz dados de áudio digital.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arquivo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midi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3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ile arquiv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e sequenc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er sequenciad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rquivo = new File("teste.mid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 = MidiSystem.getSequence(arquiv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 = MidiSystem.getSequenc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sequenciador =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foi possível obter o sequenciado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ope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setSequence(sequenci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star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arquivo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836720"/>
            <a:ext cx="8458200" cy="1736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validMidiData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Midi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mensagem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midi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4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CANAL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DO = 6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VELOCIDADE = 9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nthesizer sintetizad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Receiver sai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hortMessage mensag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intetizador = MidiSystem.getSynthesiz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sintetizador.isOpen() == tru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foi possível obter o sintetizado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intetizador.ope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 = sintetizador.getReceiv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mensagem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87480"/>
            <a:ext cx="8458200" cy="3926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 = new ShortMessag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.setMessage(ShortMessage.NOTE_ON, CANAL, DO, VELOCIDAD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.send(mensagem, 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hread.sleep(2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.setMessage(ShortMessage.NOTE_OFF, CANAL, DO,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.send(mensagem, 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Midi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validMidiData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llegalStat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terrupted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utilitário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i/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leitura e escrita de tipo de arquivos mais comuns [WAV, AIFF, MIDI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nfiguraçã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query ao sistema à respeito de componentes e dispositivos; instalação e remoção de codecs, analisadores de arquivo, e disposit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Engine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"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We wanted a very high quality playback engine handling everything from eight bit µ-law up to CD quality sound. We wanted portability across platforms such as the Solaris</a:t>
            </a:r>
            <a:r>
              <a:rPr b="0" i="1" lang="pt-BR" sz="2000" spc="-1" strike="noStrike" baseline="30000">
                <a:solidFill>
                  <a:srgbClr val="1060b0"/>
                </a:solidFill>
                <a:latin typeface="Arial MT Black"/>
              </a:rPr>
              <a:t>TM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 platform, Windows, Mac and others. We also wanted a highly developed MIDI capability across the various platforms. Using those criteria, the logical choice was the Beatnik Audio Engine (formerly Headspace.)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”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 algn="r">
              <a:spcBef>
                <a:spcPts val="499"/>
              </a:spcBef>
              <a:spcAft>
                <a:spcPts val="499"/>
              </a:spcAft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Michael Bundschuh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Java Media manage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perguntas?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por quê Java Sound usa código nativ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mo se relaciona com Java Media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quando ocorrerá(eu) o lançament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uporte a: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browsers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P3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ntrada MIDI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áudio de qualidade profissional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lataformas adicionais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Engine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.aiff, au e .wav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.mid tipos 0 e 1 e rmf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resolução de 8 ou 16 bits, mono ou estéreo, variando de 8 a 48 kHz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dificação linear, a-law ou 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µ-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law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íntese midi por wavetable em softwar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xer de 64 canais de áudio digital ou midi em softwar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Porque a Java Sound API?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ajustar o volume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aber que o som está sendo tocad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gerar arquivos de 1 Gb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fazer streaming e tocar conteúdo gerado dinamicamente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gravar som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áudio digita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onsultar a configuração do sistem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locar recurs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apturar e reproduzi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rocessar áudi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anipular e converter arqu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32640" indent="-33264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onsultar a configuração do sistem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locar recurs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ansmitir e receber evento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gravar, manipular e reproduzir seqüência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Público da Java Sound AP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desenvolvedores de aplicaçõe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provedores de serviço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implementadores da AP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media AP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ound (baixo nível) - JDK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Media Framework (alto nível)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3D (alto nível)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2D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peech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Advanced Imaging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hared Data Toolkit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Telephony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estrutura da AP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dois pacotes distintos: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x.media.sound.sampled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Captura, mixagem, e reprodução de áudio digital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x.media.sound.midi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Síntese MIDI, sequenciamento, e transporte de event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30T23:33:00Z</dcterms:created>
  <dc:creator>CESAR</dc:creator>
  <dc:description/>
  <dc:language>en-US</dc:language>
  <cp:lastModifiedBy>Saulo Medeiros de Araujo</cp:lastModifiedBy>
  <dcterms:modified xsi:type="dcterms:W3CDTF">2000-05-12T12:22:27Z</dcterms:modified>
  <cp:revision>153</cp:revision>
  <dc:subject/>
  <dc:title>JavaSound</dc:title>
</cp:coreProperties>
</file>