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4FB-9364-41D3-A024-47003E9F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F52-4C4F-4C01-9796-F346A8E1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211-0596-473B-8AA0-887D24F3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E33-C2F5-45CB-BC32-BB4CB384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BB6-0F81-479C-A97B-BC28FF6A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9F72-C6E7-4ABA-BF12-724FBE56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0B4-EE40-4207-B411-57A94E6B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3938-415A-4C55-A849-370BED0E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198-89E8-4EF9-AF1B-F20B2519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3909-1AC9-4080-AA93-55E3B186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35AF-0C92-46CD-A378-04139F0A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FE5-F769-4973-A69E-A6BB753E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c23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800F8-8278-4CB7-8623-E5AA67A0AE9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1223640"/>
            <a:ext cx="90709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Novas Interfaces e </a:t>
            </a:r>
            <a:br>
              <a:rPr sz="4400"/>
            </a:b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Formas de Interação Musicais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4140360"/>
            <a:ext cx="9070920" cy="261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iordano Cab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250560"/>
            <a:ext cx="90709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Harmonização Automática em Tempo Real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76240" y="1658880"/>
            <a:ext cx="8123400" cy="1941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019240" y="4140360"/>
            <a:ext cx="6800760" cy="2639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Requisitos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ajustar à melo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nter coerência com o que já foi to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r capacidade de pred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Corpus de Aprendizado / Teste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ongbooks de Bossa Nova da Lumiar (A. Chedi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lodias e Harmonias sincron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00000" y="2793960"/>
            <a:ext cx="7920000" cy="1344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Análise Harmônica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79640" y="1800360"/>
            <a:ext cx="8021520" cy="5000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3 Abordagens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imilaridade Acú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ery By Hu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inu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O que é Similaridade Acústica?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iolão “coerente” com ca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ordes “consonant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40000" y="2340000"/>
            <a:ext cx="7920000" cy="2014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619280" y="5102280"/>
            <a:ext cx="5580000" cy="1738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Consonância = Beleza?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76004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critor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onâ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320" y="1584360"/>
            <a:ext cx="4952880" cy="144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097600" y="1584360"/>
            <a:ext cx="5032080" cy="1440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394160" y="3060720"/>
            <a:ext cx="5326200" cy="2843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01560" y="5611680"/>
            <a:ext cx="6597720" cy="14083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Característica Acústica?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itch Class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hroma(g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591160" y="1403280"/>
            <a:ext cx="4309920" cy="3997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28480" y="4032360"/>
            <a:ext cx="5988240" cy="3135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250560"/>
            <a:ext cx="90709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Diferença entre Espectros como Medida de Similaridade Acústica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84240" y="2103480"/>
            <a:ext cx="8174160" cy="3552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250560"/>
            <a:ext cx="90709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Síntese por Reconcatenação de Segmentos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39680" y="1619280"/>
            <a:ext cx="7780320" cy="6191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1272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Tangible Interfaces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Transformação de Técnicas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altime Musa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ing by Hu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armoniz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32320" y="1800360"/>
            <a:ext cx="4208400" cy="3395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Musaicing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20720" y="1440000"/>
            <a:ext cx="8224920" cy="5773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Matching Indireto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cura os PCP's melódicos mais par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ca os respectivos acompanha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86080" y="3780000"/>
            <a:ext cx="5173920" cy="3184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Query By Humming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46360" y="1800360"/>
            <a:ext cx="6534000" cy="4998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Comping by Humming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-Gramas para encontrar similaridade melódica (simból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crição Meló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00000" y="2728800"/>
            <a:ext cx="8275680" cy="1230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079640" y="5442120"/>
            <a:ext cx="8275320" cy="1217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N-Grams para Comping by Humming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257480"/>
            <a:ext cx="9070920" cy="4898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q1: AAABBAB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q2: AABBABBABA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3520" y="1508040"/>
            <a:ext cx="2733840" cy="3033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9280" y="2340000"/>
            <a:ext cx="6578640" cy="5110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Harmonizator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19280" y="1800360"/>
            <a:ext cx="6902280" cy="4911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250560"/>
            <a:ext cx="90709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Modelo Markoviano para Acompanhamento Automático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979640"/>
            <a:ext cx="9070920" cy="468792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edição/Recupe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uperação/Pred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j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600360" y="3240000"/>
            <a:ext cx="6140520" cy="3057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60360" y="6119640"/>
            <a:ext cx="6089760" cy="1105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Modo Predição / Recuperação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47880" y="2165400"/>
            <a:ext cx="6445080" cy="3654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Modo Recuperação / Predição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979640" y="1619280"/>
            <a:ext cx="6242040" cy="5064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Reactable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Modo Recuperação / Predição (cont.)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28640" y="2038320"/>
            <a:ext cx="8682120" cy="3908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Modo Conjunto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30160" y="1917720"/>
            <a:ext cx="8479080" cy="4149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AudioCubes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Continuator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800000"/>
            <a:ext cx="90709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Harmonização Automática em Tempo Real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4500360"/>
            <a:ext cx="9070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iordano Cab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Situação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89564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ompanhamento de uma melodia improvis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oz e Viol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ossa N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83080" y="1440000"/>
            <a:ext cx="4157640" cy="5481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Categorização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67000" y="1714680"/>
            <a:ext cx="7207200" cy="41623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Harmonização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06480" y="2128680"/>
            <a:ext cx="8326440" cy="3502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1:44:01Z</dcterms:created>
  <dc:creator/>
  <dc:description/>
  <dc:language>en-US</dc:language>
  <cp:lastModifiedBy/>
  <cp:revision>1</cp:revision>
  <dc:subject/>
  <dc:title/>
</cp:coreProperties>
</file>