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89E-1584-4AA2-8F61-B891500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227-C6B3-432B-B7B0-6757803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B5E-316A-45F7-8EFD-FDCC84A6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B0E-C4A7-49E7-BF75-246E6EBE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6948-254D-4A76-B417-BFB67A99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1AC-F902-41DA-B1BA-0417FDA3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99A1-4FAA-4A8F-87B6-AD213E18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2ADB-BF74-422F-98AD-D8A4A4F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6348-CAD8-4981-A7C6-B73160FD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6911-75DA-42F3-B6D0-29C8E06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88E0-1D5F-42B4-81FC-A31E2F2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D3C-9033-492A-A8D3-D87EE825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00B-6061-4704-B095-00F55B1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A490-8711-41A9-807A-1B3AD92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C274-A615-405E-BB95-52DB604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9CB6-8B6D-41F6-B2B4-D643174D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D259-60F2-44F7-AA71-F7578E33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014-A6F8-401C-B289-D9E27194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8C2-2111-447C-9980-51873F4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48E-D27F-4F88-ADDD-E60DBD1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693-8348-498C-A4CB-BD22F34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AA8-DFD3-4FC6-BB27-F9DBCB5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FF4-0AE4-42F6-961B-17D34AD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98C-11C4-410E-B9FF-7B832FA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C56B-C8FF-4394-B2A4-D399FC098FA8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9A9-73E6-47BE-BD90-BECEE9AB1B4E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660066"/>
                </a:solidFill>
                <a:latin typeface="Tahoma"/>
              </a:rPr>
              <a:t>Extração automática de padrõe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0458c"/>
                </a:solidFill>
                <a:latin typeface="Tahoma"/>
              </a:rPr>
              <a:t>Computação Musical e processamento de Som – 02.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5943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Hugo Santana e Márcio Dah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onhecimento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unto a especial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rlos Sandro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alizou um estudo detalhado sobre o samba e sua evolução no Rio de Janeiro. Descreveu padrões rítmicos mais usados nesse estilo, incluindo Bossa-N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Livro de Walter Gar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screve a historia do surgimento do estilo Bossa-Nova e, principalmente, a “batida” criada por João Gilberto. Catalogou padrões mais usados pelo mús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onhecimento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racterísticas importantes para executar um ritmo (avaliação inici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itmo Harmônico (16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Quantidade de acordes que aparecem em um compas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ndamento (2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Velocidade de Execução da mús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drão x Varia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Quando devo sair do “feijão com arroz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ensidade (3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Muitas notas tocadas no acompanha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a vir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Volume (5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as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Base com 12 ca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1 para Bossa-Nova lenta (Sandron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5 para Bossa-Nova rápida (Sandron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3 varia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6 viradas (Nossa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is o Cyber-João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cyber-joao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3059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sultad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elhora sensível p/ o caso an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rém, varias questões ainda ficaram sem respo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a1002"/>
                </a:solidFill>
                <a:latin typeface="Tahoma"/>
              </a:rPr>
              <a:t>Será que cada vez que quisermos um novo estilo de música teremos que ter essa trabalheira toda novament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or que a sensação, em alguns momentos da música, que o sistema “poderia ser melhor” ou que “tem alguma coisa estranha”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erá que em uma música, todos os padrões podem aparecer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sumin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a1002"/>
                </a:solidFill>
                <a:latin typeface="Tahoma"/>
              </a:rPr>
              <a:t>As análises feitas das músicas foram suficientes para os nossos propósit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58c"/>
                </a:solidFill>
                <a:latin typeface="Tahoma"/>
              </a:rPr>
              <a:t>Nada que um bom extrator de padrões não possa resolver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o extrair padrões musicais 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Várias soluções possíve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tilizar os algoritmos feitos para as outras áre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iologia, principalm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entar utilizar o conhecimento musical em nosso fav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rade-Off: Eficiência x Flexibilidad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bordagem estrutu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Agrupar os elementos em primitivas rítmic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Pouco flexí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bordagem FlexP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Bastante flexível com efeiciência aceitá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ordagem FlExPat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Music_Icon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143000" cy="789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948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Armazena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igit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2209680"/>
            <a:ext cx="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200" y="256716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Aquisi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Sequência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escrit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Graf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Equipolê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029200"/>
            <a:ext cx="1600200" cy="609480"/>
          </a:xfrm>
          <a:prstGeom prst="cloudCallout">
            <a:avLst>
              <a:gd name="adj1" fmla="val 10416"/>
              <a:gd name="adj2" fmla="val -167449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Wav, Midi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73392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1600" y="3809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Compar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373392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0040" y="38098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Represent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724280"/>
            <a:ext cx="1828800" cy="990720"/>
          </a:xfrm>
          <a:prstGeom prst="cloudCallout">
            <a:avLst>
              <a:gd name="adj1" fmla="val 33074"/>
              <a:gd name="adj2" fmla="val -104967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Frequência, duração, intensidade..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4191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34240" y="44197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Categoriz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65280" y="4952880"/>
            <a:ext cx="1352520" cy="459720"/>
          </a:xfrm>
          <a:prstGeom prst="rect">
            <a:avLst/>
          </a:prstGeom>
          <a:solidFill>
            <a:srgbClr val="b7c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drõ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638680"/>
            <a:ext cx="3276720" cy="524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09880" y="1676520"/>
            <a:ext cx="1524240" cy="1143000"/>
          </a:xfrm>
          <a:prstGeom prst="can">
            <a:avLst>
              <a:gd name="adj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Banc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ados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Sequênci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81952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Informação Musi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ecanismos já ex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ID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Áudio Digit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blema: A informação neste formato é suficiente para o computador encontrar trechos recorrentes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Representação adequ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presentação Musi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057400" y="1676520"/>
            <a:ext cx="5638680" cy="1239840"/>
          </a:xfrm>
          <a:prstGeom prst="rect">
            <a:avLst/>
          </a:prstGeom>
          <a:ln w="38160">
            <a:solidFill>
              <a:srgbClr val="40458c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18440" y="2971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que é recorrente no trecho acima 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5120" y="3809880"/>
            <a:ext cx="80031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ssíveis representaçõ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uração: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1/8       1/8          1/8          1/8            1/2           1/8       1/8       1/8        1/8         1/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equência: P   Sol   Sol   Sol   Mi(b)   P   Fá   Fá   Fá   R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ervalos: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P    ?      0     0      –4     P    2     0     0   -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572000"/>
            <a:ext cx="32004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4572000"/>
            <a:ext cx="29718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5943600"/>
            <a:ext cx="21337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5943600"/>
            <a:ext cx="19047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presentação (cont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869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514600" y="2590920"/>
            <a:ext cx="2666880" cy="882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94400" y="342900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uração é uma boa representação rítmica 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agmento 1:               ¼     ¼     ¼      ¼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agmento 2:       1/8   ¼      ¼     ¼      ¼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5181480"/>
            <a:ext cx="8056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ssível Representação : </a:t>
            </a: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(Duração, Posição no Compass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o 1:              (¼, 1)      (¼,2)     (¼,3)        (¼,4)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o 2:  (1/8,1)  (¼,1.5)    (¼,2.5)   (¼,3.5)     (¼,4.5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4114800"/>
            <a:ext cx="304812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2743200"/>
            <a:ext cx="1276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27" y="53156"/>
                </a:moveTo>
                <a:lnTo>
                  <a:pt x="-1290" y="4000"/>
                </a:lnTo>
              </a:path>
              <a:path w="21600" h="21600">
                <a:moveTo>
                  <a:pt x="-1290" y="0"/>
                </a:moveTo>
                <a:lnTo>
                  <a:pt x="-1290" y="21600"/>
                </a:lnTo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Trecho idêntico 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que é um padrã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trair padrões é important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tração de padrões music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problema Cyber-Jo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mo extrair padrões musica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bordagem FlExP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idere o seguinte fragmento da música “A babaca da adega”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..E A BABACA DA ADEGA DE ABADA AFAGA A CABECA DA FADA BEBADA E CEGA A FACA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ra encontrar recorrências, é preciso comparar fragmentos da sequê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samento (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Ex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roxim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ção (cont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exa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ó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Eficien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O(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) comparações, onde 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 é o tamanho das sequênci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Suffix-Tree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 podem ser utilizadas (encontra todos padrõ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ntr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Para o exemplo dado, apenas “ADA” é recorr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Tahoma"/>
              </a:rPr>
              <a:t>É suficiente para comparar fragmentos musicais 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roximad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usto de Ediçã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úmero de Inserções, Deleções ou Substituições para transformar uma sequência em out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istância de Edi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Menor custo de edição (ou custo ótimo) entre duas sequênci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istância de Edi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Qual o menor custo para transformar S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= “BABACA” em S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= “ABADA” 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finitas possibilidad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L B A B A C A e INS A B A D 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NS A e DEL B A e SUB C por 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Programação Dinâm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(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[0...N], 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[0...M])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69160" y="6172200"/>
            <a:ext cx="46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-1)], S2[0...(M-1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Sub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1[N], 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2[M]</a:t>
            </a: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55120" y="5791320"/>
            <a:ext cx="32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)], S2[0...(M-1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In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360" y="5410080"/>
            <a:ext cx="31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-1)], S2[0...(M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 De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14600" y="5715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0458c"/>
                </a:solidFill>
                <a:uFillTx/>
                <a:latin typeface="Tahoma"/>
              </a:rPr>
              <a:t>Mínim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864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istância de Edição (Algoritmo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1752480"/>
          <a:ext cx="6096240" cy="4013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781680" y="525780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3600" y="47242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2670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3733920"/>
            <a:ext cx="76176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327672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274320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22096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89080" y="60199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usto Mínimo = 2 (1 Substituição e 1 Deleçã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ndo Sequência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ongeau &amp; Sankoff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roduziram o conceito de Distância de Edição para sequências music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lém de Inserção, Deleção e Substituiçã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ação e Consolid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124080" y="4724280"/>
            <a:ext cx="1857600" cy="949320"/>
          </a:xfrm>
          <a:prstGeom prst="rect">
            <a:avLst/>
          </a:prstGeom>
          <a:ln w="324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ndo Sequência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função </a:t>
            </a:r>
            <a:r>
              <a:rPr b="1" lang="pt-BR" sz="2000" spc="-1" strike="noStrike">
                <a:solidFill>
                  <a:srgbClr val="40458c"/>
                </a:solidFill>
                <a:latin typeface="Tahoma"/>
              </a:rPr>
              <a:t>Sub(X,Y)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assa a trabalhar em mais dimensões (número de atributo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Ex: O custo para substituir a nota i1 com duração j1 pela nota i2 com duração j2 pode ser dada pela distancia euclidiana dos pontos (i1,j1) e (i2,j2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odem ser atribuídos pesos a cada um dos atribut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w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é o peso da característica 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a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x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e 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a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y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- valores da característica f nos casos X e Y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sim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- função primitiva de dissimilaridade para a 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característica 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771640" cy="628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940760" y="40878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b(X,Y) 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Grafo de Equipolênc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déia: Computar similaridade entre todas as subsequências válidas da sequência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ubsequências válidas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 &gt; Nmí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 &lt; Nmá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TamOverlap(S1,S2) &lt; TamOverlapMáxi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so a similaridade entre S1 e S2 for maior que um determinado limiar (ex. 90%), coloca-se uma aresta bidirecional de S1 para S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: Computar as similaridades entre TODAS as subsequências é MUITO ca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olução: Programação Dinâmica novamente para evitar cálculos redunda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Grafo de Equipolênc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DE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FA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BE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EB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E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A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221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DE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FA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BE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EB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E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A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2362320"/>
            <a:ext cx="335268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3200400"/>
            <a:ext cx="335268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962520"/>
            <a:ext cx="350532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52480" y="4038120"/>
            <a:ext cx="342900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752480" y="5257440"/>
            <a:ext cx="33530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81080" y="2362320"/>
            <a:ext cx="327672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828800" y="3276360"/>
            <a:ext cx="3352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257800"/>
            <a:ext cx="3352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ncontrando Categori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: Encontrar grupos de subsequências similares (conectados no graf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 muito difícil (N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ordagem FlExPa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proximação (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Subgrafo estrela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ega-se a subsequência que possui mais ligações (arestas) e a remove do grafo, junto com as subsequências similares. Este grupo removido forma uma categoria (padrã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pete-se o procedimento acima enquanto existirem subsequências no graf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nclusõ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grande poder do FlExPat é a flexibilida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trings, melodias, ritmos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O algoritmo é o mesm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esar de extremamente otimizado, seu custo ainda é muito car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empo: O(N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x T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ahoma"/>
              </a:rPr>
              <a:t>máx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spaço: O(N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x T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ahoma"/>
              </a:rPr>
              <a:t>máx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x. Para encontrar padrões de tamanho máximo 10 em uma sequência de tamanho 1000, é necessário por volta d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Realizar 100.000.000 (cem milhões) de operaçõ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100 MB de memória (na verdade, muito mai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Na prática, no entanto, este tempo é menor (Restrições quanto ao Tmín, OverlapMáximo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O que é um padrã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gundo o Aurél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.</a:t>
            </a: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2. Aquilo que serve de base ou norma para a avaliação de qualidade ou quantidade;...”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... 3. P. ext. Qualquer objeto que serve de modelo à feitura de outro.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Um grupo cujos fragmentos são significantemente similar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rta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Nem toda parte de um todo é um padr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idéia de padrão só existe quando temos repeti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É um conceito referente ao objeto de estu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xtrair padrões é importante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iolog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.g., encontrar seqüências de proteínas que se repetem numa cade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conom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char regularidades em séries temporais como taxa de interesse ou preço de açõ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cuperação de Inform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cuperação Baseada em conteúdo (imagem, canção, vídeo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 em Músic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xtração de padrõe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radigma Wyhiwyg(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what you hum is what you get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cuperar música ou fragmentos de música a partir de solfe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nálise musical assistida por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judar um musicólogo na tarefa de “entender” a música como uma manifestação cons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istemas de Acompanhamento Automát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ugerindo padrões e como descrevê-l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roblema Cyber-João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D´Accord Gui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ftware desenvolvido no CIn para o auxilio do aprendizado do viol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3429000"/>
          <a:ext cx="426744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429000"/>
                    <a:ext cx="42674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457200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roblema Cyber-João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ração automática de ritmo extremamente pobre e geração manual muito trabalh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nseqüência: os usuários do 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player e do editor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icam desestimulado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geração “inteligente” de rit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ifícil solução computac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ificuldade de formalização do conhecimento usado por um executor human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númeras soluções possíve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cisões em tempo re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bordagem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istemas de Acompanhamento Automát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ada uma grade de acordes, gera melodia, ritmo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ormas de implemen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istema baseado em regr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des neurais e/ou algoritmos genét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Raciocício baseado em ca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utilizar/adaptar frases musicais colando-as umas as outr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istema ImPACT (Prof. Geber): baixo em jazz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Hodgson’s: sax em jazz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Band-in-a-box: baixo, bateria e piano em vários estil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bordagem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58c"/>
                </a:solidFill>
                <a:latin typeface="Tahoma"/>
              </a:rPr>
              <a:t>Adaptar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o modelo proposto no ImPA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stru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aixo x Viol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Linha melódica x linha rítm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sti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Jazz x Bossa-N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eqüênc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Novos casos, nova descrição, novas regras para escolha dos casos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9:02:44Z</dcterms:created>
  <dc:creator>mlmd</dc:creator>
  <dc:description/>
  <dc:language>en-US</dc:language>
  <cp:lastModifiedBy>hps</cp:lastModifiedBy>
  <dcterms:modified xsi:type="dcterms:W3CDTF">2002-08-26T16:43:22Z</dcterms:modified>
  <cp:revision>139</cp:revision>
  <dc:subject/>
  <dc:title>Informações Gerais</dc:title>
</cp:coreProperties>
</file>