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F6155-B92E-4707-84C7-0135A00B3B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0880" y="4289400"/>
            <a:ext cx="838224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AE62D-71F4-4100-800D-E2EF62C5BA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4090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6040" y="1980720"/>
            <a:ext cx="4090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0880" y="4289400"/>
            <a:ext cx="4090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6040" y="4289400"/>
            <a:ext cx="4090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2C524-F1E7-4A7F-88F0-72E6C28145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26989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15160" y="1980720"/>
            <a:ext cx="26989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49440" y="1980720"/>
            <a:ext cx="26989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80880" y="4289400"/>
            <a:ext cx="26989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15160" y="4289400"/>
            <a:ext cx="26989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49440" y="4289400"/>
            <a:ext cx="26989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6E9D7-190F-40AD-8FEA-0B243BC3C5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80880" y="198072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9D700-6945-48EB-A01C-85A3163400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4602C-A2D3-4837-B0D1-4E3E5197E6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409032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1980720"/>
            <a:ext cx="409032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39146-8615-4149-8D49-A7557A9446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BE265-DD00-4949-B638-7DD39CA3D6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009800" y="4759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95C75-D607-4818-BAA1-839D88D6AF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4090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040" y="1980720"/>
            <a:ext cx="409032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4289400"/>
            <a:ext cx="4090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B0F55-2D35-4D97-B84C-245F6224D3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409032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040" y="1980720"/>
            <a:ext cx="4090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6040" y="4289400"/>
            <a:ext cx="4090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21789-7580-493B-8632-48AA048903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4090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040" y="1980720"/>
            <a:ext cx="4090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4289400"/>
            <a:ext cx="838224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F4D30-2909-43CD-8D63-D9B3B81C7C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92200" y="476280"/>
            <a:ext cx="7859520" cy="1144440"/>
            <a:chOff x="592200" y="476280"/>
            <a:chExt cx="7859520" cy="1144440"/>
          </a:xfrm>
        </p:grpSpPr>
        <p:sp>
          <p:nvSpPr>
            <p:cNvPr id="1" name=""/>
            <p:cNvSpPr/>
            <p:nvPr/>
          </p:nvSpPr>
          <p:spPr>
            <a:xfrm>
              <a:off x="592200" y="476280"/>
              <a:ext cx="69840" cy="1144440"/>
            </a:xfrm>
            <a:custGeom>
              <a:avLst/>
              <a:gdLst/>
              <a:ahLst/>
              <a:rect l="l" t="t" r="r" b="b"/>
              <a:pathLst>
                <a:path w="44" h="721">
                  <a:moveTo>
                    <a:pt x="0" y="0"/>
                  </a:moveTo>
                  <a:lnTo>
                    <a:pt x="43" y="48"/>
                  </a:lnTo>
                  <a:lnTo>
                    <a:pt x="43" y="672"/>
                  </a:lnTo>
                  <a:lnTo>
                    <a:pt x="0" y="720"/>
                  </a:lnTo>
                  <a:lnTo>
                    <a:pt x="0" y="0"/>
                  </a:lnTo>
                </a:path>
              </a:pathLst>
            </a:custGeom>
            <a:solidFill>
              <a:srgbClr val="ffa040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92200" y="476280"/>
              <a:ext cx="7859520" cy="77760"/>
            </a:xfrm>
            <a:custGeom>
              <a:avLst/>
              <a:gdLst/>
              <a:ahLst/>
              <a:rect l="l" t="t" r="r" b="b"/>
              <a:pathLst>
                <a:path w="4951" h="49">
                  <a:moveTo>
                    <a:pt x="0" y="0"/>
                  </a:moveTo>
                  <a:lnTo>
                    <a:pt x="43" y="48"/>
                  </a:lnTo>
                  <a:lnTo>
                    <a:pt x="4907" y="48"/>
                  </a:lnTo>
                  <a:lnTo>
                    <a:pt x="4950" y="0"/>
                  </a:lnTo>
                  <a:lnTo>
                    <a:pt x="0" y="0"/>
                  </a:lnTo>
                </a:path>
              </a:pathLst>
            </a:custGeom>
            <a:solidFill>
              <a:srgbClr val="ffe0c0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1880" y="476280"/>
              <a:ext cx="69840" cy="1144440"/>
            </a:xfrm>
            <a:custGeom>
              <a:avLst/>
              <a:gdLst/>
              <a:ahLst/>
              <a:rect l="l" t="t" r="r" b="b"/>
              <a:pathLst>
                <a:path w="44" h="721">
                  <a:moveTo>
                    <a:pt x="43" y="0"/>
                  </a:moveTo>
                  <a:lnTo>
                    <a:pt x="0" y="48"/>
                  </a:lnTo>
                  <a:lnTo>
                    <a:pt x="0" y="672"/>
                  </a:lnTo>
                  <a:lnTo>
                    <a:pt x="43" y="720"/>
                  </a:lnTo>
                  <a:lnTo>
                    <a:pt x="43" y="0"/>
                  </a:lnTo>
                </a:path>
              </a:pathLst>
            </a:custGeom>
            <a:solidFill>
              <a:srgbClr val="ffa040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92200" y="1542960"/>
              <a:ext cx="7859520" cy="77760"/>
            </a:xfrm>
            <a:custGeom>
              <a:avLst/>
              <a:gdLst/>
              <a:ahLst/>
              <a:rect l="l" t="t" r="r" b="b"/>
              <a:pathLst>
                <a:path w="4951" h="49">
                  <a:moveTo>
                    <a:pt x="4950" y="48"/>
                  </a:moveTo>
                  <a:lnTo>
                    <a:pt x="4907" y="0"/>
                  </a:lnTo>
                  <a:lnTo>
                    <a:pt x="43" y="0"/>
                  </a:lnTo>
                  <a:lnTo>
                    <a:pt x="0" y="48"/>
                  </a:lnTo>
                  <a:lnTo>
                    <a:pt x="4950" y="48"/>
                  </a:lnTo>
                </a:path>
              </a:pathLst>
            </a:custGeom>
            <a:solidFill>
              <a:srgbClr val="c06000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60240" y="552600"/>
              <a:ext cx="7721640" cy="990360"/>
            </a:xfrm>
            <a:prstGeom prst="rect">
              <a:avLst/>
            </a:prstGeom>
            <a:gradFill rotWithShape="0">
              <a:gsLst>
                <a:gs pos="0">
                  <a:srgbClr val="b26600"/>
                </a:gs>
                <a:gs pos="50000">
                  <a:srgbClr val="e08000"/>
                </a:gs>
                <a:gs pos="100000">
                  <a:srgbClr val="b266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542960" indent="-17136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2000160" indent="-17136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2000160" indent="-171360" algn="just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2000160" indent="-171360" algn="just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7245360" y="6400800"/>
            <a:ext cx="1898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598B0F4-830E-481D-8869-0B65F2F7CB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9000" y="74520"/>
            <a:ext cx="906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000" spc="-1" strike="noStrike">
                <a:solidFill>
                  <a:srgbClr val="ffffff"/>
                </a:solidFill>
                <a:latin typeface="Arial"/>
              </a:rPr>
              <a:t>Geber Ramalho &amp; Osman Gioia                                              Computação Musical 2000/1                                                                                          Síntese I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Book Antiqua"/>
              </a:rPr>
              <a:t>Síntese de Sons II</a:t>
            </a:r>
            <a:endParaRPr b="1" lang="en-US" sz="7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95280" y="624852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Geber Ramalho &amp; Osman Gioia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" name=""/>
          <p:cNvSpPr/>
          <p:nvPr/>
        </p:nvSpPr>
        <p:spPr>
          <a:xfrm>
            <a:off x="1523880" y="30492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Computação Musical 2000/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A688B-7EC6-4952-B3C1-B81FF4197C76}" type="slidenum">
              <a:t>1</a:t>
            </a:fld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Interfaces Musicais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220968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Dispositivos musicais de entrada de dados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Softwares de performance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Editores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Linguagens de programação musical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Programas de composição algorítmica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Programas de análise espectral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69" name="fig3-11" descr=""/>
          <p:cNvPicPr/>
          <p:nvPr/>
        </p:nvPicPr>
        <p:blipFill>
          <a:blip r:embed="rId1"/>
          <a:stretch/>
        </p:blipFill>
        <p:spPr>
          <a:xfrm>
            <a:off x="5562720" y="1752480"/>
            <a:ext cx="3255840" cy="4875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D8D91-8CF8-41FD-B6D7-352D58AC7514}" type="slidenum">
              <a:t>10</a:t>
            </a:fld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SOM-A: Cartas Espectrais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16292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just">
              <a:lnSpc>
                <a:spcPct val="11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Carta Espectral é uma estrutura de dados composta de listas entre parênteses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-285840" algn="just">
              <a:lnSpc>
                <a:spcPct val="11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Cada lista representa uma expressão simbólica que define os valores iniciais, instrumentos, notas a serem executadas e finalizações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-285840" algn="just">
              <a:lnSpc>
                <a:spcPct val="11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O arquivo possui a extensão .car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1101C-72DB-40E1-8285-9CC2D259A869}" type="slidenum">
              <a:t>11</a:t>
            </a:fld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Conjunto de Instruções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262800" indent="-26280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Operador VAL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30720" indent="-21024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Especifica os parâmetros iniciais da partitura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62800" indent="-26280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(VAL T1 T2 Fa  Ad Tp Nm Le )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30720" indent="-21024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1:  Lapso de tempo inicial em segundo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30720" indent="-21024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2:  Lapso de tempo final em segundo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30720" indent="-21024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a: Freqüência de amostragem em ciclos por segundo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30720" indent="-21024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Ad:  Andamento - multiplicador que aplicado aos tempos constantes da carta espectral transforma-os em segundo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30720" indent="-21024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p:  Transposição - multiplicador transpositor das freqüências de execução de cada nota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30720" indent="-21024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Nm: Norma - multiplicador normalizador das amplitudes de execução de cada nota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30720" indent="-21024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Le: Limite de Envoltória - número de segmentos máximo que a envoltória de amplitude pode possuir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C9A82-0093-4026-B4D2-C9B7F6C317B5}" type="slidenum">
              <a:t>12</a:t>
            </a:fld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Operador INS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259920" indent="-25992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Define um instrumento. 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59920" indent="-25992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(INS &lt;Vigência&gt; &lt;Nome&gt; &lt;Lista-de-componentes&gt;)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23880" indent="-20772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Vigência: Número de tempos nos quais o instrumento existirá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23880" indent="-20772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Nome: Cadeia de caracteres com literal como caracter inicia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23880" indent="-20772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Lista-de-Componentes: Harmônicos com as suas respectivas ordens, fases, envoltórias de amplitude e posicionamento espacial denominados Unidades-H (unidades harmônicas)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23880" indent="-20772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Lista de Componentes: ((ordemn fasen (envoltórian) orton))   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23880" indent="-20772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Ordem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 Antiqua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: Ordem da enésima componente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23880" indent="-20772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as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 Antiqua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: Fase inicial da enésima componente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23880" indent="-20772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Envoltóri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 Antiqua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: Listas de pares da envoltória de amplitude Envoltória: ((ordenad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 Antiqua"/>
              </a:rPr>
              <a:t>L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e abciss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 Antiqua"/>
              </a:rPr>
              <a:t>L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) 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23880" indent="-20772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Ort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 Antiqua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: Índice de orto-estereofonia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50EC3-A62F-4CA6-955D-BDE20B2B17D0}" type="slidenum">
              <a:t>13</a:t>
            </a:fld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Book Antiqua"/>
              </a:rPr>
              <a:t>Envoltória de Amplitude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"/>
          <p:cNvSpPr/>
          <p:nvPr/>
        </p:nvSpPr>
        <p:spPr>
          <a:xfrm>
            <a:off x="996840" y="4572000"/>
            <a:ext cx="7150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996840" y="2584080"/>
            <a:ext cx="1359000" cy="1994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1987560"/>
            <a:ext cx="0" cy="4102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68440" y="2597040"/>
            <a:ext cx="673200" cy="825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054240" y="3041640"/>
            <a:ext cx="1511280" cy="393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78480" y="3054240"/>
            <a:ext cx="901440" cy="749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5492880" y="3422520"/>
            <a:ext cx="977760" cy="393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483240" y="3435480"/>
            <a:ext cx="1663920" cy="1130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2000" y="2143080"/>
            <a:ext cx="223920" cy="25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Amplitu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071960" y="5100480"/>
            <a:ext cx="1000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Temp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85680" y="4567320"/>
            <a:ext cx="238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79400" y="4262400"/>
            <a:ext cx="193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996320" y="4643280"/>
            <a:ext cx="1076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Book Antiqua"/>
              </a:rPr>
              <a:t>lim-en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48120" y="427356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427356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6400" y="427356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77120" y="427356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427356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20880" y="2590920"/>
            <a:ext cx="139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20880" y="3429000"/>
            <a:ext cx="139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20880" y="3809880"/>
            <a:ext cx="139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20880" y="3505320"/>
            <a:ext cx="139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74006-3721-4358-9FD9-DC0440140EEC}" type="slidenum">
              <a:t>14</a:t>
            </a:fld>
          </a:p>
        </p:txBody>
      </p:sp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Operador EXE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just">
              <a:lnSpc>
                <a:spcPct val="90000"/>
              </a:lnSpc>
              <a:spcBef>
                <a:spcPts val="2999"/>
              </a:spcBef>
              <a:spcAft>
                <a:spcPts val="1800"/>
              </a:spcAft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Especifica o tempo de início e término do bloco de execução.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(EXE 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) 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 Antiqua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: Tempo de início  do bloco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 Antiqua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: Tempo de término do bloco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A partir do aparecimento do comando EXE e até que o interpretador encontre a instrução STP, todas as listas encontradas serão consideradas como notas a serem interpretadas ordenadas segundo o seu tempo de início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03E04-F858-447F-A486-9185816B071A}" type="slidenum">
              <a:t>15</a:t>
            </a:fld>
          </a:p>
        </p:txBody>
      </p: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Escrita de Notas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254160" indent="-25416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Cada nota da partitura consiste de uma lista contendo as informações necessárias a sua execução.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54160" indent="-25416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(Nome-do-Instrumento Ti Dur Freq Amp)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10200" indent="-20340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Nome-do-instrumento: Rótulo definido pelo operador IN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1017000" indent="-203400" algn="just">
              <a:lnSpc>
                <a:spcPct val="9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Instrumento = átomo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macro-instrumento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2" marL="1017000" indent="-203400" algn="just">
              <a:lnSpc>
                <a:spcPct val="9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Nome + Lista de índices = sub-instrumento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3" marL="1373040" indent="-152280" algn="just">
              <a:lnSpc>
                <a:spcPct val="90000"/>
              </a:lnSpc>
              <a:spcBef>
                <a:spcPts val="524"/>
              </a:spcBef>
              <a:buClr>
                <a:srgbClr val="e08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 Antiqua"/>
              </a:rPr>
              <a:t>Sub-instrumento:(Nome-do-Instrumento(Lista-de-índices) Vigência)</a:t>
            </a:r>
            <a:endParaRPr b="1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lvl="3" marL="1373040" indent="-152280" algn="just">
              <a:lnSpc>
                <a:spcPct val="90000"/>
              </a:lnSpc>
              <a:spcBef>
                <a:spcPts val="524"/>
              </a:spcBef>
              <a:buClr>
                <a:srgbClr val="e08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 Antiqua"/>
              </a:rPr>
              <a:t>Lista-de-índices: somente as unidades-H correspondentes aos índices constantes da lista serão utilizadas na construção do sub-instrumento</a:t>
            </a:r>
            <a:endParaRPr b="1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lvl="3" marL="1373040" indent="-152280" algn="just">
              <a:lnSpc>
                <a:spcPct val="90000"/>
              </a:lnSpc>
              <a:spcBef>
                <a:spcPts val="524"/>
              </a:spcBef>
              <a:buClr>
                <a:srgbClr val="e08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 Antiqua"/>
              </a:rPr>
              <a:t>Vigência: parâmetro opcional</a:t>
            </a:r>
            <a:endParaRPr b="1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lvl="1" marL="610200" indent="-20340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i: Tempo de  início da nota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10200" indent="-20340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Dur: Duração da nota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10200" indent="-20340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req: Frequência em ciclos por segundo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10200" indent="-20340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Amp: Intensidade relativa às amplitudes das envoltórias de cada componente do instrumento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66310-3752-4DEB-9F95-C799BE79B99F}" type="slidenum">
              <a:t>16</a:t>
            </a:fld>
          </a:p>
        </p:txBody>
      </p:sp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Operadores de Finalização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just">
              <a:lnSpc>
                <a:spcPct val="90000"/>
              </a:lnSpc>
              <a:spcBef>
                <a:spcPts val="2999"/>
              </a:spcBef>
              <a:spcAft>
                <a:spcPts val="1800"/>
              </a:spcAft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Operador STP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(STP)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Encerra a ação do operador EXE anterior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-285840" algn="just">
              <a:lnSpc>
                <a:spcPct val="90000"/>
              </a:lnSpc>
              <a:spcBef>
                <a:spcPts val="2999"/>
              </a:spcBef>
              <a:spcAft>
                <a:spcPts val="1800"/>
              </a:spcAft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Operador FIM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(FIM)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Encerra a interpretação da carta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A7013-9C96-40A9-831D-ADB7B96C4355}" type="slidenum">
              <a:t>17</a:t>
            </a:fld>
          </a:p>
        </p:txBody>
      </p: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Unidade-H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981080" y="1905120"/>
          <a:ext cx="5267520" cy="472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905120"/>
                    <a:ext cx="526752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EF5C6-3391-4912-BEF7-6A5D3FB47452}" type="slidenum">
              <a:t>18</a:t>
            </a:fld>
          </a:p>
        </p:txBody>
      </p:sp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Exemplo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9" name="MARCHA" descr=""/>
          <p:cNvPicPr/>
          <p:nvPr/>
        </p:nvPicPr>
        <p:blipFill>
          <a:blip r:embed="rId1"/>
          <a:stretch/>
        </p:blipFill>
        <p:spPr>
          <a:xfrm>
            <a:off x="609480" y="1735200"/>
            <a:ext cx="8001000" cy="5122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331F2-ED0E-4384-8610-1AD8D314AF92}" type="slidenum">
              <a:t>19</a:t>
            </a:fld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Síntese por Software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259920" indent="-259920" algn="just">
              <a:lnSpc>
                <a:spcPct val="8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Programa desenvolvido para Computadores de uso geral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23880" indent="-207720" algn="just">
              <a:lnSpc>
                <a:spcPct val="8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gera um fluxo de amostras que pode ser modificado arbitrariamente pelo usuário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23880" indent="-207720" algn="just">
              <a:lnSpc>
                <a:spcPct val="8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Ex: Music V, Csound e SOM-A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1040040" indent="-207720" algn="just">
              <a:lnSpc>
                <a:spcPct val="8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rodam em PCs necessitando somente de bons ADCs e DACs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259920" indent="-259920" algn="just">
              <a:lnSpc>
                <a:spcPct val="8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Síntese por hardware utiliza circuitos dedicados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23880" indent="-207720" algn="just">
              <a:lnSpc>
                <a:spcPct val="8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Mais rápida porém mais limitada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23880" indent="-207720" algn="just">
              <a:lnSpc>
                <a:spcPct val="8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intetizadores comerciai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23880" indent="-207720" algn="just">
              <a:lnSpc>
                <a:spcPct val="8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DSPs (Digital signal processors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59920" indent="-259920" algn="just">
              <a:lnSpc>
                <a:spcPct val="8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2 Tipos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23880" indent="-207720" algn="just">
              <a:lnSpc>
                <a:spcPct val="8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Editores gráficos de instrumento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1040040" indent="-207720" algn="just">
              <a:lnSpc>
                <a:spcPct val="8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Ususário interconecta ícones (Ugs) formando patches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623880" indent="-207720" algn="just">
              <a:lnSpc>
                <a:spcPct val="8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Linguagens de síntes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1040040" indent="-207720" algn="just">
              <a:lnSpc>
                <a:spcPct val="8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Usuário especifica som desejado através de arquivo texto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54FA6-B013-4B15-9F39-8F67EE080027}" type="slidenum">
              <a:t>2</a:t>
            </a:fld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Exercícios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80080" indent="-28008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Utilizando a sintaxe do programa SOM-A construa os seguintes instrumentos com envoltória de livre escolha: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71760" indent="-22392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Onda Senoida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71760" indent="-22392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Dente de serra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71760" indent="-22392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Quadrada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71760" indent="-22392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riangular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71760" indent="-22392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Livre escolha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80080" indent="-28008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Com os instrumentos acima criados elabore uma partitura a partir de alguma música conhecida utilizando a escala temperada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0080" indent="-28008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Gere o arquivo wav correspondente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3373A-6ECA-4C69-A74B-EA3FB4C2F8DA}" type="slidenum">
              <a:t>20</a:t>
            </a:fld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Escala Temperada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37240" indent="0" algn="just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#include &lt;stdio.h&gt;</a:t>
            </a: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237240" indent="0" algn="just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#include &lt;math.h&gt;</a:t>
            </a: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237240" indent="0" algn="just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#include &lt;stdlib.h&gt;</a:t>
            </a: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237240" indent="0" algn="just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#include &lt;conio.h&gt;</a:t>
            </a: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237240" indent="0" algn="just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237240" indent="0" algn="just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void main()</a:t>
            </a: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237240" indent="0" algn="just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{</a:t>
            </a: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237240" indent="0" algn="just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FILE *arq;</a:t>
            </a: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237240" indent="0" algn="just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int i;</a:t>
            </a: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237240" indent="0" algn="just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double base = 6.875000000;</a:t>
            </a: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237240" indent="0" algn="just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clrscr();</a:t>
            </a: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237240" indent="0" algn="just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if ((arq = fopen(”c:\\temp","w")) == NULL)</a:t>
            </a: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237240" indent="0" algn="just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fprintf(stderr,"\nNao pude abrir o arquivo\n");</a:t>
            </a: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237240" indent="0" algn="just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for (i=-2;i &lt; 129;i++)</a:t>
            </a: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237240" indent="0" algn="just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{</a:t>
            </a: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237240" indent="0" algn="just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base = base * pow(2,1.0/12.0);</a:t>
            </a: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237240" indent="0" algn="just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fprintf(arq,"\n        midi[%3d] = %15.9lf;",i,base);</a:t>
            </a: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237240" indent="0" algn="just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}</a:t>
            </a: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237240" indent="0" algn="just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fprintf(arq,"\n");</a:t>
            </a: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237240" indent="0" algn="just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fclose(arq);</a:t>
            </a: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237240" indent="0" algn="just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exit(0);</a:t>
            </a: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237240" indent="0" algn="just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} </a:t>
            </a: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3969C-0573-4DE7-80A5-26200E77DC29}" type="slidenum">
              <a:t>21</a:t>
            </a:fld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792000" y="3537000"/>
            <a:ext cx="7724880" cy="147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ct val="90000"/>
              </a:lnSpc>
              <a:spcBef>
                <a:spcPts val="3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fffff"/>
                </a:solidFill>
                <a:latin typeface="Book Antiqua"/>
              </a:rPr>
              <a:t>FIM</a:t>
            </a:r>
            <a:endParaRPr b="1" lang="en-US" sz="8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5C530-0331-49C9-8E43-034E4626516E}" type="slidenum">
              <a:t>22</a:t>
            </a:fld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Demandas Computacionais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-26568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Síntese por software não é passível de realização em tempo real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65680" indent="-26568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Solução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37560" indent="-21240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Armazenar o resultado em um arquivo com amostras de áudio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37560" indent="-21240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Arquivos de áudio geralmente contém um cabeçalho seguido por um fluxo de números representando as amostras de áudio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1062720" indent="-212400" algn="just">
              <a:lnSpc>
                <a:spcPct val="9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nome do arquivo, Fa, Resolução em bits, número de canais, etc..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637560" indent="-21240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As amostras são organizadas em estruturas de dados denominadas Frame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1062720" indent="-212400" algn="just">
              <a:lnSpc>
                <a:spcPct val="9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ada frame contém as amostras em um determinado momento de cada canal (Para N canais um frame conterá N amostras)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2" marL="1062720" indent="-212400" algn="just">
              <a:lnSpc>
                <a:spcPct val="9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Portanto Fa = número de frames/segundo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637560" indent="-21240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Podem ser utilizados diversos formatos de arquivos e geralmente necessitamos de conversores entre os mesmo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996FB-8CF1-48C8-A542-20CEE43D7A01}" type="slidenum">
              <a:t>3</a:t>
            </a:fld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Etapas de Síntese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262800" indent="-26280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2 Etapas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30720" indent="-21024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íntes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1051560" indent="-210240" algn="just">
              <a:lnSpc>
                <a:spcPct val="9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Definição de Instrumentos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2" marL="1051560" indent="-210240" algn="just">
              <a:lnSpc>
                <a:spcPct val="9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Interpretação de Partituras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630720" indent="-21024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Execução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1051560" indent="-210240" algn="just">
              <a:lnSpc>
                <a:spcPct val="9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Audição das peças sintetizadas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262800" indent="-26280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Desvantagens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30720" indent="-21024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Incapacidade de execução em tempo rea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30720" indent="-21024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empo de processamento aumenta com a complexidade das partitura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62800" indent="-26280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Vantagens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30720" indent="-21024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otal controle dos componentes do som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30720" indent="-21024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Polifonia ilimitada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8C29A-4A1F-4EE1-8DDD-DDBA05579205}" type="slidenum">
              <a:t>4</a:t>
            </a:fld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Book Antiqua"/>
              </a:rPr>
              <a:t>Etapa de Síntese e Excução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56" name="etapa2" descr=""/>
          <p:cNvPicPr/>
          <p:nvPr/>
        </p:nvPicPr>
        <p:blipFill>
          <a:blip r:embed="rId1"/>
          <a:stretch/>
        </p:blipFill>
        <p:spPr>
          <a:xfrm>
            <a:off x="4800600" y="3886200"/>
            <a:ext cx="3962520" cy="2971800"/>
          </a:xfrm>
          <a:prstGeom prst="rect">
            <a:avLst/>
          </a:prstGeom>
          <a:ln w="0">
            <a:noFill/>
          </a:ln>
        </p:spPr>
      </p:pic>
      <p:pic>
        <p:nvPicPr>
          <p:cNvPr id="57" name="etapa1" descr=""/>
          <p:cNvPicPr/>
          <p:nvPr/>
        </p:nvPicPr>
        <p:blipFill>
          <a:blip r:embed="rId2"/>
          <a:stretch/>
        </p:blipFill>
        <p:spPr>
          <a:xfrm>
            <a:off x="304920" y="1905120"/>
            <a:ext cx="4038480" cy="302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DA258-4EAC-4965-BCE9-BCD428F2D784}" type="slidenum">
              <a:t>5</a:t>
            </a:fld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Síntese em Tempo Real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Podemos realizar síntese em tempo real através de DSPs e/ou MIDI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Para tanto utilizamos Controladores, Sequencers, Editores de partitura e editores de patche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60" name="fig3-9" descr=""/>
          <p:cNvPicPr/>
          <p:nvPr/>
        </p:nvPicPr>
        <p:blipFill>
          <a:blip r:embed="rId1"/>
          <a:stretch/>
        </p:blipFill>
        <p:spPr>
          <a:xfrm>
            <a:off x="2362320" y="3303720"/>
            <a:ext cx="4647960" cy="355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A3500-F326-4720-BC11-DC4C11869295}" type="slidenum">
              <a:t>6</a:t>
            </a:fld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Especificação de Sons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Música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Partitura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Orquestração (Instrumentos)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Notas com respectivas durações, alturas e articulações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Interpretação humana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Computador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Partitura algorítmica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Objetos sonoros (Instrumentos)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Manipulação dos mesmos (notas)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Interpretação matemática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A5E7D-1240-4AEF-AA1A-90BDD747768E}" type="slidenum">
              <a:t>7</a:t>
            </a:fld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Instrumento para Síntese Aditiva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64" name="fig3-10" descr=""/>
          <p:cNvPicPr/>
          <p:nvPr/>
        </p:nvPicPr>
        <p:blipFill>
          <a:blip r:embed="rId1"/>
          <a:stretch/>
        </p:blipFill>
        <p:spPr>
          <a:xfrm>
            <a:off x="2286000" y="1676520"/>
            <a:ext cx="4471920" cy="518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566C4-C67E-4A52-BCB0-277569F6C8D0}" type="slidenum">
              <a:t>8</a:t>
            </a:fld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Especificação de Sons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Parâmetros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requência Central de osc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Pico de Amplitude de osc = 1.0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Envoltória de Amplitud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Início e Duração da Envoltória de Amplitud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Envoltória de Frequência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Início e Duração da Envoltória de Frequência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Intensidade do desvio de Freqûencia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Necessitamos especificar individualmente cada uma das vozes (osciladores senoidais)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3" marL="1542960" indent="-171360" algn="just">
              <a:lnSpc>
                <a:spcPct val="90000"/>
              </a:lnSpc>
              <a:spcBef>
                <a:spcPts val="524"/>
              </a:spcBef>
              <a:buClr>
                <a:srgbClr val="e08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 Antiqua"/>
              </a:rPr>
              <a:t>9 parâmetros por oscilador</a:t>
            </a:r>
            <a:endParaRPr b="1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lvl="4" marL="2000160" indent="-171360" algn="just">
              <a:lnSpc>
                <a:spcPct val="90000"/>
              </a:lnSpc>
              <a:spcBef>
                <a:spcPts val="524"/>
              </a:spcBef>
              <a:buClr>
                <a:srgbClr val="e08000"/>
              </a:buClr>
              <a:buFont typeface="Book Antiqu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 Antiqua"/>
              </a:rPr>
              <a:t>Se tivermos 10 osciladores = 90 parâmetros para um instrumento</a:t>
            </a:r>
            <a:endParaRPr b="1" lang="en-US" sz="1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56223-52FB-46B9-839B-C819BCFA35B8}" type="slidenum">
              <a:t>9</a:t>
            </a:fld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9T00:45:14Z</dcterms:created>
  <dc:creator>Departamento de Musica</dc:creator>
  <dc:description/>
  <dc:language>en-US</dc:language>
  <cp:lastModifiedBy>glr</cp:lastModifiedBy>
  <dcterms:modified xsi:type="dcterms:W3CDTF">2000-03-28T18:50:42Z</dcterms:modified>
  <cp:revision>64</cp:revision>
  <dc:subject>Microfones</dc:subject>
  <dc:title>Síntese de Sons</dc:title>
</cp:coreProperties>
</file>