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309A-2428-4641-994B-72A66D936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894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70E2-874A-45D5-96EC-E7B9EB1FA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04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7AED-26DE-43B7-8AAE-E3B5C4D28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516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44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516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44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8ADC-A750-4604-AFFA-1B4BBB4ED3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BDE3-B4DD-4F7F-A5F2-4109668B03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555A-8423-4B10-AAF9-9A7BAD794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ED09-45DE-4B46-A2C6-DA093C9D0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8DAE-C35C-463D-BA9A-EEFE2F92D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09800" y="475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F7BE-2688-4FBD-A2EA-D1E5DECD0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D2A8-88D8-401E-9986-4513966C9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04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B849-848F-466B-BA11-8D46F9645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625B-5E94-4F05-BD21-135DB4E91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2200" y="476280"/>
            <a:ext cx="7859520" cy="1144440"/>
            <a:chOff x="592200" y="476280"/>
            <a:chExt cx="7859520" cy="1144440"/>
          </a:xfrm>
        </p:grpSpPr>
        <p:sp>
          <p:nvSpPr>
            <p:cNvPr id="1" name=""/>
            <p:cNvSpPr/>
            <p:nvPr/>
          </p:nvSpPr>
          <p:spPr>
            <a:xfrm>
              <a:off x="59220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0" y="0"/>
                  </a:moveTo>
                  <a:lnTo>
                    <a:pt x="43" y="48"/>
                  </a:lnTo>
                  <a:lnTo>
                    <a:pt x="43" y="672"/>
                  </a:ln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2200" y="47628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0" y="0"/>
                  </a:moveTo>
                  <a:lnTo>
                    <a:pt x="43" y="48"/>
                  </a:lnTo>
                  <a:lnTo>
                    <a:pt x="4907" y="48"/>
                  </a:lnTo>
                  <a:lnTo>
                    <a:pt x="4950" y="0"/>
                  </a:lnTo>
                  <a:lnTo>
                    <a:pt x="0" y="0"/>
                  </a:lnTo>
                </a:path>
              </a:pathLst>
            </a:custGeom>
            <a:solidFill>
              <a:srgbClr val="ffe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188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43" y="0"/>
                  </a:moveTo>
                  <a:lnTo>
                    <a:pt x="0" y="48"/>
                  </a:lnTo>
                  <a:lnTo>
                    <a:pt x="0" y="672"/>
                  </a:lnTo>
                  <a:lnTo>
                    <a:pt x="43" y="720"/>
                  </a:lnTo>
                  <a:lnTo>
                    <a:pt x="43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92200" y="154296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4950" y="48"/>
                  </a:moveTo>
                  <a:lnTo>
                    <a:pt x="4907" y="0"/>
                  </a:lnTo>
                  <a:lnTo>
                    <a:pt x="43" y="0"/>
                  </a:lnTo>
                  <a:lnTo>
                    <a:pt x="0" y="48"/>
                  </a:lnTo>
                  <a:lnTo>
                    <a:pt x="4950" y="48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0240" y="552600"/>
              <a:ext cx="7721640" cy="990360"/>
            </a:xfrm>
            <a:prstGeom prst="rect">
              <a:avLst/>
            </a:prstGeom>
            <a:gradFill rotWithShape="0">
              <a:gsLst>
                <a:gs pos="0">
                  <a:srgbClr val="b26600"/>
                </a:gs>
                <a:gs pos="50000">
                  <a:srgbClr val="e08000"/>
                </a:gs>
                <a:gs pos="100000">
                  <a:srgbClr val="b2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2AA627-D65C-4E48-88E9-0ED6BF492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9000" y="74520"/>
            <a:ext cx="90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Geber Ramalho &amp; Osman Gioia                                              Computação Musical 2000/1                                                                                          Síntese 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Síntese de Sons I</a:t>
            </a:r>
            <a:endParaRPr b="1" lang="en-US" sz="8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Geber Ramalho &amp; Osman Gioi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1522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mputação Musical 20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4131-D134-4E5F-8F9F-4F599E9F86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Adi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imeiras Manifestaçõ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Órgãos de Tub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Primeiro instrumento elétric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Telharmonium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Mais famos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Hammon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413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3620880" cy="35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B7E8-EC1B-433B-9ECD-D78C57BAAB2E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Fourie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5440" y="2554200"/>
            <a:ext cx="7724520" cy="31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22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Toda e qualquer forma de onda periódica é constituída por uma soma de ondas senoidais cujas frequências são múltiplos inteiros da fundamental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5A61-5D46-45C1-A1DB-70C63683857B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de Formas de Onda Fixa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dição de parciais, com amplitudes e fases iniciais determinadas, a uma fundament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414a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886200" cy="3187800"/>
          </a:xfrm>
          <a:prstGeom prst="rect">
            <a:avLst/>
          </a:prstGeom>
          <a:ln w="0">
            <a:noFill/>
          </a:ln>
        </p:spPr>
      </p:pic>
      <p:pic>
        <p:nvPicPr>
          <p:cNvPr id="127" name="414b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4267080" cy="31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FADE-6D7E-488B-BC0F-9E4CB25E218B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Fundamental + 2. harmônic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fund+2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4267080" cy="3157560"/>
          </a:xfrm>
          <a:prstGeom prst="rect">
            <a:avLst/>
          </a:prstGeom>
          <a:ln w="0">
            <a:noFill/>
          </a:ln>
        </p:spPr>
      </p:pic>
      <p:pic>
        <p:nvPicPr>
          <p:cNvPr id="130" name="2" descr=""/>
          <p:cNvPicPr/>
          <p:nvPr/>
        </p:nvPicPr>
        <p:blipFill>
          <a:blip r:embed="rId2"/>
          <a:stretch/>
        </p:blipFill>
        <p:spPr>
          <a:xfrm>
            <a:off x="0" y="3247920"/>
            <a:ext cx="4876920" cy="36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9FF9-EFF8-49DC-AC98-F5209B72B433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Fa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18288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 Fase de cada componente é essencial na definição da Forma de Onda final e pode ou não influir em nossa percepção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3360" indent="-20088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: Fase do Quinto harmônico = 9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-25128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 Fase Inicial da Forma de Onda não influi em nossa percep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33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416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2971800" cy="1724040"/>
          </a:xfrm>
          <a:prstGeom prst="rect">
            <a:avLst/>
          </a:prstGeom>
          <a:ln w="0">
            <a:noFill/>
          </a:ln>
        </p:spPr>
      </p:pic>
      <p:pic>
        <p:nvPicPr>
          <p:cNvPr id="134" name="415" descr=""/>
          <p:cNvPicPr/>
          <p:nvPr/>
        </p:nvPicPr>
        <p:blipFill>
          <a:blip r:embed="rId2"/>
          <a:stretch/>
        </p:blipFill>
        <p:spPr>
          <a:xfrm>
            <a:off x="0" y="1828800"/>
            <a:ext cx="243216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37D1-A569-4D7D-9D08-7292F2783252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dição de Parci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601992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ria espectros mais interessantes auditivament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ão é suficiente para a simulação perfeita de um som acúst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ão reproduz os transientes de ataque, somente a porção de sustenta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ecessitamos da utilização de parciais variantes no temp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417" descr=""/>
          <p:cNvPicPr/>
          <p:nvPr/>
        </p:nvPicPr>
        <p:blipFill>
          <a:blip r:embed="rId1"/>
          <a:stretch/>
        </p:blipFill>
        <p:spPr>
          <a:xfrm>
            <a:off x="6108840" y="2362320"/>
            <a:ext cx="3035160" cy="33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90AD-238D-44A7-9C77-95ECB1D47A54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Aditiva variante no Temp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odificando a mistura de ondas senoidais através do tempo podemos criar sons sintéticos mais interessantes e reproduzir sons acústicos mais realisticament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: Forma de onda de um som de Trompet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418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3352680" cy="26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11B6-35F7-4738-AD87-C17EE71BAD1B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Adi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20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Toda e qualquer forma de onda  pode ser sintetizada a partir de um modelo matemático, representado por um conjunto de equações que definam a sua constituição espectral, especificando a envoltória de cada uma das ondas senoidais que a constituem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17E6-2C2A-4A3C-9649-1AA82D9C3EE2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Adi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equacao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643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9DAE-1326-4064-BCC1-1A4A3E643800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s Analógica e Digital 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419a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49640" cy="4254480"/>
          </a:xfrm>
          <a:prstGeom prst="rect">
            <a:avLst/>
          </a:prstGeom>
          <a:ln w="0">
            <a:noFill/>
          </a:ln>
        </p:spPr>
      </p:pic>
      <p:pic>
        <p:nvPicPr>
          <p:cNvPr id="147" name="419b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64040" cy="42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6B5A-50AD-461D-A6EE-E2AF4845F930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Processo de compor ou combinar diversas partes ou elementos em um todo maior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-28008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Síntese de son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Controle da afinação, intensidade e espectro de um som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Criação de um espectro sônic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-28008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Métodos mais utilizad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Síntese Aditiv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Síntese direta por softwar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Síntese Subtrativ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Sintetizadores (Moog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Síntese FM (Chowning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Yamaha DX7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Amostragem Digita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Sampler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A6C8-6A74-4273-A5E2-2DAA960EB86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omplexidade da Síntese Adi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lta Demanda do Sistem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x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20 parciais * 20 eventos = 400 osciladores * 44 Khz  = 17.600.000 amostras por segundo * 750 operações por amostra = 13.200.000.000 de operações por segundo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lta Demanda de Parametriza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x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20 parciais * 10.000 eventos = 200.000 envoltória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arâmetros de Control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Parametrização algorítmi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Manualment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Resíntese a partir de análise acústi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98D8-FD0E-4E21-91E6-3A32540C6FA5}" type="slidenum">
              <a:t>20</a:t>
            </a:fld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Resínte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420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103560" cy="4419720"/>
          </a:xfrm>
          <a:prstGeom prst="rect">
            <a:avLst/>
          </a:prstGeom>
          <a:ln w="0">
            <a:noFill/>
          </a:ln>
        </p:spPr>
      </p:pic>
      <p:pic>
        <p:nvPicPr>
          <p:cNvPr id="152" name="421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2450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03EB-49AD-41F8-8C8B-DFBC0AB28E62}" type="slidenum">
              <a:t>21</a:t>
            </a:fld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por Tabela de Formas de Onda (Wavetable lookup)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alcular individualmente as diversas senóides que compõe um determinado espectro não é um método eficient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Solução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Armazenar uma tabela numérica com valores pré-definidos para um ciclo da forma de onda senoidal em uma lista denominada Wavetable (vide som_seno.h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Para gerar um sinal o processador lê continuamente as amostras da lista, isto é chamado de Síntese por leitura de tabela (Table-lookup synthesi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83D2-B948-42EA-8812-C306BBB39575}" type="slidenum">
              <a:t>22</a:t>
            </a:fld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Wave Tabl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lookup" descr=""/>
          <p:cNvPicPr/>
          <p:nvPr/>
        </p:nvPicPr>
        <p:blipFill>
          <a:blip r:embed="rId1"/>
          <a:stretch/>
        </p:blipFill>
        <p:spPr>
          <a:xfrm>
            <a:off x="0" y="1736640"/>
            <a:ext cx="9144000" cy="43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DCA4-9124-482E-858F-21218083F960}" type="slidenum">
              <a:t>23</a:t>
            </a:fld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Lookup Tabl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 algn="just">
              <a:lnSpc>
                <a:spcPct val="90000"/>
              </a:lnSpc>
              <a:spcBef>
                <a:spcPts val="17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Modificando a Fase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8600" indent="-226080" algn="just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Phase-index &gt;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2960" indent="-282960" algn="just">
              <a:lnSpc>
                <a:spcPct val="90000"/>
              </a:lnSpc>
              <a:spcBef>
                <a:spcPts val="17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Modificando a Frequência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8600" indent="-226080" algn="just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Freqûencia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 Tamanho da tabela &amp; F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78600" indent="-226080" algn="just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Pode-se alterar a frequência modificando-se FA, porém isto nem sempre é convenien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78600" indent="-226080" algn="just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Melhor solução é varrer a tabela modificando o passo de incremento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BC3B-7736-4A1A-B0DD-A817F177DB72}" type="slidenum">
              <a:t>24</a:t>
            </a:fld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lgoritmo de um Oscilador Digital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1. Phase_index = mod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Book Antiqua"/>
              </a:rPr>
              <a:t>L 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( fase_anterior + inc)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2. Saída = amplitude * wavetable [phase_index]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17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Como tamanho da tabela (L) e a Fa são fixos, a frequência do sinal (Freq) dependerá do incremento (inc). 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17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Inc =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Book Antiqua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L * Freq / Fa       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       Freq = Inc * Fa / L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4C62-54A7-4042-85B7-5573260F10FB}" type="slidenum">
              <a:t>25</a:t>
            </a:fld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terpol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Quando os valores não são múltiplos e divisores inteiros entre si necessitamos de um método corretiv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Truncagem e Arredondam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Causam imprecisões geradoras de pequenas distorções denominadas “Ruído da Tabela de Amostras” (Table lookup nois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Solução parcial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Aumentar a quantidade de amostras da tabel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Interpola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ste é o melhor métod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5A3B-AA1A-4A5F-B387-3C408C57BC79}" type="slidenum">
              <a:t>26</a:t>
            </a:fld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terpol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álculo do valor que existiria caso fosse possível referenciá-lo na fase exata especificada pelo increm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25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Osciladores interpoladores utilizam tabelas menores e geram sinais com a mesma qualida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25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x: Tabela[1024] no pior cas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12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Com interpolação linear = 104 dB SN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12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Sem Interpolação = 48 dB SN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5977080"/>
            <a:ext cx="44956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362320" y="5265720"/>
            <a:ext cx="1440" cy="711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858000" y="5265720"/>
            <a:ext cx="1440" cy="711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4800" y="6004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30480" y="6004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440" y="60800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7.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10040" y="6461280"/>
            <a:ext cx="1463400" cy="398880"/>
            <a:chOff x="2210040" y="6461280"/>
            <a:chExt cx="1463400" cy="398880"/>
          </a:xfrm>
        </p:grpSpPr>
        <p:sp>
          <p:nvSpPr>
            <p:cNvPr id="172" name=""/>
            <p:cNvSpPr/>
            <p:nvPr/>
          </p:nvSpPr>
          <p:spPr>
            <a:xfrm>
              <a:off x="2210040" y="646128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63600" y="6663960"/>
              <a:ext cx="60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373040" y="5435640"/>
            <a:ext cx="703440" cy="978120"/>
            <a:chOff x="1373040" y="5435640"/>
            <a:chExt cx="703440" cy="978120"/>
          </a:xfrm>
        </p:grpSpPr>
        <p:sp>
          <p:nvSpPr>
            <p:cNvPr id="175" name=""/>
            <p:cNvSpPr/>
            <p:nvPr/>
          </p:nvSpPr>
          <p:spPr>
            <a:xfrm>
              <a:off x="1373040" y="60148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692000" y="5435640"/>
              <a:ext cx="0" cy="56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134800" y="47847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191120" y="4910040"/>
            <a:ext cx="563400" cy="1066680"/>
            <a:chOff x="4191120" y="4910040"/>
            <a:chExt cx="563400" cy="1066680"/>
          </a:xfrm>
        </p:grpSpPr>
        <p:sp>
          <p:nvSpPr>
            <p:cNvPr id="179" name=""/>
            <p:cNvSpPr/>
            <p:nvPr/>
          </p:nvSpPr>
          <p:spPr>
            <a:xfrm flipV="1">
              <a:off x="4495680" y="5265360"/>
              <a:ext cx="0" cy="71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1120" y="49100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.5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554160" y="4861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B307-4349-4A53-9D59-3AB131423F68}" type="slidenum">
              <a:t>27</a:t>
            </a:fld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scilador por Leitura de Tabel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fig3-5" descr=""/>
          <p:cNvPicPr/>
          <p:nvPr/>
        </p:nvPicPr>
        <p:blipFill>
          <a:blip r:embed="rId1"/>
          <a:stretch/>
        </p:blipFill>
        <p:spPr>
          <a:xfrm>
            <a:off x="1066680" y="1886040"/>
            <a:ext cx="6782040" cy="465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8751-703F-40BC-B641-2448E8B77AD5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Variações tempor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imos como gerar um sinal constante e estático em amplitude porém necessitamos de controle sobre os outros parâmetros variantes no temp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eradores de Envoltóri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ossibilitam a geração de funções tempora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: Mudanças de amplitude no tempo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Envoltória de amplitu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8FA2-F2F6-43A0-8797-C7CFBB334D56}" type="slidenum">
              <a:t>29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rimórdio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imeiro Sintetizador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Telharmonium (190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Gerava eletricamente somente ondas senoidai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3" name="telhaemonium" descr=""/>
          <p:cNvPicPr/>
          <p:nvPr/>
        </p:nvPicPr>
        <p:blipFill>
          <a:blip r:embed="rId1"/>
          <a:stretch/>
        </p:blipFill>
        <p:spPr>
          <a:xfrm>
            <a:off x="0" y="3048120"/>
            <a:ext cx="380376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telarmonium" descr=""/>
          <p:cNvPicPr/>
          <p:nvPr/>
        </p:nvPicPr>
        <p:blipFill>
          <a:blip r:embed="rId2"/>
          <a:stretch/>
        </p:blipFill>
        <p:spPr>
          <a:xfrm>
            <a:off x="3809880" y="3059280"/>
            <a:ext cx="5334120" cy="37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23F5-481E-4719-8AC9-84401C46195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Geradores de Envoltóri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DSR (Attack, Decay, Sustain, Release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Rate &amp;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Osciladores de Envoltória (env_osc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8" name="fig3-7a" descr=""/>
          <p:cNvPicPr/>
          <p:nvPr/>
        </p:nvPicPr>
        <p:blipFill>
          <a:blip r:embed="rId1"/>
          <a:stretch/>
        </p:blipFill>
        <p:spPr>
          <a:xfrm>
            <a:off x="0" y="3505320"/>
            <a:ext cx="2940120" cy="3352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24080" y="3505320"/>
            <a:ext cx="586764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ê uma Tabela (F1) de valores de ampl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-1951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stabelece o incremento a partir da duração da no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1825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: Nota = 2 seg </a:t>
            </a: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env_osc [freq] = 1 ciclo/2 seg ou 0.5 H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-1951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ara cada amostra, env_osc produz um valor derivado da tabela de amostras em sua saí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-1951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ste valor é aplicado na entrada de amplitude do o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-1951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pós osc ler uma amostra de F2, o valor é escalonado pelo valor recebido em sua entrada de ampl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3839-A092-4E18-8D1A-489DED863A67}" type="slidenum">
              <a:t>30</a:t>
            </a:fld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Geradores de Envoltóri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odemos subsituir o env_osc por um env_gen (Envelope Generator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nv_osc é típico de síntese por softwar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97280" indent="-21924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Lapsos de tempo da envoltória variam em razão diretao com a duração da no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nv_gen é típico de sintetizadores por hardwar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97280" indent="-21924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Lapsos independem da duração da no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odemos também aplicar um env_gen à entrada de frequência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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variações de altur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Ou à entrada de um filtro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 variações espectrai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4220-5868-40A6-92B7-C72F8A7B9A63}" type="slidenum">
              <a:t>31</a:t>
            </a:fld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Modularidad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Conceito fundamental na síntese digital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Módulos de processamento de sinal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Gerador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Oscilador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Modificador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Filtro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Amplificador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Geradores de Envoltória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Podem ser conectados para a criação de instrumentos (</a:t>
            </a:r>
            <a:r>
              <a:rPr b="1" i="1" lang="pt-BR" sz="2000" spc="-1" strike="noStrike">
                <a:solidFill>
                  <a:srgbClr val="ffffff"/>
                </a:solidFill>
                <a:latin typeface="Book Antiqua"/>
              </a:rPr>
              <a:t>patches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Primeiro programa: Music III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Music V gerou inúmeros descendentes, entre eles o Csound (C) e o SOM-A (LISP, C e Java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21E9-ED52-49B1-B76A-9D87BCF810BD}" type="slidenum">
              <a:t>32</a:t>
            </a:fld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Patch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Um instrumento é produzido através da conexão de UGs em um Patch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6" name="260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4038480" cy="3097080"/>
          </a:xfrm>
          <a:prstGeom prst="rect">
            <a:avLst/>
          </a:prstGeom>
          <a:ln w="0">
            <a:noFill/>
          </a:ln>
        </p:spPr>
      </p:pic>
      <p:pic>
        <p:nvPicPr>
          <p:cNvPr id="197" name="moo3p01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876920" cy="31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118D-F5F5-4922-9623-AF214A0FF636}" type="slidenum">
              <a:t>3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Históric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" y="4343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8680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42640" y="42782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412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26708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328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5928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0880" y="3200400"/>
            <a:ext cx="1143000" cy="685800"/>
            <a:chOff x="380880" y="3200400"/>
            <a:chExt cx="1143000" cy="685800"/>
          </a:xfrm>
        </p:grpSpPr>
        <p:sp>
          <p:nvSpPr>
            <p:cNvPr id="70" name=""/>
            <p:cNvSpPr/>
            <p:nvPr/>
          </p:nvSpPr>
          <p:spPr>
            <a:xfrm>
              <a:off x="380880" y="34290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3200400"/>
              <a:ext cx="11430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Telharmoni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209680" y="2666880"/>
            <a:ext cx="914400" cy="1219320"/>
            <a:chOff x="2209680" y="2666880"/>
            <a:chExt cx="914400" cy="1219320"/>
          </a:xfrm>
        </p:grpSpPr>
        <p:sp>
          <p:nvSpPr>
            <p:cNvPr id="73" name=""/>
            <p:cNvSpPr/>
            <p:nvPr/>
          </p:nvSpPr>
          <p:spPr>
            <a:xfrm>
              <a:off x="2209680" y="320040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09680" y="2971800"/>
              <a:ext cx="914400" cy="152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rteno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9680" y="2666880"/>
              <a:ext cx="9144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Therem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24280" y="2209680"/>
            <a:ext cx="914400" cy="1828800"/>
            <a:chOff x="4724280" y="2209680"/>
            <a:chExt cx="914400" cy="1828800"/>
          </a:xfrm>
        </p:grpSpPr>
        <p:sp>
          <p:nvSpPr>
            <p:cNvPr id="77" name=""/>
            <p:cNvSpPr/>
            <p:nvPr/>
          </p:nvSpPr>
          <p:spPr>
            <a:xfrm>
              <a:off x="4724280" y="2438280"/>
              <a:ext cx="0" cy="160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2209680"/>
              <a:ext cx="9144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avad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952880" y="2971800"/>
            <a:ext cx="990360" cy="914400"/>
            <a:chOff x="4952880" y="2971800"/>
            <a:chExt cx="990360" cy="914400"/>
          </a:xfrm>
        </p:grpSpPr>
        <p:sp>
          <p:nvSpPr>
            <p:cNvPr id="80" name=""/>
            <p:cNvSpPr/>
            <p:nvPr/>
          </p:nvSpPr>
          <p:spPr>
            <a:xfrm>
              <a:off x="4952880" y="32767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2880" y="2971800"/>
              <a:ext cx="99036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RCA Mark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400800" y="2666880"/>
            <a:ext cx="1143000" cy="1219320"/>
            <a:chOff x="6400800" y="2666880"/>
            <a:chExt cx="1143000" cy="1219320"/>
          </a:xfrm>
        </p:grpSpPr>
        <p:sp>
          <p:nvSpPr>
            <p:cNvPr id="83" name=""/>
            <p:cNvSpPr/>
            <p:nvPr/>
          </p:nvSpPr>
          <p:spPr>
            <a:xfrm>
              <a:off x="6400800" y="29718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0800" y="2666880"/>
              <a:ext cx="114300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íntese Dire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848720" y="2819520"/>
            <a:ext cx="1066680" cy="1295280"/>
            <a:chOff x="7848720" y="2819520"/>
            <a:chExt cx="1066680" cy="1295280"/>
          </a:xfrm>
        </p:grpSpPr>
        <p:sp>
          <p:nvSpPr>
            <p:cNvPr id="86" name=""/>
            <p:cNvSpPr/>
            <p:nvPr/>
          </p:nvSpPr>
          <p:spPr>
            <a:xfrm>
              <a:off x="7848720" y="2819520"/>
              <a:ext cx="106668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intetizado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48720" y="30481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295280" y="4572000"/>
            <a:ext cx="914400" cy="1066680"/>
            <a:chOff x="1295280" y="4572000"/>
            <a:chExt cx="914400" cy="1066680"/>
          </a:xfrm>
        </p:grpSpPr>
        <p:sp>
          <p:nvSpPr>
            <p:cNvPr id="89" name=""/>
            <p:cNvSpPr/>
            <p:nvPr/>
          </p:nvSpPr>
          <p:spPr>
            <a:xfrm flipV="1">
              <a:off x="2209680" y="4572000"/>
              <a:ext cx="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5280" y="5410080"/>
              <a:ext cx="9144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Trautoni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895480" y="4114440"/>
            <a:ext cx="990720" cy="1067040"/>
            <a:chOff x="2895480" y="4114440"/>
            <a:chExt cx="990720" cy="1067040"/>
          </a:xfrm>
        </p:grpSpPr>
        <p:sp>
          <p:nvSpPr>
            <p:cNvPr id="92" name=""/>
            <p:cNvSpPr/>
            <p:nvPr/>
          </p:nvSpPr>
          <p:spPr>
            <a:xfrm flipV="1">
              <a:off x="3886200" y="411444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95480" y="4876920"/>
              <a:ext cx="990720" cy="304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John C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962520" y="4114440"/>
            <a:ext cx="761760" cy="1067040"/>
            <a:chOff x="3962520" y="4114440"/>
            <a:chExt cx="761760" cy="1067040"/>
          </a:xfrm>
        </p:grpSpPr>
        <p:sp>
          <p:nvSpPr>
            <p:cNvPr id="95" name=""/>
            <p:cNvSpPr/>
            <p:nvPr/>
          </p:nvSpPr>
          <p:spPr>
            <a:xfrm flipV="1">
              <a:off x="4724280" y="411444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62520" y="4876920"/>
              <a:ext cx="761760" cy="304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Schaef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267080" y="4572000"/>
            <a:ext cx="685800" cy="1219320"/>
            <a:chOff x="4267080" y="4572000"/>
            <a:chExt cx="685800" cy="1219320"/>
          </a:xfrm>
        </p:grpSpPr>
        <p:sp>
          <p:nvSpPr>
            <p:cNvPr id="98" name=""/>
            <p:cNvSpPr/>
            <p:nvPr/>
          </p:nvSpPr>
          <p:spPr>
            <a:xfrm flipV="1">
              <a:off x="4952880" y="45720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67080" y="5486400"/>
              <a:ext cx="68580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Vare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715000" y="4114800"/>
            <a:ext cx="1219320" cy="1447920"/>
            <a:chOff x="5715000" y="4114800"/>
            <a:chExt cx="1219320" cy="1447920"/>
          </a:xfrm>
        </p:grpSpPr>
        <p:sp>
          <p:nvSpPr>
            <p:cNvPr id="101" name=""/>
            <p:cNvSpPr/>
            <p:nvPr/>
          </p:nvSpPr>
          <p:spPr>
            <a:xfrm>
              <a:off x="5715000" y="4114800"/>
              <a:ext cx="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5257800"/>
              <a:ext cx="121932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Stockhaus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238880" y="4191120"/>
            <a:ext cx="1067040" cy="1066680"/>
            <a:chOff x="7238880" y="4191120"/>
            <a:chExt cx="1067040" cy="1066680"/>
          </a:xfrm>
        </p:grpSpPr>
        <p:sp>
          <p:nvSpPr>
            <p:cNvPr id="104" name=""/>
            <p:cNvSpPr/>
            <p:nvPr/>
          </p:nvSpPr>
          <p:spPr>
            <a:xfrm flipV="1">
              <a:off x="8305920" y="41911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38880" y="4952880"/>
              <a:ext cx="106704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alter Carl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724280" y="426708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0BFA-D29F-461A-B5DE-CD0DD5E461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Pierre Schaeffe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schaeffer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419720" cy="4278240"/>
          </a:xfrm>
          <a:prstGeom prst="rect">
            <a:avLst/>
          </a:prstGeom>
          <a:ln w="0">
            <a:noFill/>
          </a:ln>
        </p:spPr>
      </p:pic>
      <p:pic>
        <p:nvPicPr>
          <p:cNvPr id="109" name="ortfstudio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79404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D038-9E46-4E0D-9492-1EBD29A9EC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RCA Mark II Synthesize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markII" descr=""/>
          <p:cNvPicPr/>
          <p:nvPr/>
        </p:nvPicPr>
        <p:blipFill>
          <a:blip r:embed="rId1"/>
          <a:stretch/>
        </p:blipFill>
        <p:spPr>
          <a:xfrm>
            <a:off x="990720" y="1725480"/>
            <a:ext cx="6781680" cy="513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0904-5436-40C4-981B-CF9AD064FF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Max Mathew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Realizou as primeiras experiências em 1957 nos laboratórios Bel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Seus programas denominam-se Music I, II, etc... e utilizaram inicialmente a linguagem Fortra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559B-5018-4CD9-9F6D-4599108396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Partitura Music-V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musicV" descr=""/>
          <p:cNvPicPr/>
          <p:nvPr/>
        </p:nvPicPr>
        <p:blipFill>
          <a:blip r:embed="rId1"/>
          <a:stretch/>
        </p:blipFill>
        <p:spPr>
          <a:xfrm>
            <a:off x="106668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90DE-E62C-41FF-A95D-F38348BA71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Revisão de Conceito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Fundamental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12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equência predominante fisicoacusticamente e psicoacusticamente mascarador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Harmônic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últiplos inteiros da Fundamental (inclusive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narmônic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últiplos não-inteiros da Fundamenta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arciai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njunto de todos os componentes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undamental + Harmônicos + Inarmônico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049B-E7C3-4B1B-AC16-9C68FDCF73C7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00:45:14Z</dcterms:created>
  <dc:creator>Departamento de Musica</dc:creator>
  <dc:description/>
  <dc:language>en-US</dc:language>
  <cp:lastModifiedBy>glr</cp:lastModifiedBy>
  <dcterms:modified xsi:type="dcterms:W3CDTF">2000-03-20T14:33:16Z</dcterms:modified>
  <cp:revision>63</cp:revision>
  <dc:subject>Microfones</dc:subject>
  <dc:title>Síntese de Sons</dc:title>
</cp:coreProperties>
</file>