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FE181-CC0A-4469-80BD-CA3C747C1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87E13-FE84-4730-85FC-F2B2A1E78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7E64C-311A-464D-AACA-D7859925F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2B79B-8BDA-458E-BFF3-E211ECEE67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94BC8-4165-489B-A011-98D2BEFEA6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EC084-F179-4F85-B171-EA1B7C1A9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27150-7FD1-4BCE-8904-EE27EF7ED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55801-72A8-4B33-8B9B-77D8C10A3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09800" y="475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8E043-B3F7-4947-B4AB-C18AED419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ABF6-00B7-4E3C-B14A-339C8C4AA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7722D-D10C-448C-BB44-8BEF2F921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5823D-F856-4809-B5DF-78928214E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92200" y="476280"/>
            <a:ext cx="7859520" cy="1144440"/>
            <a:chOff x="592200" y="476280"/>
            <a:chExt cx="7859520" cy="1144440"/>
          </a:xfrm>
        </p:grpSpPr>
        <p:sp>
          <p:nvSpPr>
            <p:cNvPr id="1" name=""/>
            <p:cNvSpPr/>
            <p:nvPr/>
          </p:nvSpPr>
          <p:spPr>
            <a:xfrm>
              <a:off x="592200" y="476280"/>
              <a:ext cx="69840" cy="1144440"/>
            </a:xfrm>
            <a:custGeom>
              <a:avLst/>
              <a:gdLst/>
              <a:ahLst/>
              <a:rect l="l" t="t" r="r" b="b"/>
              <a:pathLst>
                <a:path w="44" h="721">
                  <a:moveTo>
                    <a:pt x="0" y="0"/>
                  </a:moveTo>
                  <a:lnTo>
                    <a:pt x="43" y="48"/>
                  </a:lnTo>
                  <a:lnTo>
                    <a:pt x="43" y="672"/>
                  </a:lnTo>
                  <a:lnTo>
                    <a:pt x="0" y="720"/>
                  </a:lnTo>
                  <a:lnTo>
                    <a:pt x="0" y="0"/>
                  </a:lnTo>
                </a:path>
              </a:pathLst>
            </a:custGeom>
            <a:solidFill>
              <a:srgbClr val="ffa04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2200" y="476280"/>
              <a:ext cx="7859520" cy="77760"/>
            </a:xfrm>
            <a:custGeom>
              <a:avLst/>
              <a:gdLst/>
              <a:ahLst/>
              <a:rect l="l" t="t" r="r" b="b"/>
              <a:pathLst>
                <a:path w="4951" h="49">
                  <a:moveTo>
                    <a:pt x="0" y="0"/>
                  </a:moveTo>
                  <a:lnTo>
                    <a:pt x="43" y="48"/>
                  </a:lnTo>
                  <a:lnTo>
                    <a:pt x="4907" y="48"/>
                  </a:lnTo>
                  <a:lnTo>
                    <a:pt x="4950" y="0"/>
                  </a:lnTo>
                  <a:lnTo>
                    <a:pt x="0" y="0"/>
                  </a:lnTo>
                </a:path>
              </a:pathLst>
            </a:custGeom>
            <a:solidFill>
              <a:srgbClr val="ffe0c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1880" y="476280"/>
              <a:ext cx="69840" cy="1144440"/>
            </a:xfrm>
            <a:custGeom>
              <a:avLst/>
              <a:gdLst/>
              <a:ahLst/>
              <a:rect l="l" t="t" r="r" b="b"/>
              <a:pathLst>
                <a:path w="44" h="721">
                  <a:moveTo>
                    <a:pt x="43" y="0"/>
                  </a:moveTo>
                  <a:lnTo>
                    <a:pt x="0" y="48"/>
                  </a:lnTo>
                  <a:lnTo>
                    <a:pt x="0" y="672"/>
                  </a:lnTo>
                  <a:lnTo>
                    <a:pt x="43" y="720"/>
                  </a:lnTo>
                  <a:lnTo>
                    <a:pt x="43" y="0"/>
                  </a:lnTo>
                </a:path>
              </a:pathLst>
            </a:custGeom>
            <a:solidFill>
              <a:srgbClr val="ffa04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92200" y="1542960"/>
              <a:ext cx="7859520" cy="77760"/>
            </a:xfrm>
            <a:custGeom>
              <a:avLst/>
              <a:gdLst/>
              <a:ahLst/>
              <a:rect l="l" t="t" r="r" b="b"/>
              <a:pathLst>
                <a:path w="4951" h="49">
                  <a:moveTo>
                    <a:pt x="4950" y="48"/>
                  </a:moveTo>
                  <a:lnTo>
                    <a:pt x="4907" y="0"/>
                  </a:lnTo>
                  <a:lnTo>
                    <a:pt x="43" y="0"/>
                  </a:lnTo>
                  <a:lnTo>
                    <a:pt x="0" y="48"/>
                  </a:lnTo>
                  <a:lnTo>
                    <a:pt x="4950" y="48"/>
                  </a:lnTo>
                </a:path>
              </a:pathLst>
            </a:custGeom>
            <a:solidFill>
              <a:srgbClr val="c060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0240" y="552600"/>
              <a:ext cx="7721640" cy="990360"/>
            </a:xfrm>
            <a:prstGeom prst="rect">
              <a:avLst/>
            </a:prstGeom>
            <a:gradFill rotWithShape="0">
              <a:gsLst>
                <a:gs pos="0">
                  <a:srgbClr val="b26600"/>
                </a:gs>
                <a:gs pos="50000">
                  <a:srgbClr val="e08000"/>
                </a:gs>
                <a:gs pos="100000">
                  <a:srgbClr val="b2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542960" indent="-1713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2000160" indent="-1713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2000160" indent="-17136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2000160" indent="-17136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Geber Ramalho &amp; Osman Giuseppe Gioia      Computação Musical e Processamento de Sinais 2000/19       Síntese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B187-56B0-47CC-AA1D-6289319443AB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Síntese III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Subtrativ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Amostragem Digital (Sampling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FM e outros Métodos de Síntese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3F77D-9BF9-4B90-8DAF-F9044DCE8EF5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Síntese por Leitura de Múltiplas Tabela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Principal técnica utilizada nos atuais sintetizador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4" name="55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810240" cy="37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D226B-5498-475F-B91A-CB257AF02E4E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Síntese por Modulação em Frequênci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Modulação </a:t>
            </a:r>
            <a:r>
              <a:rPr b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 Sinal Portador (carrier) varia de acordo com Sinal Modulador (modulator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Patente de John Chowning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Universidade de Stanford no início dos anos 70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Descobri que com somente duas ondas senoidais posso gerar uma enorme gama de sons complexos os quais, por outros meios exigiriam ferramentas muito mais poderosas”</a:t>
            </a:r>
            <a:r>
              <a:rPr b="1" lang="pt-BR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Yamaha adquiriu a licença em 75  e lançou o DX7 em 83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0847C-2C3B-4157-A2B3-5B44E873698B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Equação Fundamental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8" name="fmequac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18400" cy="43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6BE95-7945-4553-A364-761112B5CCDF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Razão Carrier: Modulator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1" name="610" descr=""/>
          <p:cNvPicPr/>
          <p:nvPr/>
        </p:nvPicPr>
        <p:blipFill>
          <a:blip r:embed="rId1"/>
          <a:stretch/>
        </p:blipFill>
        <p:spPr>
          <a:xfrm>
            <a:off x="2133720" y="3484440"/>
            <a:ext cx="5405400" cy="3373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8080" y="1905120"/>
            <a:ext cx="784872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C:M = Inteiro </a:t>
            </a:r>
            <a:r>
              <a:rPr b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 Bandas harmô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C:M </a:t>
            </a:r>
            <a:r>
              <a:rPr b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 Inteiro </a:t>
            </a:r>
            <a:r>
              <a:rPr b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 Bandas inarmô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2A152-E0F0-4550-A49B-A89D2A04B50C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Largura de Banda = Índice de Modulação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4" name="611" descr=""/>
          <p:cNvPicPr/>
          <p:nvPr/>
        </p:nvPicPr>
        <p:blipFill>
          <a:blip r:embed="rId1"/>
          <a:stretch/>
        </p:blipFill>
        <p:spPr>
          <a:xfrm>
            <a:off x="2263680" y="1752480"/>
            <a:ext cx="467532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7D53-7B54-491C-9BC8-245697B2630C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Instrumento FM Simple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6" name="614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40006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63004-0BA0-4552-BF01-87F0A79B2C16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Operador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operator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47712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761A0-9BFE-4483-8EE1-9678FD5C2BE5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Algoritmo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Yamaha DX-7 possui 6 operadores em 32 diferentes configuraçõ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algorim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7467840" cy="38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58F2E-EF25-4A74-ABCB-4E955408E445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Amostragem Digital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Digitalização  de Fragmentos Sonoro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Execução em  Laço e Mudança de Afinação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Primeiras Manifestaçõe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Música Concret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Analógico mais famoso: Mellotron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Primeiro Sampler Digital: Fairlight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8 bits e preço acima de $25.000,00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BDD1-D9DA-48C6-984E-2AF0EA14A7B5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Técnicas de Laç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Tiro único (one shot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Definição de pontos início e terminação de laç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Modo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Frent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Revers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Bidirecional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6" name="44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410440" cy="27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B700A-77BD-46A6-B867-3DE961493446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Síntese Subtrativ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19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ook Antiqua"/>
              </a:rPr>
              <a:t>Formas de onda complexas  moldadas por filtros variantes no tempo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119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ook Antiqua"/>
              </a:rPr>
              <a:t>Módulo Principais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Osciladore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Filtro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Amplificadores 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Geradores de Envoltória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56AB1-BD36-4424-9E36-605B773AE38A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Desvio de Afinaçã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Munchising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Multi-amostragem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keyboard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840360" cy="181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932F-14EA-4C9E-BE00-F1DC8BCCD5BA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2 Técnicas de Modificaçã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Variação do clock do DAC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Necessita de um DAC para cada nota simultâne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Altera a duração da amostr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Conversão da frequência de amostragem (resampling) por Decimação e Interpolação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Modifica a afinação das amostras sem variar a frequência de reprodução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7C9D-6733-4932-B1EB-3FE15F8F4944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Decimação e Interpolaçã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3" name="48" descr=""/>
          <p:cNvPicPr/>
          <p:nvPr/>
        </p:nvPicPr>
        <p:blipFill>
          <a:blip r:embed="rId1"/>
          <a:stretch/>
        </p:blipFill>
        <p:spPr>
          <a:xfrm>
            <a:off x="1600200" y="1754280"/>
            <a:ext cx="6172200" cy="510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81B1-E1C3-4EBE-86A0-144E14E8FD28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Modelagem Físico-Acústic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Modelo matemático descritor das propriedades físico-acústicas do modo de produção do som a partir de uma fonte sonor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68560" indent="-2685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Equações descrevem a mecânica e a acústica de um instrumento sendo executad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68560" indent="-2685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Princípio Fundamenta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2145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Excitação e Ressonânci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2145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2 Class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Acoplados (Realimentados)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Desacoplados (Não realimentados</a:t>
            </a: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685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06F2-E93B-420B-8A95-59E2E38BBCD6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Modelagem Físico-Acústic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Objetivos Científico: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Levantamento da capacidade de equações matemáticas e da lógica algorítmica em simular os mecanismos produtores de som dos instrumentos existente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Objetivo Artístico: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Simulação tanto de instrumentos reais quanto virtuais, através da distorção de parâmetros ou combinação não trivial de módulos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Capta não só as a relação nota/timbre como também as irregularidades de execuçã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0736A-BC65-4211-AFE1-15CC02BB9C74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Especificação Clássic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Dimensões físicas e constantes de vibraçã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Valores limítrofes de cada uma das variávei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Descrição algorítmica dos modos de vibraçã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Impedância do sistem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Filtragem derivada de interatividad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As equações resultantes são submetidas ao estado inicial e à excitação e resolvidas por um procedimento interativo de aproximação sucessiva que procura os valores simultâneos de diversas variáveis interdependent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E34FD-DA2C-4A4F-98DF-C0D8553D2CC6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Modelagem da Voz Human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1" name="711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508880" cy="468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8F03E-153A-4C4E-9D4B-176906507015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9600" spc="-1" strike="noStrike">
                <a:solidFill>
                  <a:srgbClr val="ffffff"/>
                </a:solidFill>
                <a:latin typeface="Monotype Corsiva"/>
              </a:rPr>
              <a:t>FIM</a:t>
            </a:r>
            <a:endParaRPr b="1" lang="en-US" sz="9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6F3A8-F96C-4EAA-9A47-9784D5E938B7}" type="slidenum">
              <a:t>27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Oscilador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Unidade geradora de  sinais de áudio ricos em harmônico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7200" indent="-27720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Formas de onda padrão utilizadas originalmente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22140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Triangular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22140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Dente de serra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22140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Quadrada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22140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Senoidal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77200" indent="-27720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Control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22140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Frequência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22140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Intensidad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22140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Sinal de control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22140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Sincronism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"/>
          <p:cNvSpPr/>
          <p:nvPr/>
        </p:nvSpPr>
        <p:spPr>
          <a:xfrm>
            <a:off x="64612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031000" y="3352680"/>
            <a:ext cx="3028680" cy="2394720"/>
            <a:chOff x="5031000" y="3352680"/>
            <a:chExt cx="3028680" cy="2394720"/>
          </a:xfrm>
        </p:grpSpPr>
        <p:sp>
          <p:nvSpPr>
            <p:cNvPr id="55" name=""/>
            <p:cNvSpPr/>
            <p:nvPr/>
          </p:nvSpPr>
          <p:spPr>
            <a:xfrm>
              <a:off x="6019920" y="3962160"/>
              <a:ext cx="1066680" cy="1219320"/>
            </a:xfrm>
            <a:prstGeom prst="flowChartDelay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os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41907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2720" y="4800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324480" y="365760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00800" y="518148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86600" y="457200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22800" y="3352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Ga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98040" y="541008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Sin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31360" y="39621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Fre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31000" y="4572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Am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2960" y="4419360"/>
              <a:ext cx="66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Saí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92B93-CB27-4FF4-AA75-E1AF8C034C63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Formas de Ond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7" name="saw" descr=""/>
          <p:cNvPicPr/>
          <p:nvPr/>
        </p:nvPicPr>
        <p:blipFill>
          <a:blip r:embed="rId1"/>
          <a:stretch/>
        </p:blipFill>
        <p:spPr>
          <a:xfrm>
            <a:off x="838080" y="1644480"/>
            <a:ext cx="7334280" cy="521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295E-5773-4A9C-AC4E-6A35869A8526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Filtr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Filtra a Forma de onda gerada pelo oscilador de modo a modelar o espectro desejad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Tipo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Passa baixa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Passa banda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Passa alta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Cort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Control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Gat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Controle de envoltória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Frequência de Cort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Amplitud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Ressonância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802400" y="3276720"/>
            <a:ext cx="2519640" cy="2470680"/>
            <a:chOff x="4802400" y="3276720"/>
            <a:chExt cx="2519640" cy="2470680"/>
          </a:xfrm>
        </p:grpSpPr>
        <p:sp>
          <p:nvSpPr>
            <p:cNvPr id="71" name=""/>
            <p:cNvSpPr/>
            <p:nvPr/>
          </p:nvSpPr>
          <p:spPr>
            <a:xfrm rot="10800000">
              <a:off x="5486040" y="4114800"/>
              <a:ext cx="1142640" cy="914400"/>
            </a:xfrm>
            <a:prstGeom prst="flowChartOnlineStorag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Filt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81480" y="4572000"/>
              <a:ext cx="53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040" y="457200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90960" y="35812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48160" y="35812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324480" y="50292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867280" y="50292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02400" y="44197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9440" y="43434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87840" y="327672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ga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21000" y="327672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en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63800" y="54100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am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97680" y="54100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r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B9543-77AE-4A8E-A4F1-B0383A246596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Amplificador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Amplifica a forma de onda proveniente do Filtr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Controle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Intensidad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745000" y="3733920"/>
            <a:ext cx="2901240" cy="1999440"/>
            <a:chOff x="2745000" y="3733920"/>
            <a:chExt cx="2901240" cy="1999440"/>
          </a:xfrm>
        </p:grpSpPr>
        <p:sp>
          <p:nvSpPr>
            <p:cNvPr id="87" name=""/>
            <p:cNvSpPr/>
            <p:nvPr/>
          </p:nvSpPr>
          <p:spPr>
            <a:xfrm rot="5400000">
              <a:off x="3397320" y="3917160"/>
              <a:ext cx="1586160" cy="1219320"/>
            </a:xfrm>
            <a:prstGeom prst="flowChartExtra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Am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8120" y="4573800"/>
              <a:ext cx="533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00600" y="457380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114800" y="4946760"/>
              <a:ext cx="0" cy="55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45000" y="42937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83640" y="42937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71800" y="539604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en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1998C-4CB5-4280-9C1E-646D7BA4C03D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Módulos Adicionai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47246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Oscilador de frequências baixa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Utilizado para modular: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Oscilador = Vibrat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Filtro = Uaua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Amplificador = Tremol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Control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Gat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Forma de onda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Frequência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Retard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Intensidad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Sincronism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565240" y="2971800"/>
            <a:ext cx="3281400" cy="2166120"/>
            <a:chOff x="5565240" y="2971800"/>
            <a:chExt cx="3281400" cy="2166120"/>
          </a:xfrm>
        </p:grpSpPr>
        <p:sp>
          <p:nvSpPr>
            <p:cNvPr id="97" name=""/>
            <p:cNvSpPr/>
            <p:nvPr/>
          </p:nvSpPr>
          <p:spPr>
            <a:xfrm>
              <a:off x="7162920" y="3581280"/>
              <a:ext cx="914400" cy="914400"/>
            </a:xfrm>
            <a:prstGeom prst="flowChartDelay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L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77320" y="40384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39240" y="32004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9400" y="388620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29400" y="434340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0120" y="32004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391520" y="44956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772400" y="44956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8960" y="29718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Ga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65240" y="3657600"/>
              <a:ext cx="110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Wavefor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22080" y="41148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Fre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97880" y="48006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De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59800" y="48006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Am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45960" y="29718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Sin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84040" y="38862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B2BE8-5795-4EDD-B283-F0B578F410C6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Módulos Adicionai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16292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Gerador de Ruíd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Fornece sinal composto por todas as frequências audíveis 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Tipos: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Branco: Igual intensidade em todas as frequência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Rosa: Corte gradual nas altas frequência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Control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Intensidad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952880" y="4724280"/>
            <a:ext cx="1892520" cy="1600920"/>
            <a:chOff x="4952880" y="4724280"/>
            <a:chExt cx="1892520" cy="1600920"/>
          </a:xfrm>
        </p:grpSpPr>
        <p:sp>
          <p:nvSpPr>
            <p:cNvPr id="115" name=""/>
            <p:cNvSpPr/>
            <p:nvPr/>
          </p:nvSpPr>
          <p:spPr>
            <a:xfrm>
              <a:off x="4952880" y="4724280"/>
              <a:ext cx="914400" cy="990720"/>
            </a:xfrm>
            <a:prstGeom prst="flowChartDelay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No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os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67280" y="52578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257800" y="57150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27720" y="5105160"/>
              <a:ext cx="51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54680" y="598788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Am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7A945-2D10-4E0C-8871-1DE6E085E0F9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Síntese Subtrativ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subtrat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68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2E926-685C-401D-B0F8-9F5189677C75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8T14:41:15Z</dcterms:created>
  <dc:creator>Osman Giuseppe Gioia</dc:creator>
  <dc:description/>
  <dc:language>en-US</dc:language>
  <cp:lastModifiedBy>glr</cp:lastModifiedBy>
  <dcterms:modified xsi:type="dcterms:W3CDTF">2000-03-28T18:54:10Z</dcterms:modified>
  <cp:revision>37</cp:revision>
  <dc:subject/>
  <dc:title>Síntese II</dc:title>
</cp:coreProperties>
</file>