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155B8-2180-4EC3-9BCA-50B1359BF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D4E-E557-48ED-8CBF-EB8244F4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67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4181400"/>
            <a:ext cx="8667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1B2-45C2-4F16-A836-5BEFDF60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418140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960" y="418140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388-227D-47D1-8DDC-E41402CE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040" y="191268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440" y="191268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418140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040" y="418140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8440" y="4181400"/>
            <a:ext cx="2790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C2C-030B-4607-BB94-0E89B629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1912680"/>
            <a:ext cx="8667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AA5-164B-4A44-932B-1007391B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67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0A0-8BC1-418A-916A-DDB2BD97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39E-454B-447D-8665-B72FD646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841-6707-47F7-829E-B0BC0743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48096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56B-AB50-48FF-82F2-E1E97F49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418140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CC7-044D-4615-9AD0-764527C4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960" y="418140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F7D-93AF-4BAC-88C9-42B8097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960" y="1912680"/>
            <a:ext cx="4229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4181400"/>
            <a:ext cx="8667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C0F-B81C-49E5-BEE5-42414BA2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1912680"/>
            <a:ext cx="8667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1000" y="652788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5000" y="652788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D4874-BAD9-47A4-9987-D29306E3B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134720"/>
            <a:ext cx="906948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es Acústicos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nscr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7280" y="1956960"/>
            <a:ext cx="86742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iordano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85640"/>
            <a:ext cx="90662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tração Automática de Descritores Acús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na verdade semi-auto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erve também como ambiente de exploraçã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sta biblioteca de características acú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iblioteca de class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ita a busca exaustiva pelas características mais apropriadas e posteriores class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valiação objetiva do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7640" y="144432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extração automática de descri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envolvido pelo SONY CSL 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EDS" descr=""/>
          <p:cNvPicPr/>
          <p:nvPr/>
        </p:nvPicPr>
        <p:blipFill>
          <a:blip r:embed=""/>
          <a:stretch/>
        </p:blipFill>
        <p:spPr>
          <a:xfrm>
            <a:off x="2052720" y="2700360"/>
            <a:ext cx="582912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ção de bases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loração de característ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Vendo como se ajustam às bases de dad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usc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De Acordo com Padrõ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colha de class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KNN, GMM, Weka derivat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vali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dr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9040" y="1547280"/>
            <a:ext cx="8670960" cy="543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 - sinal (áu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– ampl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 – frequ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 –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:a, f:a – tempo por amplitude, frequência por ampl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- ve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!_ - qualquer ope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*_ qualquer sequência de op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 de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HarmonicSpectralDeviation(Log10(FilterBank(x, 10.0))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 de padr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!_a(x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!_Va(!_Vt:a(x)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*_Va(Mfcc(x)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201600"/>
            <a:ext cx="9066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nscr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la%20analysis" descr=""/>
          <p:cNvPicPr/>
          <p:nvPr/>
        </p:nvPicPr>
        <p:blipFill>
          <a:blip r:embed=""/>
          <a:stretch/>
        </p:blipFill>
        <p:spPr>
          <a:xfrm>
            <a:off x="-34920" y="1260360"/>
            <a:ext cx="1043928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5640"/>
            <a:ext cx="90662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o extrair informação (data mining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triz(M x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Valores contínuos das características no temp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sta de eventos, com respectiv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&lt;0:0:0:120, C7M&gt;, &lt;0:0:3:940, Dm7&gt;, &lt;0:0:5:710, G7&gt;, &lt;0:0:7:815, C&gt; ..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5680" y="3122640"/>
            <a:ext cx="765828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oluções Inicia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ras definidas à mã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e durar mais que X segund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e intensidade for maior que 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e seguirem algum padrão conhecido (ex.: tríade básica de um acorde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1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gmentação + Classif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lução ainda si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ncarar segmentação e classificação como atividades separad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Inúmeras soluções possívei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olução simples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2286000" indent="-45576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peak(derivation(!_a(x))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gment Lab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67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déia: agregar em uma mesma classe frames que mantenham coe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7160" indent="-67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core, que leva em consideração o ajuste a 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916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core = Correct – Missed - Wro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7160" indent="-67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om em agre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7160" indent="-676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leva consideração probabilidades de mudanças de es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embrando Matlab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[Buffer, frameRate, numBits] = wavread('FileName'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uffer(x:y) referencia parte do array, do x-ésimo ao y-ésimo el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x.: matrix(1:3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 i=1:length(Buff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7720" indent="-5626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Do something with Buffer(i);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75720" indent="-674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52524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s Probabilís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7640" y="1697040"/>
            <a:ext cx="86695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is usado: H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Transcrição é uma das utilidad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servação (Ocorrências visíve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x.: características acústic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mada Oculta (Estados que explicariam as observaçõ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Acordes, notas, ..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52524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40" y="1407600"/>
            <a:ext cx="8669520" cy="60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à pri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C é muito mais provável de acontecer do que F#º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Dada a observação (características extraídas), é bastante provável que seja um Dm, mas pouco provável que seja um G#7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de trans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Após um G7, é muito provável haver um C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lem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Descobrir melhor caminho (cada um multiplicando todas as probabilidade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lução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Viterb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52524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90400"/>
            <a:ext cx="8669520" cy="54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dos exemplos transcr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Áud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Características (PCP, FFT, ...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Classes (acordes, notas, ...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à pri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Número de ocorrências de cada acorde / Número de ocorrências tot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O quanto um template de cada acorde “bate” com a característica extraíd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abilidade de trans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95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Matriz de transiçã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52524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M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6952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iter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viterbi" descr=""/>
          <p:cNvPicPr/>
          <p:nvPr/>
        </p:nvPicPr>
        <p:blipFill>
          <a:blip r:embed=""/>
          <a:stretch/>
        </p:blipFill>
        <p:spPr>
          <a:xfrm>
            <a:off x="720720" y="2521080"/>
            <a:ext cx="7858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brando anál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2014200"/>
            <a:ext cx="89996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itura de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posição (overlapping) de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elas antiali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ção de características acústicas (audio feat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69880"/>
            <a:ext cx="90662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gmentacao%20256" descr=""/>
          <p:cNvPicPr/>
          <p:nvPr/>
        </p:nvPicPr>
        <p:blipFill>
          <a:blip r:embed=""/>
          <a:stretch/>
        </p:blipFill>
        <p:spPr>
          <a:xfrm>
            <a:off x="179280" y="15840"/>
            <a:ext cx="9782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íci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ocorrem eventos em um áud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íci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notas foram toca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e acorde foi to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CP1PCP2PCP3PCP4" descr=""/>
          <p:cNvPicPr/>
          <p:nvPr/>
        </p:nvPicPr>
        <p:blipFill>
          <a:blip r:embed=""/>
          <a:stretch/>
        </p:blipFill>
        <p:spPr>
          <a:xfrm>
            <a:off x="4930920" y="1449360"/>
            <a:ext cx="502416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cp%20diff%20et%20edit%20distance" descr=""/>
          <p:cNvPicPr/>
          <p:nvPr/>
        </p:nvPicPr>
        <p:blipFill>
          <a:blip r:embed=""/>
          <a:stretch/>
        </p:blipFill>
        <p:spPr>
          <a:xfrm>
            <a:off x="468360" y="3846600"/>
            <a:ext cx="73929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dos exemplos de áudio, com seus respectivos conjuntos de características 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l a classe de um novo exemplo de áudio, com seu respectivo conjunto de característi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00360" y="4140360"/>
            <a:ext cx="900000" cy="360360"/>
          </a:xfrm>
          <a:prstGeom prst="roundRect">
            <a:avLst>
              <a:gd name="adj" fmla="val 44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000" y="3060720"/>
            <a:ext cx="360360" cy="53964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539640"/>
              <a:gd name="textAreaBottom" fmla="*/ 539280 h 539640"/>
            </a:gdLst>
            <a:ahLst/>
            <a:rect l="textAreaLeft" t="textAreaTop" r="textAreaRight" b="textAreaBottom"/>
            <a:pathLst>
              <a:path w="21600" h="32335">
                <a:moveTo>
                  <a:pt x="95" y="0"/>
                </a:moveTo>
                <a:arcTo wR="95" hR="95" stAng="16200000" swAng="-5400000"/>
                <a:lnTo>
                  <a:pt x="0" y="32240"/>
                </a:lnTo>
                <a:arcTo wR="95" hR="95" stAng="10800000" swAng="-5400000"/>
                <a:lnTo>
                  <a:pt x="21505" y="32335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3419640"/>
            <a:ext cx="539640" cy="360360"/>
          </a:xfrm>
          <a:prstGeom prst="roundRect">
            <a:avLst>
              <a:gd name="adj" fmla="val 44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3060720"/>
            <a:ext cx="900000" cy="900000"/>
          </a:xfrm>
          <a:prstGeom prst="roundRect">
            <a:avLst>
              <a:gd name="adj" fmla="val 176"/>
            </a:avLst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4319640"/>
            <a:ext cx="1618920" cy="360360"/>
          </a:xfrm>
          <a:prstGeom prst="diamond">
            <a:avLst/>
          </a:prstGeom>
          <a:solidFill>
            <a:srgbClr val="355e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03720" y="3816360"/>
            <a:ext cx="1619280" cy="36036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3060720"/>
            <a:ext cx="900000" cy="539640"/>
          </a:xfrm>
          <a:prstGeom prst="diamond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0000" y="3060720"/>
            <a:ext cx="1079280" cy="72072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456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59480" y="3959280"/>
            <a:ext cx="72072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59480" y="3959280"/>
            <a:ext cx="720720" cy="7207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99280" y="3419640"/>
            <a:ext cx="539640" cy="53964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6119640"/>
            <a:ext cx="900000" cy="540000"/>
          </a:xfrm>
          <a:prstGeom prst="diamond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525240"/>
            <a:ext cx="90662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640" y="1912680"/>
            <a:ext cx="867096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 se não soubermos o que us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Instrumentos musicai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Barulhos (porta batendo, freio de carro, lixa de unha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Sons de animai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482840" indent="-5684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1:53:45Z</dcterms:created>
  <dc:creator/>
  <dc:description>General introduction of a new product taking customer wishes into account</dc:description>
  <dc:language>en-US</dc:language>
  <cp:lastModifiedBy/>
  <dcterms:modified xsi:type="dcterms:W3CDTF">2009-05-07T02:07:06Z</dcterms:modified>
  <cp:revision>2</cp:revision>
  <dc:subject/>
  <dc:title>Introducing a New Product</dc:title>
</cp:coreProperties>
</file>