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65E1D-2CB0-404E-909E-C33BE9FA6771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6D3C2-57EC-4BC0-BFD8-80743AA1C58A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F277B-FE91-4F1B-BE2A-5B3CF7D33785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30400" y="701640"/>
            <a:ext cx="4584600" cy="343872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21960" y="4349880"/>
            <a:ext cx="5000760" cy="41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B728B-34C9-4DD4-ABC1-88482F185ADC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4B7C3-89A3-4396-B6DD-A13B4A71B85B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30400" y="701640"/>
            <a:ext cx="4584600" cy="343872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21960" y="4349880"/>
            <a:ext cx="5000760" cy="41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EE7C0-E4D2-4E0F-A2AF-EA66E4C86BA1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30400" y="701640"/>
            <a:ext cx="4584600" cy="343872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21960" y="4349880"/>
            <a:ext cx="5000760" cy="41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C6D1B-E9B8-4BC7-9987-0018FF16416C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70182-285C-4F45-A17A-5F96B1B37349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954DF-7976-42C4-AB55-64A570DF7F24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30400" y="701640"/>
            <a:ext cx="4584600" cy="343872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21960" y="4349880"/>
            <a:ext cx="5000760" cy="41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52443-8358-4182-A251-9827BD6A2642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30400" y="701640"/>
            <a:ext cx="4584600" cy="343872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21960" y="4349880"/>
            <a:ext cx="5000760" cy="41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9D8D4-C663-4E84-B237-921390799B91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30400" y="701640"/>
            <a:ext cx="4584600" cy="343872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21960" y="4349880"/>
            <a:ext cx="5000760" cy="41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2391C-1306-4A9B-928F-273F25C9E441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30400" y="701640"/>
            <a:ext cx="4584600" cy="343872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21960" y="4349880"/>
            <a:ext cx="5000760" cy="41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BE0EA-0837-4FFB-A2DB-2D2E3A8CC120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30400" y="701640"/>
            <a:ext cx="4584600" cy="343872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21960" y="4349880"/>
            <a:ext cx="5000760" cy="41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0D9D5-242F-4E5C-B302-41B6E762B9BE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30400" y="701640"/>
            <a:ext cx="4584600" cy="343872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21960" y="4349880"/>
            <a:ext cx="5000760" cy="41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16871-CC99-4096-A533-1570561CCB86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BCFFC-40DF-4298-BCDA-E560E0366D8F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30400" y="701640"/>
            <a:ext cx="4584600" cy="343872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21960" y="4349880"/>
            <a:ext cx="5000760" cy="41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C8423-0D48-4C45-BB6A-28C4478FD773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30400" y="701640"/>
            <a:ext cx="4584600" cy="343872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21960" y="4349880"/>
            <a:ext cx="5000760" cy="41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C0C68-9EE3-44C4-B319-C19154D32DFA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30400" y="701640"/>
            <a:ext cx="4584600" cy="343872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21960" y="4349880"/>
            <a:ext cx="5000760" cy="41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03B9D-2F94-4941-918F-328E60120043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30400" y="701640"/>
            <a:ext cx="4584600" cy="343872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21960" y="4349880"/>
            <a:ext cx="5000760" cy="41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363CB-8F79-4DC2-92AF-5724B5697FA4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A457E-5761-4D1A-BC90-522F86482C0A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30400" y="701640"/>
            <a:ext cx="4584600" cy="343872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21960" y="4349880"/>
            <a:ext cx="5000760" cy="41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29357-0699-4D76-BB98-66CA4A563B09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30400" y="701640"/>
            <a:ext cx="4584600" cy="343872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21960" y="4349880"/>
            <a:ext cx="5000760" cy="41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787CE-251A-4E9C-9876-BA1A127938F1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CC902-E716-45E1-A82F-0C99B30FBD35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0D216-E0CD-4920-9E32-00C63A900278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30400" y="701640"/>
            <a:ext cx="4584600" cy="343872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21960" y="4349880"/>
            <a:ext cx="5000760" cy="41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61F9D-0545-43B9-9A56-48B96FEDEF36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30400" y="701640"/>
            <a:ext cx="4584600" cy="343872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21960" y="4349880"/>
            <a:ext cx="5000760" cy="41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576BE-9BB5-4D0F-A87F-A4DBEC47F72B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30400" y="701640"/>
            <a:ext cx="4584600" cy="343872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21960" y="4349880"/>
            <a:ext cx="5000760" cy="41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CBDBB-04D1-481E-B664-000B92CC9708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0400" y="701640"/>
            <a:ext cx="4584600" cy="343872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21960" y="4349880"/>
            <a:ext cx="5000760" cy="41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6EF5F-0200-4255-9C7D-D0CBC430E1D2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30400" y="701640"/>
            <a:ext cx="4584600" cy="343872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21960" y="4349880"/>
            <a:ext cx="5000760" cy="41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D6D71-D4AC-4C62-93BF-8A92444FAF12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6F8F9-53A3-4D7A-A795-A3E423B1F87E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30400" y="701640"/>
            <a:ext cx="4584600" cy="343872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21960" y="4349880"/>
            <a:ext cx="5000760" cy="41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5A4A7-06E7-4C02-877A-F963905F6994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0400" y="701640"/>
            <a:ext cx="4584600" cy="343872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21960" y="4349880"/>
            <a:ext cx="5000760" cy="41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6F245-E57C-4A8E-9299-73A1135159E0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F535F-2B69-47FC-979C-36DE01CB5F96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30400" y="701640"/>
            <a:ext cx="4584600" cy="343872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21960" y="4349880"/>
            <a:ext cx="5000760" cy="41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B61A7-5272-4AE1-8581-9AEB60EB4222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30400" y="701640"/>
            <a:ext cx="4584600" cy="343872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1960" y="4349880"/>
            <a:ext cx="5000760" cy="41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8251B-240B-48BF-AD2B-DC89FD876EAF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30400" y="701640"/>
            <a:ext cx="4584600" cy="343872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21960" y="4349880"/>
            <a:ext cx="5000760" cy="41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D2FA6-D7D9-47C5-A6E5-E77D0DC0C851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30400" y="701640"/>
            <a:ext cx="4584600" cy="343872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21960" y="4349880"/>
            <a:ext cx="5000760" cy="41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D14F3-292A-47E7-8776-3E646A7C5DBB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30400" y="701640"/>
            <a:ext cx="4584600" cy="343872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21960" y="4349880"/>
            <a:ext cx="5000760" cy="41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DD2E5-FEC1-4283-81F3-A4CB0CCA4ABF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30400" y="701640"/>
            <a:ext cx="4584600" cy="343872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21960" y="4349880"/>
            <a:ext cx="5000760" cy="41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6440-C75F-4AB6-BDA0-553634751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626C-0EEE-4D5F-94CE-18A7C7693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F77A-8944-445C-923D-CAB02F609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14DA-20E1-446A-9F81-9FACD2777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94751-CD92-4097-B182-CDD470B99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E5AFA-5BBC-40D9-8232-C873B13D3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3D8F4-95E4-49B1-9BAC-ECE84C370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C2877-5EE3-4DCE-8EE4-9F655E7EE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FD115-C10C-4F15-9A9E-6C82AF32C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4BFE4-F6BB-4845-966A-94EADA933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48C41-732A-43B1-9125-E099715E7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81CE-E48E-4CC9-9907-04DA38D65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5FD89-14C0-4F66-B5FC-EC5456180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39EA7-A5BC-4410-9B62-4248FA094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62BA1-897E-4037-983C-3A0B110B6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13045-E701-4E8A-B036-8F33A7F14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3A585-64C9-40E3-82F5-9AE4F8B63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0BE9-E015-4261-913A-DBAFF2FEB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E8FF-439D-40A9-9137-0BE08D78D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3CB7-3CDF-4FC4-9C87-568F45EEA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B01F-9E8B-4FD7-8B81-E80890852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1F43-00D0-4BF2-933F-7E4C4F1D6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EC7E-CDF0-494F-B79E-94E45B5B0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E1F9-E3D1-44E2-BE2A-AD43C3269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04CE9-B095-41BC-8902-06C5AC071062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1c1c1c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58253-FFC8-4088-8AA1-185A4E95AF63}" type="slidenum">
              <a:rPr b="0" lang="pt-BR" sz="1400" spc="-1" strike="noStrike">
                <a:solidFill>
                  <a:srgbClr val="1c1c1c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16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27D56-A292-44FF-88A6-1B75A34BDAFE}" type="slidenum">
              <a:rPr b="0" lang="pt-BR" sz="1400" spc="-1" strike="noStrike">
                <a:solidFill>
                  <a:srgbClr val="1c1c1c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Comic Sans MS"/>
              </a:rPr>
              <a:t>Teste de Sistemas de Software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Alexandre Mota/Alexandre Vasconcelo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({acm, amlv}@cin.ufpe.br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86FDD-B36D-4E7A-9689-4A73DEAAB733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Noção de confiabilidade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ssim, entradas para testes devem se aproximar do ambiente do usuário fina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0A6B5-0B97-42A9-8EEF-E2121D60735E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Comic Sans MS"/>
              </a:rPr>
              <a:t>Dados e Casos de Teste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Dados de Test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Entradas selecionadas para testar o softwa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Casos de Test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Dados de teste, bem como saídas esperadas de acordo com a especificação (Veredicto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Cenários específicos de execuçã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CEBBF-E2F3-43F5-8710-B437B5E40F37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Comic Sans MS"/>
              </a:rPr>
              <a:t>Finalidade dos testes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Averiguar se todos os requisitos do sistema foram corretamente implementado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Assegurar, na medida do possível, a qualidade e a corretude do software produzid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Reduzir custos de manutenção corretiva e re-trabalh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6B510-A841-44BE-A52F-9917EA866C6D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Comic Sans MS"/>
              </a:rPr>
              <a:t>Finalidade dos testes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Assegurar a satisfação do cliente com o produto desenvolvid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Identificar casos de teste com elevada probabilidade para revelar erros ainda não descobertos (com quantidade mínima de tempo e esforço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Verificar a correta integração entre todos os componentes de softwar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21BDC-49A8-479C-A32B-361B57A63112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Comic Sans MS"/>
              </a:rPr>
              <a:t>Eficácia de Testes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45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A atividade de teste é o processo de executar um programa com a intenção de descobrir um err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Um bom caso de teste é aquele que apresenta uma elevada probabilidade de revelar um erro ainda não descobert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Um teste bem sucedido é aquele que revela um erro ainda não descoberto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A92B4-2956-4DD8-ABEA-FB73694CA50A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Comic Sans MS"/>
              </a:rPr>
              <a:t>Padronização de Testes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Sistemátic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Testes aleatórios não são suficient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Testes devem cobrir todos os fluxos possíveis do softwar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Testes devem representar situações de uso reai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Documentad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Que testes foram feitos, resultados, etc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Repetí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Se encontrou ou não erro em determinada situação, deve-se poder repeti-l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AB432-15B1-4217-B4EE-4DEC700D2BAD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Comic Sans MS"/>
              </a:rPr>
              <a:t>Abordagens de teste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Abordagem funcional (“caixa preta”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Os testes são gerados a partir de uma análise dos relacionamentos entre os dados de entrada e saída, com base nos requisitos levantados com os usuári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Especificação (pré e pós-condiçõe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Geralmente é aplicado durante as últimas etapas do processo de tes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B6410-A181-40E5-8D9B-E60802F28363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Comic Sans MS"/>
              </a:rPr>
              <a:t>Abordagens de teste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Abordagem funcional (“caixa preta”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Tem o objetivo de encontra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Erros associados a não satisfação da especificaçã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Erros na GU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Erros nas estruturas de dados ou acesso ao banco de dad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roblemas de integraçã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BB49E-9603-44C9-9758-D55B7EE12C97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Comic Sans MS"/>
              </a:rPr>
              <a:t>Abordagens de teste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Abordagem estrutural (“caixa branca”)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Os testes são gerados a partir de uma análise dos caminhos lógicos possíveis de serem executad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Conhecimento do funcionamento interno dos componentes do software é usad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B02AA-69A5-44F7-904B-784B14845823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Comic Sans MS"/>
              </a:rPr>
              <a:t>Abordagens de teste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Abordagem estrutura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Objetiv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08440" indent="-2214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Garantir que todos os caminhos independentes dentro de um módulo tenham sido exercitados pelo menos uma vez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08440" indent="-2214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Realizar todas as decisões lógicas para valores falsos e verdadeir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08440" indent="-2214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Executar laços dentro dos valores limit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08440" indent="-2214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Avaliar as estruturas de dados interna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ED9DC-F22F-4146-8B45-0A261092B83D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Comic Sans MS"/>
              </a:rPr>
              <a:t>Motivação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Ocorrência de falhas humanas no processo de desenvolvimento de software é considerá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Processo de testes é indispensável na garantia de qualidade de softwar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Custos associados às falhas de software justificam um processo de testes cuidadoso e bem planejad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15940-672C-4BF6-B1B6-BD1C59D0C0DD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965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Comic Sans MS"/>
              </a:rPr>
              <a:t>Abordagens de teste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358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Abordagem estrutura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Programado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Testa o programa em pedaç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Encontra quais as partes do programa que já foram testada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onhece quais partes do programa serão modificada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Verifica os limites internos no código que são invisíveis ao testador extern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1979280" y="6237360"/>
            <a:ext cx="556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990000"/>
                </a:solidFill>
                <a:latin typeface="Arial"/>
              </a:rPr>
              <a:t>“</a:t>
            </a:r>
            <a:r>
              <a:rPr b="1" lang="pt-BR" sz="2400" spc="-1" strike="noStrike">
                <a:solidFill>
                  <a:srgbClr val="990000"/>
                </a:solidFill>
                <a:latin typeface="Arial"/>
              </a:rPr>
              <a:t>É parte da atividade de codificação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1F4E7-5628-439F-900F-50D28BF562FF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Estágios de Teste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Teste de Unidad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Teste de Aspectos O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Teste de Integraçã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Teste de Sistem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Teste de Aceitaçã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BD237-9EB1-44DD-8F9D-B26DB747CF9B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Comic Sans MS"/>
              </a:rPr>
              <a:t>Estágios de teste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Teste de unidad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Componentes individuais (ex.: métodos, classes) são testados para assegurar que os mesmos operam de forma correta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Teste de aspectos O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Teste de Iterador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Teste de Hierarquia de Tip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8A123-58D9-4045-8EC5-203E193AF75D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Comic Sans MS"/>
              </a:rPr>
              <a:t>Estágios de teste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Teste de integraçã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A interface entre as unidades integradas é testad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Teste de sistem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Os elementos de software integrados com o ambiente operacional (hardware, pessoas, etc.) são testados como um tod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E493B-4820-47D6-B6C4-26ED04329CD3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Comic Sans MS"/>
              </a:rPr>
              <a:t>Estágios de teste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Testes de aceitação (“caixa preta”) são realizados pelo usuári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Finalidade é demonstrar a conformidade com os requisitos do softwar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Envolve treinamento, documentação e empacotament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Podem ser de duas categoria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Testes </a:t>
            </a:r>
            <a:r>
              <a:rPr b="0" i="1" lang="pt-BR" sz="2800" spc="-1" strike="noStrike">
                <a:solidFill>
                  <a:srgbClr val="000000"/>
                </a:solidFill>
                <a:latin typeface="Comic Sans MS"/>
              </a:rPr>
              <a:t>alf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051560" indent="-2102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Feitos pelo usuário, geralmente nas instalações do desenvolvedor, que observa e registra erros e/ou problema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34960-C66E-45C9-8C7C-B7640A802684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Comic Sans MS"/>
              </a:rPr>
              <a:t>Estágios de teste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Testes de aceitação (“caixa preta”) são realizados pelo usuári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Testes </a:t>
            </a:r>
            <a:r>
              <a:rPr b="0" i="1" lang="pt-BR" sz="2800" spc="-1" strike="noStrike">
                <a:solidFill>
                  <a:srgbClr val="000000"/>
                </a:solidFill>
                <a:latin typeface="Comic Sans MS"/>
              </a:rPr>
              <a:t>bet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Feitos pelo usuário, geralmente em suas próprias instalações, sem a supervisão do desenvolvedor. Os problemas detectados são então relatados para o desenvolvedo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3AF3B-C077-46A5-B7DF-53CBF5E64127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Comic Sans MS"/>
              </a:rPr>
              <a:t>Tipos de Teste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São definidos em relação aos diversos tipos de requisitos descritos no documento de requisit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Alguns exemplos são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Teste funciona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Teste de recuperação de falha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Teste de seguranç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Teste de performan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Teste de carg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C9BA4-D6B4-482B-98A7-1B52C09528DD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Comic Sans MS"/>
              </a:rPr>
              <a:t>Tipos de teste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Teste funcional (regras de negócio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A funcionalidade geral do sistema em termos de regras de negócio (fluxo de trabalho) é testad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Condições válidas e inválida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FAF57-BB0B-4701-BBDD-48C27BF0FA2E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Comic Sans MS"/>
              </a:rPr>
              <a:t>Tipos de teste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Teste de recuperação de falh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O software é forçado a falhar de diversas maneiras para que seja verificado o seu comportament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Bem como a adequação dos procedimentos de recuperaçã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A recuperação pode ser automática ou exigir intervenção human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5923F-5899-48EC-831F-D7AC56CDFD61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Comic Sans MS"/>
              </a:rPr>
              <a:t>Tipos de teste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Teste de segurança e controle de acess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Verifica se todos os mecanismos de proteção de acesso estão funcionando satisfatoriamen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Teste de integridade de dado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Verifica a corretude dos métodos de acesso à base de dados e a garantia das informações armazenada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16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175A1-8C25-4E42-843F-45D8BDEDE71C}" type="slidenum">
              <a:rPr b="0" lang="pt-BR" sz="1400" spc="-1" strike="noStrike">
                <a:solidFill>
                  <a:srgbClr val="1c1c1c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Conceitos Básicos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6A121-C6C8-43E6-A77B-E603AE153A16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Comic Sans MS"/>
              </a:rPr>
              <a:t>Tipos de teste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Teste de performance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Verifica o tempo de resposta e processamento (para diferentes configurações, número de usuários, tamanho do BD, etc.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Exempl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ecuperar conta de usuário em x segund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São necessários defini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ervidores e clientes, sistemas operacionais e protocolos utilizad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0A247-3F9B-481D-8969-FD863BF91491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Comic Sans MS"/>
              </a:rPr>
              <a:t>Tipos de teste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Teste de volume (carga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Foca em transações do B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Verifica se o sistema suporta altos volumes de dados em uma única transaçã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Verifica o número de terminais, modems e bytes de memória que é possível gerencia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C4648-9499-466F-B5A9-19B6C52A6A7B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Comic Sans MS"/>
              </a:rPr>
              <a:t>Tipos de teste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Teste de estresse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Verifica a funcionalidade do sistema em situações limi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ouca memória ou área em disco, alta competição por recursos compartilhados (ex: vários acessos/transações no BD ou rede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xemplo:</a:t>
            </a:r>
            <a:r>
              <a:rPr b="0" i="1" lang="pt-BR" sz="2000" spc="-1" strike="noStrike">
                <a:solidFill>
                  <a:srgbClr val="000000"/>
                </a:solidFill>
                <a:latin typeface="Comic Sans MS"/>
              </a:rPr>
              <a:t> pode-se desejar saber se um sistema de transações bancárias suporta uma carga de mais de 100 transações por segundo ou se um sistema operacional pode manipular mais de 200 terminais remot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91F49-0563-4656-9BE9-EF56208E65A1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Comic Sans MS"/>
              </a:rPr>
              <a:t>Tipos de teste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Teste de configuração ou portabilidad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Verifica o funcionamento adequado do sistema em diferentes configurações de hardware/softwar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O que testa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ompatibilidade do software/hardwar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onfiguração do servid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Tipos de conexões com a Interne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ompatibilidade com o brows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DDA97-6D3F-4931-951F-9A24C0946FED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Comic Sans MS"/>
              </a:rPr>
              <a:t>Tipos de teste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Teste de instalação e desinstalaçã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Verifica a correta instalação e desinstalação do sistema para diferentes plataformas de hardware/software e opções de instalaçã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O que testa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ompatibilidade do hardware e softwar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Funcionalidade do instalador/desinstalador sob múltiplas opções/condições de instalaçã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GUI do programa instalador/desinstalad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923A5-72CF-4906-983D-2D4615BCEE5D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Comic Sans MS"/>
              </a:rPr>
              <a:t>Tipos de teste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Teste da GUI (usuário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Aparência e comportamento da GU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Navegaçã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Consistênci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Aderência a padrõ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Tempo de aprendizage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Funcionalidad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B598E-6DF6-44DD-B266-7D1D0A484A38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Comic Sans MS"/>
              </a:rPr>
              <a:t>Tipos de teste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Teste de documentaçã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Verifica se a documentação corresponde à informação correta e apropriada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onlin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scrit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help sensível ao context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Teste de ciclo de negóci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Garante que o sistema funciona adequadamente durante um ciclo de atividades relativas ao negóci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33A8E-5E23-4590-BFCB-5F36B2B0E1E9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Comic Sans MS"/>
              </a:rPr>
              <a:t>Teste de regressão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Re-execução de testes feitos após uma manutenção corretiva ou evolutiv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Em processos de desenvolvimento iterativos, muitos dos artefatos produzidos nas primeiras iterações são usados em iterações posterior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BF1D4-55EF-42DF-A28A-C0A8EFFE9AB7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Comic Sans MS"/>
              </a:rPr>
              <a:t>Bibliografia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Liskov, B. et al. Program Development in Java (Cap. 10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Sommerville, I. Software Engineering (Cap. 20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16043-5B7F-416F-B18D-9B227640BE8A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Falha, Falta e Erro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alh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capacidade do software de realizar a função requisitada (aspecto externo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empl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erminação anormal, restrição temporal violad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0F8DF-E7EA-4EC3-97DB-B14C025FD365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Falha, Falta e Erro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alt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usa de uma falh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empl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ódigo incorreto ou faltan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E0802-46BE-40BE-B68F-D3A6A5B74DF7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Falha, Falta e Erro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rr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stado intermediário (instabilidade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vém de uma falt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de resultar em falha, se propagado até a saíd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6912C-E23E-42EE-B17F-5BA4126E9A8C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Falta, erro e falha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758880" y="3141720"/>
            <a:ext cx="135720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rebuchet MS"/>
              </a:rPr>
              <a:t>Falta</a:t>
            </a:r>
            <a:endParaRPr b="0" lang="en-US" sz="4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6" name="Group 13"/>
          <p:cNvGrpSpPr/>
          <p:nvPr/>
        </p:nvGrpSpPr>
        <p:grpSpPr>
          <a:xfrm>
            <a:off x="2556000" y="3141720"/>
            <a:ext cx="2626920" cy="718560"/>
            <a:chOff x="2556000" y="3141720"/>
            <a:chExt cx="2626920" cy="718560"/>
          </a:xfrm>
        </p:grpSpPr>
        <p:sp>
          <p:nvSpPr>
            <p:cNvPr id="127" name="Text Box 5"/>
            <p:cNvSpPr/>
            <p:nvPr/>
          </p:nvSpPr>
          <p:spPr>
            <a:xfrm>
              <a:off x="3967560" y="3141720"/>
              <a:ext cx="1215360" cy="7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100" spc="-1" strike="noStrike">
                  <a:solidFill>
                    <a:srgbClr val="000000"/>
                  </a:solidFill>
                  <a:latin typeface="Trebuchet MS"/>
                </a:rPr>
                <a:t>Erro</a:t>
              </a:r>
              <a:endParaRPr b="0" lang="en-US" sz="4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8" name="AutoShape 6"/>
            <p:cNvSpPr/>
            <p:nvPr/>
          </p:nvSpPr>
          <p:spPr>
            <a:xfrm>
              <a:off x="2556000" y="3303720"/>
              <a:ext cx="976320" cy="485640"/>
            </a:xfrm>
            <a:prstGeom prst="rightArrow">
              <a:avLst>
                <a:gd name="adj1" fmla="val 50000"/>
                <a:gd name="adj2" fmla="val 50259"/>
              </a:avLst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29" name="Group 14"/>
          <p:cNvGrpSpPr/>
          <p:nvPr/>
        </p:nvGrpSpPr>
        <p:grpSpPr>
          <a:xfrm>
            <a:off x="5683320" y="3141720"/>
            <a:ext cx="2801520" cy="718560"/>
            <a:chOff x="5683320" y="3141720"/>
            <a:chExt cx="2801520" cy="718560"/>
          </a:xfrm>
        </p:grpSpPr>
        <p:sp>
          <p:nvSpPr>
            <p:cNvPr id="130" name="Text Box 8"/>
            <p:cNvSpPr/>
            <p:nvPr/>
          </p:nvSpPr>
          <p:spPr>
            <a:xfrm>
              <a:off x="6993360" y="3141720"/>
              <a:ext cx="1491480" cy="7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100" spc="-1" strike="noStrike">
                  <a:solidFill>
                    <a:srgbClr val="000000"/>
                  </a:solidFill>
                  <a:latin typeface="Trebuchet MS"/>
                </a:rPr>
                <a:t>Falha</a:t>
              </a:r>
              <a:endParaRPr b="0" lang="en-US" sz="4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1" name="AutoShape 9"/>
            <p:cNvSpPr/>
            <p:nvPr/>
          </p:nvSpPr>
          <p:spPr>
            <a:xfrm>
              <a:off x="5683320" y="3303720"/>
              <a:ext cx="976320" cy="485640"/>
            </a:xfrm>
            <a:prstGeom prst="rightArrow">
              <a:avLst>
                <a:gd name="adj1" fmla="val 50000"/>
                <a:gd name="adj2" fmla="val 50259"/>
              </a:avLst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9A852-A440-4C98-A0D9-80A42CD479D2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Noção de confiabilidade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gumas faltas escaparão inevitavelment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anto dos test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Quanto da depuraçã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alta pode ser mais ou menos perturbador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pendendo do que se trate e em qual freqüência irá surgir para o usuário fina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2F7C1-8B4F-402B-B8D3-32898B020F6B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Noção de confiabilidade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ssim, precisamos de uma referência para decidi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76080" indent="-2599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Quando liberar ou não sistema para us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fiabilidade de softwar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76080" indent="-2599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É uma estimativa probabilístic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76080" indent="-2599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de a freqüência com que um software irá executar sem falh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040040" indent="-2077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m dado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mbien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040040" indent="-2077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 por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determinado período de temp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0T12:19:55Z</dcterms:created>
  <dc:creator>acm</dc:creator>
  <dc:description/>
  <dc:language>en-US</dc:language>
  <cp:lastModifiedBy>Alexandre Vasconcelos</cp:lastModifiedBy>
  <dcterms:modified xsi:type="dcterms:W3CDTF">2010-04-15T14:28:09Z</dcterms:modified>
  <cp:revision>164</cp:revision>
  <dc:subject/>
  <dc:title>Testes</dc:title>
</cp:coreProperties>
</file>