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0CF-5FE1-4672-AADF-BE04E698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005-D5D6-4B56-B797-859598F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1DB-0C59-4644-BEA4-993B1998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452-3630-4B90-B096-B2E9E25D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D250-6BEF-4613-81CD-4F78C2E6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F097-D061-4B65-B2A6-C54AD76F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571C-4AC7-42FE-A681-9635403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FC7-09CF-4E80-9D70-3AE8A23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F4D-E9EE-485B-AD35-5EAFCFB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703-0730-4F8D-A512-FF6AF5E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DB92-E3B5-4B07-9E10-9C21D2E5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AB5-2E72-4FF9-B348-8B865368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C37B-DC5A-4A18-86F6-4CAEFEC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CF83-EA6A-4545-BD48-562CB43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41D-4450-4D42-A58D-11B1AF4A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9963-53F5-4324-A732-E0DFFEBB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ADD-4DDA-4FD3-8431-2A4A779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17C-5602-42A2-87A9-CC84019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71C-CD42-485D-BE0C-20211D6E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207-F508-45CC-9B09-5846DF7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978-5725-491B-A535-50BBA42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1DB-4FC8-4D24-A8A6-804E8AF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31F-33F1-489E-9850-D102D3B6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E72-DFFD-41D5-94C0-2A1E462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2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Group 37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Object 38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Object 3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Object 39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59AB-DF4F-4AE0-B27F-461D4CC8A9C3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6" name="Group 53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57" name="Line 54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Line 55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Line 56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Line 57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1" name="Picture 61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0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Rectangle 63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" name="Picture 62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EFF-D1C4-4BB0-A78C-ADB54A83E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ngenharia de </a:t>
            </a: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oftware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istem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48320" y="3505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Danilo Veras e </a:t>
            </a:r>
            <a:r>
              <a:rPr b="1" i="1" lang="en-US" sz="2000" spc="-1" strike="noStrike">
                <a:solidFill>
                  <a:srgbClr val="1d528d"/>
                </a:solidFill>
                <a:latin typeface="Arial"/>
              </a:rPr>
              <a:t>Rebeka Gom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Para cada caso de uso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Encontrar classes de anális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Identificar persistência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Para cada classe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Distribuir comportamento entre ela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Descrever responsabilidad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Descrever atributos e associaçõe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Revisar resultados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O comportamento do caso de uso é distribuído em classes de análise dos seguintes tipos (estereótipos)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Fronteir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Controle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Entidad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Utilizado apenas como convenções, devem sumir na fase de projeto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Frontei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Modelam uma interação entre o sistema e um ator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Esteriótipo &lt;&lt;boundary&gt;&gt;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2" name="Group 41"/>
          <p:cNvGrpSpPr/>
          <p:nvPr/>
        </p:nvGrpSpPr>
        <p:grpSpPr>
          <a:xfrm>
            <a:off x="2362320" y="3124080"/>
            <a:ext cx="4077360" cy="3417840"/>
            <a:chOff x="2362320" y="3124080"/>
            <a:chExt cx="4077360" cy="3417840"/>
          </a:xfrm>
        </p:grpSpPr>
        <p:sp>
          <p:nvSpPr>
            <p:cNvPr id="133" name="Line 7"/>
            <p:cNvSpPr/>
            <p:nvPr/>
          </p:nvSpPr>
          <p:spPr>
            <a:xfrm>
              <a:off x="4191120" y="3570120"/>
              <a:ext cx="0" cy="1066680"/>
            </a:xfrm>
            <a:prstGeom prst="line">
              <a:avLst/>
            </a:prstGeom>
            <a:ln w="38160">
              <a:solidFill>
                <a:srgbClr val="a2170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34" name="Picture 12" descr=""/>
            <p:cNvPicPr/>
            <p:nvPr/>
          </p:nvPicPr>
          <p:blipFill>
            <a:blip r:embed="rId1"/>
            <a:stretch/>
          </p:blipFill>
          <p:spPr>
            <a:xfrm>
              <a:off x="2362320" y="4713120"/>
              <a:ext cx="2819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16"/>
            <p:cNvSpPr/>
            <p:nvPr/>
          </p:nvSpPr>
          <p:spPr>
            <a:xfrm>
              <a:off x="3200760" y="6084720"/>
              <a:ext cx="838080" cy="45720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[UC 01]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Oval 25"/>
            <p:cNvSpPr/>
            <p:nvPr/>
          </p:nvSpPr>
          <p:spPr>
            <a:xfrm>
              <a:off x="2827440" y="3124080"/>
              <a:ext cx="244440" cy="2444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2935440" y="3355920"/>
              <a:ext cx="1800" cy="203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759400" y="3409920"/>
              <a:ext cx="36828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Freeform 28"/>
            <p:cNvSpPr/>
            <p:nvPr/>
          </p:nvSpPr>
          <p:spPr>
            <a:xfrm>
              <a:off x="2691000" y="3558960"/>
              <a:ext cx="504720" cy="25884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2784960" y="393984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Ator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30"/>
            <p:cNvSpPr/>
            <p:nvPr/>
          </p:nvSpPr>
          <p:spPr>
            <a:xfrm>
              <a:off x="5254920" y="3219120"/>
              <a:ext cx="954000" cy="50328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5030640" y="3844800"/>
              <a:ext cx="140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dastrarProduto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Freeform 32"/>
            <p:cNvSpPr/>
            <p:nvPr/>
          </p:nvSpPr>
          <p:spPr>
            <a:xfrm>
              <a:off x="4218120" y="3463920"/>
              <a:ext cx="1036800" cy="6804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 flipV="1">
              <a:off x="5091480" y="3409920"/>
              <a:ext cx="163440" cy="54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 flipH="1">
              <a:off x="3195720" y="3463920"/>
              <a:ext cx="10224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tid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Representam abstrações e conceitos chave dos casos de uso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Identificando Entidades: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Identificar substantivos no fluxo de eventos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Remover candidatos redundantes e vagos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Remover atores que apenas interagem com o sistema mas não fazem parte da modelagem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Remover atributos (serão usados mais tarde) e operações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Esteriótipo &lt;&lt;entity&gt;&gt;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ntid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[UC 01]: Cadastrar Produt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[UC 02]: Efetuar Login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2033640" cy="13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1447920" y="5029200"/>
            <a:ext cx="203364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3825720" y="2666880"/>
            <a:ext cx="2803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Contr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Coordenam o comportamento (lógica de controle) do caso de uso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Interface entre fronteira e entidade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Esteriótipo &lt;&lt;control&gt;&gt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563904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286000" cy="1295640"/>
          </a:xfrm>
          <a:prstGeom prst="rect">
            <a:avLst/>
          </a:prstGeom>
          <a:ln w="0">
            <a:noFill/>
          </a:ln>
        </p:spPr>
      </p:pic>
      <p:sp>
        <p:nvSpPr>
          <p:cNvPr id="157" name="Line 7"/>
          <p:cNvSpPr/>
          <p:nvPr/>
        </p:nvSpPr>
        <p:spPr>
          <a:xfrm>
            <a:off x="5105520" y="4191120"/>
            <a:ext cx="1143000" cy="152280"/>
          </a:xfrm>
          <a:prstGeom prst="line">
            <a:avLst/>
          </a:prstGeom>
          <a:ln w="38160">
            <a:solidFill>
              <a:srgbClr val="a217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152280" y="5029200"/>
            <a:ext cx="3200400" cy="1603440"/>
          </a:xfrm>
          <a:prstGeom prst="rect">
            <a:avLst/>
          </a:prstGeom>
          <a:ln w="0">
            <a:noFill/>
          </a:ln>
        </p:spPr>
      </p:pic>
      <p:sp>
        <p:nvSpPr>
          <p:cNvPr id="159" name="Line 9"/>
          <p:cNvSpPr/>
          <p:nvPr/>
        </p:nvSpPr>
        <p:spPr>
          <a:xfrm flipH="1">
            <a:off x="3352680" y="5867280"/>
            <a:ext cx="609840" cy="0"/>
          </a:xfrm>
          <a:prstGeom prst="line">
            <a:avLst/>
          </a:prstGeom>
          <a:ln w="38160">
            <a:solidFill>
              <a:srgbClr val="a217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Persistê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Identificar as classes de entidade que devem ser persistentes,e para cada uma criar uma nova class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Esteriótipo &lt;&lt; Entity Collection &gt;&gt;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[UC 01]: Cadastrar Produt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[UC 02]: Efetuar Login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1752480" y="5562720"/>
            <a:ext cx="4876920" cy="1127160"/>
            <a:chOff x="1752480" y="5562720"/>
            <a:chExt cx="4876920" cy="1127160"/>
          </a:xfrm>
        </p:grpSpPr>
        <p:pic>
          <p:nvPicPr>
            <p:cNvPr id="163" name="Picture 5" descr=""/>
            <p:cNvPicPr/>
            <p:nvPr/>
          </p:nvPicPr>
          <p:blipFill>
            <a:blip r:embed="rId1"/>
            <a:stretch/>
          </p:blipFill>
          <p:spPr>
            <a:xfrm>
              <a:off x="1752480" y="5562720"/>
              <a:ext cx="17290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4114800" y="5562720"/>
              <a:ext cx="2514600" cy="10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Line 9"/>
          <p:cNvSpPr/>
          <p:nvPr/>
        </p:nvSpPr>
        <p:spPr>
          <a:xfrm flipH="1">
            <a:off x="2437920" y="4038480"/>
            <a:ext cx="381240" cy="0"/>
          </a:xfrm>
          <a:prstGeom prst="line">
            <a:avLst/>
          </a:prstGeom>
          <a:ln w="38160">
            <a:solidFill>
              <a:srgbClr val="a217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429000" y="5867280"/>
            <a:ext cx="762120" cy="0"/>
          </a:xfrm>
          <a:prstGeom prst="line">
            <a:avLst/>
          </a:prstGeom>
          <a:ln w="38160">
            <a:solidFill>
              <a:srgbClr val="a217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0" y="3886200"/>
            <a:ext cx="9144000" cy="1027080"/>
            <a:chOff x="0" y="3886200"/>
            <a:chExt cx="9144000" cy="1027080"/>
          </a:xfrm>
        </p:grpSpPr>
        <p:pic>
          <p:nvPicPr>
            <p:cNvPr id="168" name="Picture 4" descr=""/>
            <p:cNvPicPr/>
            <p:nvPr/>
          </p:nvPicPr>
          <p:blipFill>
            <a:blip r:embed="rId3"/>
            <a:stretch/>
          </p:blipFill>
          <p:spPr>
            <a:xfrm>
              <a:off x="2819520" y="3886200"/>
              <a:ext cx="157644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"/>
            <p:cNvPicPr/>
            <p:nvPr/>
          </p:nvPicPr>
          <p:blipFill>
            <a:blip r:embed="rId4"/>
            <a:stretch/>
          </p:blipFill>
          <p:spPr>
            <a:xfrm>
              <a:off x="4267080" y="3886200"/>
              <a:ext cx="2133720" cy="9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7" descr=""/>
            <p:cNvPicPr/>
            <p:nvPr/>
          </p:nvPicPr>
          <p:blipFill>
            <a:blip r:embed="rId5"/>
            <a:stretch/>
          </p:blipFill>
          <p:spPr>
            <a:xfrm>
              <a:off x="6629400" y="3886200"/>
              <a:ext cx="2514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1" descr=""/>
            <p:cNvPicPr/>
            <p:nvPr/>
          </p:nvPicPr>
          <p:blipFill>
            <a:blip r:embed="rId6"/>
            <a:stretch/>
          </p:blipFill>
          <p:spPr>
            <a:xfrm>
              <a:off x="0" y="3886200"/>
              <a:ext cx="2514600" cy="10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Line 12"/>
          <p:cNvSpPr/>
          <p:nvPr/>
        </p:nvSpPr>
        <p:spPr>
          <a:xfrm>
            <a:off x="6324480" y="4038480"/>
            <a:ext cx="381240" cy="0"/>
          </a:xfrm>
          <a:prstGeom prst="line">
            <a:avLst/>
          </a:prstGeom>
          <a:ln w="38160">
            <a:solidFill>
              <a:srgbClr val="a217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Seqüênc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É utilizado para representar aspectos </a:t>
            </a:r>
            <a:r>
              <a:rPr b="1" lang="pt-BR" sz="3200" spc="-1" strike="noStrike" u="sng">
                <a:solidFill>
                  <a:srgbClr val="1d528d"/>
                </a:solidFill>
                <a:uFillTx/>
                <a:latin typeface="Arial"/>
              </a:rPr>
              <a:t>dinâmicos</a:t>
            </a: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 do sistema através da troca de mensagens entre </a:t>
            </a:r>
            <a:r>
              <a:rPr b="1" lang="pt-BR" sz="3200" spc="-1" strike="noStrike" u="sng">
                <a:solidFill>
                  <a:srgbClr val="1d528d"/>
                </a:solidFill>
                <a:uFillTx/>
                <a:latin typeface="Arial"/>
              </a:rPr>
              <a:t>objetos</a:t>
            </a: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É construído para cada caso de uso, utilizando seu respectivo fluxo de evento e classes de análise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Os objetos trocam mensagens entre si para assim, realizar o caso de uso.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Seqüênc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[UC 01: Cadastrar Produto]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048120" y="4419720"/>
            <a:ext cx="3200400" cy="609480"/>
          </a:xfrm>
          <a:prstGeom prst="rect">
            <a:avLst/>
          </a:prstGeom>
          <a:solidFill>
            <a:srgbClr val="2d6bc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Seqüênci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[UC 02: Efetuar  Login]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2971800" y="4419720"/>
            <a:ext cx="3200400" cy="53316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4191120" y="4952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657600" y="6477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d528d"/>
                </a:solidFill>
                <a:latin typeface="Arial"/>
              </a:rPr>
              <a:t>Poderia reportar um erro também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981080" y="2590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nális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981080" y="34290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Projeto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981080" y="175248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Revisã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1981080" y="41911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xercíci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Já podemos identificar os relacionamentos, os métodos e os atributos das classes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Cada iteração no diagrama de seqüência corresponde a um relacionamento no diagrama de class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Picture 15" descr=""/>
          <p:cNvPicPr/>
          <p:nvPr/>
        </p:nvPicPr>
        <p:blipFill>
          <a:blip r:embed="rId1"/>
          <a:srcRect l="0" t="0" r="52475" b="55182"/>
          <a:stretch/>
        </p:blipFill>
        <p:spPr>
          <a:xfrm>
            <a:off x="914400" y="3657600"/>
            <a:ext cx="36576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61"/>
          <p:cNvGrpSpPr/>
          <p:nvPr/>
        </p:nvGrpSpPr>
        <p:grpSpPr>
          <a:xfrm>
            <a:off x="5562720" y="3276720"/>
            <a:ext cx="3343320" cy="3267000"/>
            <a:chOff x="5562720" y="3276720"/>
            <a:chExt cx="3343320" cy="3267000"/>
          </a:xfrm>
        </p:grpSpPr>
        <p:sp>
          <p:nvSpPr>
            <p:cNvPr id="189" name="AutoShape 30"/>
            <p:cNvSpPr/>
            <p:nvPr/>
          </p:nvSpPr>
          <p:spPr>
            <a:xfrm>
              <a:off x="5562720" y="3276720"/>
              <a:ext cx="3343320" cy="32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6548400" y="4573800"/>
              <a:ext cx="50760" cy="29988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 flipV="1">
              <a:off x="6497280" y="4764240"/>
              <a:ext cx="5076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V="1">
              <a:off x="6548400" y="4264200"/>
              <a:ext cx="1800" cy="30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Rectangle 41"/>
            <p:cNvSpPr/>
            <p:nvPr/>
          </p:nvSpPr>
          <p:spPr>
            <a:xfrm>
              <a:off x="5737320" y="4884840"/>
              <a:ext cx="1622160" cy="60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Rectangle 42"/>
            <p:cNvSpPr/>
            <p:nvPr/>
          </p:nvSpPr>
          <p:spPr>
            <a:xfrm>
              <a:off x="5940720" y="508320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ControladorLogin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Rectangle 43"/>
            <p:cNvSpPr/>
            <p:nvPr/>
          </p:nvSpPr>
          <p:spPr>
            <a:xfrm>
              <a:off x="5737320" y="5283360"/>
              <a:ext cx="1622160" cy="209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44"/>
            <p:cNvSpPr/>
            <p:nvPr/>
          </p:nvSpPr>
          <p:spPr>
            <a:xfrm>
              <a:off x="5791320" y="5334120"/>
              <a:ext cx="162216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45"/>
            <p:cNvSpPr/>
            <p:nvPr/>
          </p:nvSpPr>
          <p:spPr>
            <a:xfrm>
              <a:off x="6200280" y="4924440"/>
              <a:ext cx="67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&lt;&lt;control&gt;&gt;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Rectangle 46"/>
            <p:cNvSpPr/>
            <p:nvPr/>
          </p:nvSpPr>
          <p:spPr>
            <a:xfrm>
              <a:off x="5837400" y="3654720"/>
              <a:ext cx="1422360" cy="609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47"/>
            <p:cNvSpPr/>
            <p:nvPr/>
          </p:nvSpPr>
          <p:spPr>
            <a:xfrm>
              <a:off x="6031080" y="3854520"/>
              <a:ext cx="1061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FronteiraLogin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48"/>
            <p:cNvSpPr/>
            <p:nvPr/>
          </p:nvSpPr>
          <p:spPr>
            <a:xfrm>
              <a:off x="5837400" y="4054680"/>
              <a:ext cx="1422360" cy="209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Rectangle 49"/>
            <p:cNvSpPr/>
            <p:nvPr/>
          </p:nvSpPr>
          <p:spPr>
            <a:xfrm>
              <a:off x="5837400" y="4133880"/>
              <a:ext cx="1422360" cy="1303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Rectangle 50"/>
            <p:cNvSpPr/>
            <p:nvPr/>
          </p:nvSpPr>
          <p:spPr>
            <a:xfrm>
              <a:off x="6119640" y="369576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&lt;&lt;boundary&gt;&gt;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Relacionam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Associaçã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3200400" y="1533600"/>
            <a:ext cx="3343320" cy="3267000"/>
            <a:chOff x="3200400" y="1533600"/>
            <a:chExt cx="3343320" cy="3267000"/>
          </a:xfrm>
        </p:grpSpPr>
        <p:sp>
          <p:nvSpPr>
            <p:cNvPr id="206" name="AutoShape 5"/>
            <p:cNvSpPr/>
            <p:nvPr/>
          </p:nvSpPr>
          <p:spPr>
            <a:xfrm>
              <a:off x="3200400" y="1533600"/>
              <a:ext cx="3343320" cy="32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186080" y="2830680"/>
              <a:ext cx="51120" cy="299880"/>
            </a:xfrm>
            <a:prstGeom prst="pi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 flipH="1" flipV="1">
              <a:off x="4134960" y="3021120"/>
              <a:ext cx="50760" cy="10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 flipV="1">
              <a:off x="4186080" y="2521080"/>
              <a:ext cx="1800" cy="30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3375000" y="3141720"/>
              <a:ext cx="1622520" cy="608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3578760" y="33400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ControladorLogin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3375000" y="3540240"/>
              <a:ext cx="1622520" cy="209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13"/>
            <p:cNvSpPr/>
            <p:nvPr/>
          </p:nvSpPr>
          <p:spPr>
            <a:xfrm>
              <a:off x="3837960" y="3181320"/>
              <a:ext cx="67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&lt;&lt;control&gt;&gt;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3475080" y="1911240"/>
              <a:ext cx="1422360" cy="6098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3669120" y="2111400"/>
              <a:ext cx="1061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"/>
                </a:rPr>
                <a:t>FronteiraLogin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475080" y="2311560"/>
              <a:ext cx="1422360" cy="209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475080" y="2390760"/>
              <a:ext cx="1422360" cy="1303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757320" y="195264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&lt;&lt;boundary&gt;&gt;</a:t>
              </a: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9" name="Rectangle 19"/>
          <p:cNvSpPr/>
          <p:nvPr/>
        </p:nvSpPr>
        <p:spPr>
          <a:xfrm>
            <a:off x="609480" y="4191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Agregação X Composiçã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Dependênci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3352680" y="3657600"/>
            <a:ext cx="1600200" cy="0"/>
          </a:xfrm>
          <a:prstGeom prst="line">
            <a:avLst/>
          </a:prstGeom>
          <a:ln w="9360">
            <a:solidFill>
              <a:srgbClr val="a21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s métodos são identificados através do diagrama de seqüência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Podemos identificar os atributos mais ainda não podemos identificar o tipo de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457200" y="1752480"/>
            <a:ext cx="8077320" cy="3809880"/>
            <a:chOff x="457200" y="1752480"/>
            <a:chExt cx="8077320" cy="3809880"/>
          </a:xfrm>
        </p:grpSpPr>
        <p:grpSp>
          <p:nvGrpSpPr>
            <p:cNvPr id="225" name="Group 5"/>
            <p:cNvGrpSpPr/>
            <p:nvPr/>
          </p:nvGrpSpPr>
          <p:grpSpPr>
            <a:xfrm>
              <a:off x="457200" y="1752480"/>
              <a:ext cx="8077320" cy="3809880"/>
              <a:chOff x="457200" y="1752480"/>
              <a:chExt cx="8077320" cy="3809880"/>
            </a:xfrm>
          </p:grpSpPr>
          <p:sp>
            <p:nvSpPr>
              <p:cNvPr id="226" name="Rectangle 6"/>
              <p:cNvSpPr/>
              <p:nvPr/>
            </p:nvSpPr>
            <p:spPr>
              <a:xfrm>
                <a:off x="457200" y="1752480"/>
                <a:ext cx="3657600" cy="3809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27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542880" y="1904760"/>
                <a:ext cx="3343320" cy="32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Rectangle 8"/>
              <p:cNvSpPr/>
              <p:nvPr/>
            </p:nvSpPr>
            <p:spPr>
              <a:xfrm>
                <a:off x="4496040" y="1752480"/>
                <a:ext cx="4038480" cy="3809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2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9920" y="1904760"/>
                <a:ext cx="3878280" cy="320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Rectangle 10"/>
            <p:cNvSpPr/>
            <p:nvPr/>
          </p:nvSpPr>
          <p:spPr>
            <a:xfrm>
              <a:off x="609840" y="1904760"/>
              <a:ext cx="838080" cy="45720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[UC 01]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7467840" y="1981080"/>
              <a:ext cx="838080" cy="457200"/>
            </a:xfrm>
            <a:prstGeom prst="rect">
              <a:avLst/>
            </a:prstGeom>
            <a:solidFill>
              <a:srgbClr val="2d6bc7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[UC 02]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Text Box 12"/>
          <p:cNvSpPr/>
          <p:nvPr/>
        </p:nvSpPr>
        <p:spPr>
          <a:xfrm>
            <a:off x="53352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Faltam os métodos e os atributos!!!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2362320" y="3124080"/>
            <a:ext cx="4343400" cy="129564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jeto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09480" y="1523880"/>
            <a:ext cx="8077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Mais concreto do que o modelo de anális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Depende da tecnologia de implementaçã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Unificação em um único model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Definição da arquitetura do sistem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Proposição de padrões de projet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Projetar arquitetura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d528d"/>
                </a:solidFill>
                <a:latin typeface="Arial"/>
              </a:rPr>
              <a:t>Projetar Banco de Dado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Modelo de Proje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09480" y="152388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Agrupar todas as classes de análise em um único diagram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Identificar redundânc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Criar ou remover class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Identificar interfaces entre os grupos maior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finamento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09480" y="1523880"/>
            <a:ext cx="8077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Adicionar modificadores de visibilidade aos métodos e atribu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Definir os tipos dos atribu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Definir o tipo do retorno e dos parâmetro dos métod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Identificar padrões de proje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finamento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1523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Dividir o sistema em camad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A mais comum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rquitetura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286000" y="2666880"/>
            <a:ext cx="4038480" cy="60984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Apresentaçã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286000" y="4191120"/>
            <a:ext cx="4038480" cy="609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Negóci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286000" y="4952880"/>
            <a:ext cx="40384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2286000" y="3429000"/>
            <a:ext cx="4038480" cy="6094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533520" y="5715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d528d"/>
                </a:solidFill>
                <a:latin typeface="Arial"/>
              </a:rPr>
              <a:t>Utilizar pacotes para organizar as classes em grup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Diagrama de Classes – Modelo de Proje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229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3"/>
          <p:cNvSpPr/>
          <p:nvPr/>
        </p:nvSpPr>
        <p:spPr>
          <a:xfrm>
            <a:off x="2362320" y="3124080"/>
            <a:ext cx="4343400" cy="129564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VISÃO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ergunt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2514600" y="2209680"/>
            <a:ext cx="44197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6bc7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?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d6bc7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Revis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152388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O que temos até agora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Fluxo principal de eventos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Modelo de Casos de Uso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Pre-condições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d528d"/>
                </a:solidFill>
                <a:latin typeface="Arial"/>
              </a:rPr>
              <a:t>Pos-condições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[UC 01]: Cadastrar Produto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2392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[UC 01]: Cadastrar Produto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1d528d"/>
                </a:solidFill>
                <a:uFillTx/>
                <a:latin typeface="Arial"/>
              </a:rPr>
              <a:t>Fluxo Principa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&lt;&lt;include&gt;&gt; [UC 02: Efetuar Login]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 ator preenche todas informações necessárias ao novo produto e confirma a operação;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 sistema verifica se o produto não existe. </a:t>
            </a:r>
            <a:r>
              <a:rPr b="0" i="1" lang="pt-BR" sz="2400" spc="-1" strike="noStrike" u="sng">
                <a:solidFill>
                  <a:srgbClr val="1d528d"/>
                </a:solidFill>
                <a:uFillTx/>
                <a:latin typeface="Arial"/>
              </a:rPr>
              <a:t>Caso não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, o produto é adicionado ao sistema;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 ator é informado do sucesso da informação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1d528d"/>
                </a:solidFill>
                <a:uFillTx/>
                <a:latin typeface="Arial"/>
              </a:rPr>
              <a:t>Fluxo Alternativo: Produto Existent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[</a:t>
            </a:r>
            <a:r>
              <a:rPr b="0" i="1" lang="pt-BR" sz="2400" spc="-1" strike="noStrike" u="sng">
                <a:solidFill>
                  <a:srgbClr val="1d528d"/>
                </a:solidFill>
                <a:uFillTx/>
                <a:latin typeface="Arial"/>
              </a:rPr>
              <a:t>Passo 3 do FP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]: Se acusar que o produto já existe, o ator é informado, e dessa forma, não pode ser adicionado novamente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[UC 02]: Efetuar Logi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1d528d"/>
                </a:solidFill>
                <a:uFillTx/>
                <a:latin typeface="Arial"/>
              </a:rPr>
              <a:t>Fluxo Principa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 ator preenche as informações necessárias (login/senha, por exemplo) e confirma a transação;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O sistema verifica a existência de um usuário com aquele respectivo conjunto de informações. </a:t>
            </a:r>
            <a:r>
              <a:rPr b="0" i="1" lang="pt-BR" sz="2400" spc="-1" strike="noStrike" u="sng">
                <a:solidFill>
                  <a:srgbClr val="1d528d"/>
                </a:solidFill>
                <a:uFillTx/>
                <a:latin typeface="Arial"/>
              </a:rPr>
              <a:t>Caso exista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, o ator tem acesso à tela principal do sistema.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1d528d"/>
                </a:solidFill>
                <a:uFillTx/>
                <a:latin typeface="Arial"/>
              </a:rPr>
              <a:t>Fluxo Alternativo: Usuário Inexistent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[</a:t>
            </a:r>
            <a:r>
              <a:rPr b="0" i="1" lang="pt-BR" sz="2400" spc="-1" strike="noStrike" u="sng">
                <a:solidFill>
                  <a:srgbClr val="1d528d"/>
                </a:solidFill>
                <a:uFillTx/>
                <a:latin typeface="Arial"/>
              </a:rPr>
              <a:t>Passo 2 do FP</a:t>
            </a:r>
            <a:r>
              <a:rPr b="0" lang="pt-BR" sz="2400" spc="-1" strike="noStrike">
                <a:solidFill>
                  <a:srgbClr val="1d528d"/>
                </a:solidFill>
                <a:latin typeface="Arial"/>
              </a:rPr>
              <a:t>]: Se não existir um usuário com tais informações, o ator é informado do erro e da impossibilidade de obter acesso ao sistema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362320" y="3124080"/>
            <a:ext cx="4343400" cy="129564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5325c"/>
              </a:gs>
              <a:gs pos="50000">
                <a:srgbClr val="2d6bc7"/>
              </a:gs>
              <a:gs pos="100000">
                <a:srgbClr val="15325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nálise</a:t>
            </a:r>
            <a:endParaRPr b="0" lang="en-US" sz="4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ál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Visão </a:t>
            </a:r>
            <a:r>
              <a:rPr b="1" lang="pt-BR" sz="3200" spc="-1" strike="noStrike" u="sng">
                <a:solidFill>
                  <a:srgbClr val="1d528d"/>
                </a:solidFill>
                <a:uFillTx/>
                <a:latin typeface="Arial"/>
              </a:rPr>
              <a:t>estática</a:t>
            </a: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 do sistem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Cada caso de uso deve ser analisado </a:t>
            </a:r>
            <a:r>
              <a:rPr b="1" lang="pt-BR" sz="3200" spc="-1" strike="noStrike" u="sng">
                <a:solidFill>
                  <a:srgbClr val="1d528d"/>
                </a:solidFill>
                <a:uFillTx/>
                <a:latin typeface="Arial"/>
              </a:rPr>
              <a:t>isoladament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Encontrar as classes iniciais do sistema e distribuir o comportamento dos casos de uso entre ela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d528d"/>
                </a:solidFill>
                <a:latin typeface="Arial"/>
              </a:rPr>
              <a:t>Cada classe tem suas responsabilidades, atributos e associaçõ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5:28:17Z</dcterms:created>
  <dc:creator>jbjj</dc:creator>
  <dc:description/>
  <cp:keywords/>
  <dc:language>en-US</dc:language>
  <cp:lastModifiedBy>rgo2</cp:lastModifiedBy>
  <dcterms:modified xsi:type="dcterms:W3CDTF">2007-11-26T11:00:48Z</dcterms:modified>
  <cp:revision>11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