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EC9AEE-4009-4009-A678-BDB45207CE6E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9D0A39-8408-4D2E-8161-DE3650CEA7B4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7D966B-9812-4FD6-88AA-2B9F9C51CFC7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DEFF97-DE07-4C39-BE48-ABE70E428327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EA15C5-6B55-4893-84E9-60DAD65AFEE7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A91394-0470-498F-88F7-87EE713D0EB4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1DA992-97EA-4F87-B301-9E2CB8F3EC22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73305E-493F-4BF3-8CEE-D3E7D41A5EBE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E20F76-2642-454B-BCC2-00008A9BF78A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D22F09-081C-4298-9D0B-C841758DBC52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A756E1-5BE2-4364-8654-B71726DD1AF4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09673B-C71F-46CF-8318-A520843F1C55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9616BF-F544-48FC-815B-AFCB8E6A00AB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76DA17-5E9B-4B7B-BA08-38C2BD109951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960908-FFCB-48F9-A3D2-67C5EC4216C6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17B545-930D-4BE9-AE0F-4E0D799896B5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749898-4841-4A6A-866F-D73AC3BC7DC1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C66503-6484-4E92-8E91-EF0A20EE00C8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50EFBC-9772-4337-84EB-E535E861FFD6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80987D-968B-496F-A2B0-F95D9945D0AD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BEF1C0-E184-4AE7-9B1B-4A901E536DCE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FDE9A9-7A1C-400E-9C0F-6CFB4FDB3067}" type="slidenum">
              <a:rPr b="0" lang="pt-B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890-4A0B-4016-93E6-A5860C92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B7B-29E1-44C9-8B65-CFA18824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357-1BA7-4E3D-A218-9F02F3EC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6CE-98B9-413B-A578-14001B77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D28C-1A6E-4460-9D6D-ADDEB880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24AF-5C9C-4E21-AC20-CCE3307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C1D1-5403-4024-9390-8AA2794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913-D506-4694-8877-EC0518B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1A25-FDF0-4D38-A04F-A8B3AD21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B0A3-6717-4C62-AAA3-4BD7F4A1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0E20-E687-4905-87D2-0B076B17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4E4-56FF-4FF2-82D3-66C2C121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7147-526A-4ED8-A309-307C1C0E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25F0-7FC7-419D-AD6F-79884CF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74BF-0D83-42D0-B541-F8F0723F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0202-4F56-48F4-9A3A-BE9DCC4A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9DFD-14D2-4326-BBCE-F5B62F4E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49F-6EA5-4592-81B9-8159C7B5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7BE-F612-45C6-9BE1-8614887C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2C0-8442-433F-8D6F-62295E93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A5B-9FA5-4F32-BCAD-E119D056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BEB-1757-47D8-865B-850072C1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5F9-A702-4FCA-B20F-325A440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2B1-D8C5-416D-BAC6-5618455E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9/12/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9B1E-9923-4186-AB22-879408DF16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/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0C72-0790-41FF-9CA6-3BA85F394B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Verdana"/>
              </a:rPr>
              <a:t>Proje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1760" y="44953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Rafael Duar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Alexandre Mo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[rmd, acm]@cin.ufpe.b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5037-54A6-449F-94E4-0B92B1B87D9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Exemplo – diagrama ún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443640" cy="382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1668600" y="5029200"/>
            <a:ext cx="998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589A-A60D-49BD-AF99-1CE34804346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inar o modelo de cla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talhar assinatura dos méto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finir todos os parâmetros dos métodos, seu tipos e o tipo de retorno dos méto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apear associações em atribu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nalisar a possibilidade de utilizar heranç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78E8-59D2-4D07-9D19-9B38037A0F7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Exemplo – diagrama melhor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04880" y="1752480"/>
            <a:ext cx="7724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48E-4769-448B-A7DC-F89C845C9DC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inar o modelo de cla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dentificar padrões de pro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: Facha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Revisar as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AD1-56AF-46CA-9C58-966C56F3F76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Padr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553080" cy="4784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780960" y="3048120"/>
            <a:ext cx="9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Fachad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Verdana"/>
              </a:rPr>
              <a:t>Singlet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512E-9F8B-4A62-A3EA-953E41266BA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Projetar arquite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ividir o sistema em cama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rquitetura bem comu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5800" y="3048120"/>
            <a:ext cx="4038480" cy="60948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presenta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85800" y="4572000"/>
            <a:ext cx="403848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egóc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85800" y="5334120"/>
            <a:ext cx="403848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5424120" y="319968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face com o usuár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111280" y="457164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gras de negócio ineren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à aplicaçã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4903560" y="53334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ódigo relacionado ao mecan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persistência utiliz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685800" y="3809880"/>
            <a:ext cx="4038480" cy="6098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munica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5252400" y="3596760"/>
            <a:ext cx="29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municação entr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resentação e negócio 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m outros sistem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395-97AB-4D9D-8D36-F3CF550B748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Projetar Arquite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r que dividir em camada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umentar modular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iminuir dependênci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acilitar possível troca de camad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5ECC-DA89-444B-A7BA-26D7F39C0A9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ama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238880" cy="5416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4191120" y="838080"/>
            <a:ext cx="3962160" cy="990720"/>
          </a:xfrm>
          <a:prstGeom prst="rect">
            <a:avLst/>
          </a:prstGeom>
          <a:noFill/>
          <a:ln w="63360">
            <a:solidFill>
              <a:srgbClr val="879b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581280" y="2438280"/>
            <a:ext cx="4724640" cy="2514600"/>
          </a:xfrm>
          <a:prstGeom prst="rect">
            <a:avLst/>
          </a:prstGeom>
          <a:noFill/>
          <a:ln w="63360">
            <a:solidFill>
              <a:srgbClr val="2041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581280" y="5105520"/>
            <a:ext cx="4724640" cy="914400"/>
          </a:xfrm>
          <a:prstGeom prst="rect">
            <a:avLst/>
          </a:prstGeom>
          <a:noFill/>
          <a:ln w="63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95280" y="3886200"/>
            <a:ext cx="2057400" cy="990720"/>
          </a:xfrm>
          <a:prstGeom prst="rect">
            <a:avLst/>
          </a:prstGeom>
          <a:noFill/>
          <a:ln w="63360">
            <a:solidFill>
              <a:srgbClr val="2851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526040" y="350532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8517a"/>
                </a:solidFill>
                <a:latin typeface="Verdana"/>
              </a:rPr>
              <a:t>Comunicaçã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7206120" y="541008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c8c8c"/>
                </a:solidFill>
                <a:latin typeface="Verdan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396400" y="4572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79baf"/>
                </a:solidFill>
                <a:latin typeface="Verdana"/>
              </a:rPr>
              <a:t>Apresentaçã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925800" y="2057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1f3f5f"/>
                </a:solidFill>
                <a:latin typeface="Verdana"/>
              </a:rPr>
              <a:t>Negóci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912-9ED7-4DB0-B3DB-81FCECFC5D8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Divisão do sistema  em paco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grupar classes em paco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ssíveis critér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amad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ógica do siste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ritérios escolhidos devem minimizar a dependência entre os paco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riar um diagrama de pacotes indicando as dependências entre os paco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316A-DDA0-4C47-8D0B-2CE78E7A2B8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Paco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5867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474560" y="243828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Indicação do paco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da clas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32767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C2AD-6208-4873-BCE5-20CE427DB2F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Refinando o modelo de anál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rquite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aco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7B05-002E-4ED4-808D-60D27CBB1F6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Paco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2940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29C5-DCD0-4D11-B149-8CCEA92016B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he Unified Software Development Process - Jacobson, Rumbaugh, Boo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he UML Reference Manual - Rumbaugh, Jacobson, Boo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EF4A-8235-4EC8-8D5B-EDE4C9271DB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pós a etapa de análise temos um primeiro modelo d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Queremos agora melhorar esse modelo, a ponto de gerarmos facilmente a implementação d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ste modelo é chamado de modelo de Pro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DBA5-FF6B-4DA8-830E-1740A32CA95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120" y="2743200"/>
            <a:ext cx="129528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809880" y="2743200"/>
            <a:ext cx="129564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náli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705720" y="2743200"/>
            <a:ext cx="129528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oje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198108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600200" cy="1001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3"/>
          <p:cNvSpPr/>
          <p:nvPr/>
        </p:nvSpPr>
        <p:spPr>
          <a:xfrm>
            <a:off x="2590920" y="3657600"/>
            <a:ext cx="761760" cy="1219320"/>
          </a:xfrm>
          <a:prstGeom prst="rightArrow">
            <a:avLst>
              <a:gd name="adj1" fmla="val 58333"/>
              <a:gd name="adj2" fmla="val 575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5562720" y="3657600"/>
            <a:ext cx="761760" cy="1219320"/>
          </a:xfrm>
          <a:prstGeom prst="rightArrow">
            <a:avLst>
              <a:gd name="adj1" fmla="val 58333"/>
              <a:gd name="adj2" fmla="val 575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6248520" y="2514600"/>
            <a:ext cx="2133360" cy="914400"/>
          </a:xfrm>
          <a:prstGeom prst="ellipse">
            <a:avLst/>
          </a:prstGeom>
          <a:noFill/>
          <a:ln w="316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6C2C-8F04-446A-BD27-C4B37329FBC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nálise X Proje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bstrato X Concr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dependente X dependente da tecnologia de implement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imples X detalh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odelos por caso de uso X unificação em um único mode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E72A-EFF5-4B43-AA3A-FCC3C49F30E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tividades - Proje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Refinar o modelo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jetar arquite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amad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eparação em paco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jetar Banco de D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588-F531-4D37-9CF3-53F5E2053A6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inar o modelo de cla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Juntar todas as classes em um só diagr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nalisar se é necessário criar novas classes ou remover classes exist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liminar os estereótipos de análi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dicionar modificadores de visibilidade aos métodos e atribu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finir os tipos dos atribu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BE22-0491-41CC-A83E-5792CEB9134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Exemplo – Análise log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09/12/200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708F-F8EF-4D90-8410-A1279056F9E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2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Exemplo – Análise adicionar alu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042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re Vasconcelos</cp:lastModifiedBy>
  <dcterms:modified xsi:type="dcterms:W3CDTF">2008-04-28T19:04:42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