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19.png" ContentType="image/png"/>
  <Override PartName="/ppt/media/image20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5A1C-7E23-497D-847E-3BB33D62AB9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512F-37C6-489F-9AD7-3FB1BC153FB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F819-98C0-4C9C-BD6F-A84D75E4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0CE7-AC50-4CAD-91F0-DCB7C1F8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5B5D-E40F-451E-8808-A47C82C68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D9F0-07EC-451E-AD6D-3D4D19966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7B0C-1B1D-479A-97DC-FEDF990CD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BE39-2C7F-4DC8-8FAD-04780578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8DE2-5A89-4E6A-8505-6DD65122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5182-5DEC-41F3-83F2-ED3CCA5D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A20F-EEC6-45C6-AA9E-76872AB5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CCFE-2200-4A1C-937B-C5232D84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52B48-7E9A-41B1-8456-30A35AB4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98EE-1721-400F-8167-7FCD7C8B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E50C-E2D1-49BE-9A0D-9156B1EA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70D0-87C8-44B6-983B-ED3DC403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9909-4EBF-4929-B07B-1943FE80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6256-B182-4DE8-8388-A7CCE1012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434C-ACD9-47CE-874D-A73AC4FEE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BA381-9684-4583-A7B2-8A022F5DB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2A42A-2BC8-49A8-BD56-8CA39B5A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A67A1-D4C8-4A48-B16B-D668499E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EC753-20C8-4E9E-AC16-E0EBEA5A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35EFA-E927-4D0F-8275-F076D5AF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D3D3-DA8E-4924-AE70-7CE35F97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C8996-195B-4127-BB87-D9BD69A9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B8BD1-5C91-4697-BC97-E39CB7AF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D4100-A938-4747-B740-391089E0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F1561-700F-4547-9158-061A05EF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F5872-F1A0-4C75-B76B-D7BE1989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4D9B7-8800-4674-9D15-19A5A7918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395D8-AEF8-475D-9E5C-065E6C9F7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8F8C3-8E6A-4DB2-B44E-DB58CB174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7F4B8-9E99-4603-9C35-51ACA5F8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2280C-989F-4097-A011-943CCC30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C26B-81BA-4EDC-B4DF-25DE1CBB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9F9B1-AF67-4349-83AE-791BAC9F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FE780-805A-475C-A982-9D5ACDFD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15D65-6F38-4837-B61F-D66BD74B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08061-B1FB-474C-9BE5-D369CADC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B61E7-F8CB-46A6-9C73-E622A1DE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7DAED-4CF5-467C-A731-103A4ED3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F1E56-7BC5-4AD2-8CB2-381EBDDC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C0F6D-F4DE-418F-9F47-EF4656214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0DC80-FEBF-4DF4-BFD6-A5A0FEC54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5BF82-9993-42AB-812F-E0807080B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887E-BB76-4CE7-8BC2-C90ED655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448B9-68C9-491D-8AA9-9DB79C93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24B6D-9304-4F3A-95D9-170F8EFF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EFFB0-B04C-41B5-B46B-43FB21C8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57AE5-9062-47B2-96D0-C2D95638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E5758-2EE9-4E01-94CA-5B9B2709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CEE4D-94AE-47EA-A57C-7142CC68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DAB6C-97B7-4169-AFC6-FDEEB3DB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30ABC-6DC4-4C86-A652-7D8096EC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1985B-762D-4091-8995-6D87B1A5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29263-439D-4175-AF28-F4E2C4A1E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38B9-1B54-4B2B-B444-D19CB0AC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77CD7-CEE8-4CC3-BB03-96ABBD673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E50B3-A6FC-46EB-A41F-DF411B7F0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43DE6-3442-4155-99DB-1DEDF154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E9688-11D9-45D9-8403-C48A73AF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7F16F-97E0-43D0-9BAD-F6C21273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32E43-714C-4D39-9F42-9E0AD7D4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17976-F93D-49D8-8CDF-D54821EB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9E1C0-FA03-4327-BE35-A68B71DB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02745-EDAB-4CD4-9E06-B8B7522F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0D00D-71A0-49D3-A4C6-1F4306F8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1513-91CB-451C-A92F-BF495853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9CE9D-6295-4460-A0B1-05AC0DA3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EA808-3038-4E5F-B88D-BEAC493CE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7047D-9EA2-49D6-94A3-DC97C629E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25000-7D3C-4194-9043-AFFC33B33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83BDA-B4B1-4D45-B4F2-8D0EF5D0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4CB88-D074-420B-A6B4-EEB4B9D4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DE48D-1D3E-4A0C-95EE-1CC8DCF8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C09ED-6086-4815-8450-B261329A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6CE2F-F418-4F93-9FBB-353F3C7B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0F0C2-AC27-4757-9BB0-23466D3F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86D2-B9A5-4ECD-B00E-63A07BAD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632EB-0B5C-45CB-B3C4-709DD919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9F637-D5D7-4408-86DE-F3858475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80EBD-C067-447C-8D7F-15F08AE4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CF972-58B3-42A8-ABA5-3107A886F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4ECA8-7035-425D-BE90-B172FC257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3665-E62C-4CDC-A31F-B9281427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ângulo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tângulo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DAF4-FC2B-422C-8AC8-04A5FFFCDE1A}" type="slidenum">
              <a:rPr b="0" lang="pt-BR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tângulo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tângulo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4A3A-0815-4217-BC79-B567A3ECA647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tângulo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tângulo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D703-4067-4E4B-A149-76C1295B7D9A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CE30-3E3B-4E00-976D-6266C4122C8D}" type="slidenum">
              <a:rPr b="0" lang="pt-BR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tângulo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tângulo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tângulo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tângulo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12AC-9CFC-46D6-ADF1-6A14C2F68E04}" type="slidenum">
              <a:rPr b="0" lang="pt-BR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tângulo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tângulo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tângulo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tângulo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068B-ECAC-48CE-8F68-F8F70A7A8959}" type="slidenum">
              <a:rPr b="0" lang="pt-BR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tângulo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tângulo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1759-292C-47C3-8C2B-68D14F6DDA7C}" type="slidenum">
              <a:rPr b="0" lang="pt-BR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ítulo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rbel"/>
              </a:rPr>
              <a:t>Paulo Oliveira – phslfo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rbel"/>
              </a:rPr>
              <a:t>Victor Acioli - vaca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CaixaDeTexto 3"/>
          <p:cNvSpPr/>
          <p:nvPr/>
        </p:nvSpPr>
        <p:spPr>
          <a:xfrm>
            <a:off x="7429680" y="535788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rbel"/>
              </a:rPr>
              <a:t>11/05/2010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ítulo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rbel"/>
              </a:rPr>
              <a:t>Gratuito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rbel"/>
              </a:rPr>
              <a:t>Disponível em português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rbel"/>
              </a:rPr>
              <a:t>Interface de fácil uso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rbel"/>
              </a:rPr>
              <a:t>Compartilhado com vários usuários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rbel"/>
              </a:rPr>
              <a:t>Integrado com vários projetos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rbel"/>
              </a:rPr>
              <a:t>Demonstrar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Picture 6" descr="ClockingIT"/>
          <p:cNvPicPr/>
          <p:nvPr/>
        </p:nvPicPr>
        <p:blipFill>
          <a:blip r:embed="rId2"/>
          <a:stretch/>
        </p:blipFill>
        <p:spPr>
          <a:xfrm>
            <a:off x="4857840" y="5286240"/>
            <a:ext cx="33670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ítulo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rbel"/>
              </a:rPr>
              <a:t>Paulo Oliveira – phslfo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rbel"/>
              </a:rPr>
              <a:t>Victor Acioli - vaca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Título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457200" y="1774440"/>
            <a:ext cx="8229600" cy="22258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rbel"/>
              </a:rPr>
              <a:t>Há uma grande procura muito pelo SVN, porém..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rbel"/>
              </a:rPr>
              <a:t>O CVS continua ser amplamente utilizado em empresas de todos os port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Picture 3" descr=""/>
          <p:cNvPicPr/>
          <p:nvPr/>
        </p:nvPicPr>
        <p:blipFill>
          <a:blip r:embed="rId2"/>
          <a:stretch/>
        </p:blipFill>
        <p:spPr>
          <a:xfrm>
            <a:off x="2071800" y="3929040"/>
            <a:ext cx="5072040" cy="227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177840" y="439560"/>
          <a:ext cx="8786880" cy="4034160"/>
        </p:xfrm>
        <a:graphic>
          <a:graphicData uri="http://schemas.openxmlformats.org/drawingml/2006/table">
            <a:tbl>
              <a:tblPr/>
              <a:tblGrid>
                <a:gridCol w="2692440"/>
                <a:gridCol w="1841400"/>
                <a:gridCol w="1558800"/>
                <a:gridCol w="2694240"/>
              </a:tblGrid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CV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SV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Clear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Licen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Open Sou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Open Sou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omer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Formato Repositó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rquivos RCS </a:t>
                      </a:r>
                      <a:r>
                        <a:rPr b="0" lang="pt-BR" sz="1600" spc="-1" strike="noStrike" baseline="30000">
                          <a:solidFill>
                            <a:srgbClr val="000000"/>
                          </a:solidFill>
                          <a:latin typeface="Corbel"/>
                        </a:rPr>
                        <a:t>[1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elational DataBase </a:t>
                      </a:r>
                      <a:r>
                        <a:rPr b="0" lang="pt-BR" sz="1600" spc="-1" strike="noStrike" baseline="30000">
                          <a:solidFill>
                            <a:srgbClr val="000000"/>
                          </a:solidFill>
                          <a:latin typeface="Corbel"/>
                        </a:rPr>
                        <a:t>[1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tomic Comm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N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d3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im</a:t>
                      </a:r>
                      <a:r>
                        <a:rPr b="0" lang="pt-BR" sz="1600" spc="-1" strike="noStrike" baseline="30000">
                          <a:solidFill>
                            <a:srgbClr val="000000"/>
                          </a:solidFill>
                          <a:latin typeface="Corbel"/>
                        </a:rPr>
                        <a:t>[2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opiar e Renomear Arq. e Di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N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d3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Merge Trac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N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d3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a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im</a:t>
                      </a:r>
                      <a:r>
                        <a:rPr b="0" lang="pt-BR" sz="1600" spc="-1" strike="noStrike" baseline="30000">
                          <a:solidFill>
                            <a:srgbClr val="000000"/>
                          </a:solidFill>
                          <a:latin typeface="Corbel"/>
                        </a:rPr>
                        <a:t>[3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onj. de Coman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imp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xcel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xcel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eploy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Bo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Médio </a:t>
                      </a:r>
                      <a:r>
                        <a:rPr b="0" lang="pt-BR" sz="1600" spc="-1" strike="noStrike" baseline="30000">
                          <a:solidFill>
                            <a:srgbClr val="000000"/>
                          </a:solidFill>
                          <a:latin typeface="Corbel"/>
                        </a:rPr>
                        <a:t> [4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Fraco </a:t>
                      </a:r>
                      <a:r>
                        <a:rPr b="0" lang="pt-BR" sz="1600" spc="-1" strike="noStrike" baseline="30000">
                          <a:solidFill>
                            <a:srgbClr val="000000"/>
                          </a:solidFill>
                          <a:latin typeface="Corbel"/>
                        </a:rPr>
                        <a:t>[4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d3e0"/>
                    </a:solidFill>
                  </a:tcPr>
                </a:tc>
              </a:tr>
              <a:tr h="34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Velocid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Médio</a:t>
                      </a:r>
                      <a:r>
                        <a:rPr b="0" lang="pt-BR" sz="1600" spc="-1" strike="noStrike" baseline="30000">
                          <a:solidFill>
                            <a:srgbClr val="000000"/>
                          </a:solidFill>
                          <a:latin typeface="Corbel"/>
                        </a:rPr>
                        <a:t>[5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Muito B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Fraco </a:t>
                      </a:r>
                      <a:r>
                        <a:rPr b="0" lang="pt-BR" sz="1600" spc="-1" strike="noStrike" baseline="30000">
                          <a:solidFill>
                            <a:srgbClr val="000000"/>
                          </a:solidFill>
                          <a:latin typeface="Corbel"/>
                        </a:rPr>
                        <a:t>[6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d3e0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ortabilid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B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xcel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Méd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346" name="CaixaDeTexto 4"/>
          <p:cNvSpPr/>
          <p:nvPr/>
        </p:nvSpPr>
        <p:spPr>
          <a:xfrm>
            <a:off x="428760" y="4572000"/>
            <a:ext cx="8215200" cy="16430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rbel"/>
              </a:rPr>
              <a:t>[1] Arquivos RCS podem ser alterados manualmente quando corrompidos, porém não suportam transações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rbel"/>
              </a:rPr>
              <a:t>[2] Atomicidade só é suportada na versão ClearCase UCM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rbel"/>
              </a:rPr>
              <a:t>[3] Suportado através de copias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rbel"/>
              </a:rPr>
              <a:t>[4]  O ClearCase tem uma instalação difícil. O SVN tem uma instalação fácil, porém trabalhosa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rbel"/>
              </a:rPr>
              <a:t>[5] Para suportar segurança, o CVS precisa ser tunelado dentro de outros protocolos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rbel"/>
              </a:rPr>
              <a:t>[6] Servidor e clientes precisam estar na mesma rede para se obter uma performace aceitável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rbel"/>
              </a:rPr>
              <a:t>*Principais Fontes:  Wikipedia Comparison e Better SCM Comparison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ítulo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rbel"/>
              </a:rPr>
              <a:t>Subversion Syste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rbel"/>
              </a:rPr>
              <a:t>Permite trabalhar com diversas versõ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rbel"/>
              </a:rPr>
              <a:t>Permite o trabalho colaborativo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rbel"/>
              </a:rPr>
              <a:t>O SVN é Open Sour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rbel"/>
              </a:rPr>
              <a:t>Pode ser usado com o Eclips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rbel"/>
              </a:rPr>
              <a:t>Subclip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Título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C:\Users\TEMP.CIN.029\AppData\Local\Microsoft\Windows\Temporary Internet Files\Content.IE5\FD81DK2U\MCj01974380000[1].wmf"/>
          <p:cNvPicPr/>
          <p:nvPr/>
        </p:nvPicPr>
        <p:blipFill>
          <a:blip r:embed="rId2"/>
          <a:stretch/>
        </p:blipFill>
        <p:spPr>
          <a:xfrm>
            <a:off x="4000680" y="1717560"/>
            <a:ext cx="1085760" cy="16588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C:\Users\TEMP.CIN.029\AppData\Local\Microsoft\Windows\Temporary Internet Files\Content.IE5\75HH7IBZ\MCj04339410000[1].png"/>
          <p:cNvPicPr/>
          <p:nvPr/>
        </p:nvPicPr>
        <p:blipFill>
          <a:blip r:embed="rId3"/>
          <a:stretch/>
        </p:blipFill>
        <p:spPr>
          <a:xfrm>
            <a:off x="785880" y="4000680"/>
            <a:ext cx="2028600" cy="17017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C:\Users\TEMP.CIN.029\AppData\Local\Microsoft\Windows\Temporary Internet Files\Content.IE5\FD81DK2U\MCj04339430000[1].png"/>
          <p:cNvPicPr/>
          <p:nvPr/>
        </p:nvPicPr>
        <p:blipFill>
          <a:blip r:embed="rId4"/>
          <a:stretch/>
        </p:blipFill>
        <p:spPr>
          <a:xfrm>
            <a:off x="3929040" y="4132440"/>
            <a:ext cx="1714680" cy="18554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C:\Users\TEMP.CIN.029\AppData\Local\Microsoft\Windows\Temporary Internet Files\Content.IE5\I4L4FC65\MCj04339440000[1].png"/>
          <p:cNvPicPr/>
          <p:nvPr/>
        </p:nvPicPr>
        <p:blipFill>
          <a:blip r:embed="rId5"/>
          <a:stretch/>
        </p:blipFill>
        <p:spPr>
          <a:xfrm>
            <a:off x="6715080" y="4275000"/>
            <a:ext cx="1714680" cy="1855800"/>
          </a:xfrm>
          <a:prstGeom prst="rect">
            <a:avLst/>
          </a:prstGeom>
          <a:ln w="0">
            <a:noFill/>
          </a:ln>
        </p:spPr>
      </p:pic>
      <p:cxnSp>
        <p:nvCxnSpPr>
          <p:cNvPr id="354" name="Conector de seta reta 9"/>
          <p:cNvCxnSpPr/>
          <p:nvPr/>
        </p:nvCxnSpPr>
        <p:spPr>
          <a:xfrm flipV="1">
            <a:off x="2714400" y="3415680"/>
            <a:ext cx="1215000" cy="1143720"/>
          </a:xfrm>
          <a:prstGeom prst="straightConnector1">
            <a:avLst/>
          </a:prstGeom>
          <a:ln cap="rnd" w="25560">
            <a:solidFill>
              <a:srgbClr val="f0ac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55" name="Conector de seta reta 11"/>
          <p:cNvCxnSpPr/>
          <p:nvPr/>
        </p:nvCxnSpPr>
        <p:spPr>
          <a:xfrm flipV="1">
            <a:off x="4285080" y="3486960"/>
            <a:ext cx="72360" cy="1143720"/>
          </a:xfrm>
          <a:prstGeom prst="straightConnector1">
            <a:avLst/>
          </a:prstGeom>
          <a:ln cap="rnd" w="25560">
            <a:solidFill>
              <a:srgbClr val="f0ac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56" name="Conector de seta reta 13"/>
          <p:cNvCxnSpPr/>
          <p:nvPr/>
        </p:nvCxnSpPr>
        <p:spPr>
          <a:xfrm flipH="1" flipV="1">
            <a:off x="5071320" y="3487320"/>
            <a:ext cx="1715400" cy="1357920"/>
          </a:xfrm>
          <a:prstGeom prst="straightConnector1">
            <a:avLst/>
          </a:prstGeom>
          <a:ln cap="rnd" w="25560">
            <a:solidFill>
              <a:srgbClr val="f0ac00"/>
            </a:solidFill>
            <a:miter/>
            <a:headEnd len="med" type="arrow" w="med"/>
            <a:tailEnd len="med" type="arrow" w="med"/>
          </a:ln>
        </p:spPr>
      </p:cxnSp>
      <p:sp>
        <p:nvSpPr>
          <p:cNvPr id="357" name="CaixaDeTexto 14"/>
          <p:cNvSpPr/>
          <p:nvPr/>
        </p:nvSpPr>
        <p:spPr>
          <a:xfrm>
            <a:off x="5214960" y="224316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Sans Unicode"/>
              </a:rPr>
              <a:t>Repositório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CaixaDeTexto 15"/>
          <p:cNvSpPr/>
          <p:nvPr/>
        </p:nvSpPr>
        <p:spPr>
          <a:xfrm>
            <a:off x="3071880" y="6100920"/>
            <a:ext cx="23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Sans Unicode"/>
              </a:rPr>
              <a:t>Equipe trabalhando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Título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rbel"/>
              </a:rPr>
              <a:t>Repositório: onde o projeto é armazenado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rbel"/>
              </a:rPr>
              <a:t>Projeto é também chamado módulo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rbel"/>
              </a:rPr>
              <a:t>Checkout: download do projeto a partir do módulo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rbel"/>
              </a:rPr>
              <a:t>Update: atualização da cópia loca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rbel"/>
              </a:rPr>
              <a:t>Commit: envio das alterações feita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Título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"/>
          <p:cNvPicPr/>
          <p:nvPr/>
        </p:nvPicPr>
        <p:blipFill>
          <a:blip r:embed="rId2"/>
          <a:stretch/>
        </p:blipFill>
        <p:spPr>
          <a:xfrm>
            <a:off x="142920" y="2000160"/>
            <a:ext cx="4375080" cy="3714840"/>
          </a:xfrm>
          <a:prstGeom prst="rect">
            <a:avLst/>
          </a:prstGeom>
          <a:ln w="0">
            <a:noFill/>
          </a:ln>
        </p:spPr>
      </p:pic>
      <p:sp>
        <p:nvSpPr>
          <p:cNvPr id="363" name="CaixaDeTexto 9"/>
          <p:cNvSpPr/>
          <p:nvPr/>
        </p:nvSpPr>
        <p:spPr>
          <a:xfrm>
            <a:off x="468000" y="5857920"/>
            <a:ext cx="38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Sans Unicode"/>
              </a:rPr>
              <a:t>1 – Crie um projeto Java no Eclips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4" name="Picture 8" descr=""/>
          <p:cNvPicPr/>
          <p:nvPr/>
        </p:nvPicPr>
        <p:blipFill>
          <a:blip r:embed="rId3"/>
          <a:stretch/>
        </p:blipFill>
        <p:spPr>
          <a:xfrm>
            <a:off x="4643280" y="2000160"/>
            <a:ext cx="4286520" cy="3714840"/>
          </a:xfrm>
          <a:prstGeom prst="rect">
            <a:avLst/>
          </a:prstGeom>
          <a:ln w="0">
            <a:noFill/>
          </a:ln>
        </p:spPr>
      </p:pic>
      <p:sp>
        <p:nvSpPr>
          <p:cNvPr id="365" name="CaixaDeTexto 12"/>
          <p:cNvSpPr/>
          <p:nvPr/>
        </p:nvSpPr>
        <p:spPr>
          <a:xfrm>
            <a:off x="5190480" y="5857920"/>
            <a:ext cx="28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Sans Unicode"/>
              </a:rPr>
              <a:t>2 – Team -&gt; Share Projec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Título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"/>
          <p:cNvPicPr/>
          <p:nvPr/>
        </p:nvPicPr>
        <p:blipFill>
          <a:blip r:embed="rId2"/>
          <a:stretch/>
        </p:blipFill>
        <p:spPr>
          <a:xfrm>
            <a:off x="284040" y="2068560"/>
            <a:ext cx="3786480" cy="3357360"/>
          </a:xfrm>
          <a:prstGeom prst="rect">
            <a:avLst/>
          </a:prstGeom>
          <a:ln w="0">
            <a:noFill/>
          </a:ln>
        </p:spPr>
      </p:pic>
      <p:sp>
        <p:nvSpPr>
          <p:cNvPr id="368" name="CaixaDeTexto 6"/>
          <p:cNvSpPr/>
          <p:nvPr/>
        </p:nvSpPr>
        <p:spPr>
          <a:xfrm>
            <a:off x="230040" y="5497560"/>
            <a:ext cx="37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Sans Unicode"/>
              </a:rPr>
              <a:t>3 – Preencher os dados do SVN e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Sans Unicode"/>
              </a:rPr>
              <a:t>clicando em Nex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9" name="Picture 5" descr=""/>
          <p:cNvPicPr/>
          <p:nvPr/>
        </p:nvPicPr>
        <p:blipFill>
          <a:blip r:embed="rId3"/>
          <a:stretch/>
        </p:blipFill>
        <p:spPr>
          <a:xfrm>
            <a:off x="4427640" y="2139840"/>
            <a:ext cx="4119480" cy="3295800"/>
          </a:xfrm>
          <a:prstGeom prst="rect">
            <a:avLst/>
          </a:prstGeom>
          <a:ln w="0">
            <a:noFill/>
          </a:ln>
        </p:spPr>
      </p:pic>
      <p:sp>
        <p:nvSpPr>
          <p:cNvPr id="370" name="CaixaDeTexto 8"/>
          <p:cNvSpPr/>
          <p:nvPr/>
        </p:nvSpPr>
        <p:spPr>
          <a:xfrm>
            <a:off x="4634280" y="5568840"/>
            <a:ext cx="415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Sans Unicode"/>
              </a:rPr>
              <a:t>4 – Clicar em Next e na próxima tela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Sans Unicode"/>
              </a:rPr>
              <a:t>Finish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ítulo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2714760" y="1987560"/>
            <a:ext cx="3214440" cy="3686040"/>
          </a:xfrm>
          <a:prstGeom prst="rect">
            <a:avLst/>
          </a:prstGeom>
          <a:ln w="0">
            <a:noFill/>
          </a:ln>
        </p:spPr>
      </p:pic>
      <p:sp>
        <p:nvSpPr>
          <p:cNvPr id="373" name="CaixaDeTexto 5"/>
          <p:cNvSpPr/>
          <p:nvPr/>
        </p:nvSpPr>
        <p:spPr>
          <a:xfrm>
            <a:off x="1857240" y="5638680"/>
            <a:ext cx="53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Sans Unicode"/>
              </a:rPr>
              <a:t>5 – Basta escrever algum comentário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Sans Unicode"/>
              </a:rPr>
              <a:t>(se quiser) e clicar em Finish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ítulo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rbel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rbel"/>
              </a:rPr>
              <a:t>Gerência de Mudança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rbel"/>
              </a:rPr>
              <a:t>Gerência de Versõ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rbel"/>
              </a:rPr>
              <a:t>Integração/Geração de build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ítulo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rbel"/>
              </a:rPr>
              <a:t>Fazer update e depois, commi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rbel"/>
              </a:rPr>
              <a:t>Team -&gt; Updat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rbel"/>
              </a:rPr>
              <a:t>Team -&gt; Commi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2"/>
          <a:stretch/>
        </p:blipFill>
        <p:spPr>
          <a:xfrm>
            <a:off x="142920" y="3429000"/>
            <a:ext cx="4108320" cy="32860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"/>
          <p:cNvPicPr/>
          <p:nvPr/>
        </p:nvPicPr>
        <p:blipFill>
          <a:blip r:embed="rId3"/>
          <a:stretch/>
        </p:blipFill>
        <p:spPr>
          <a:xfrm>
            <a:off x="4643280" y="2643120"/>
            <a:ext cx="401976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ítulo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"/>
          <p:cNvPicPr/>
          <p:nvPr/>
        </p:nvPicPr>
        <p:blipFill>
          <a:blip r:embed="rId2"/>
          <a:stretch/>
        </p:blipFill>
        <p:spPr>
          <a:xfrm>
            <a:off x="2214720" y="2071800"/>
            <a:ext cx="4214520" cy="3282840"/>
          </a:xfrm>
          <a:prstGeom prst="rect">
            <a:avLst/>
          </a:prstGeom>
          <a:ln w="0">
            <a:noFill/>
          </a:ln>
        </p:spPr>
      </p:pic>
      <p:sp>
        <p:nvSpPr>
          <p:cNvPr id="380" name="CaixaDeTexto 5"/>
          <p:cNvSpPr/>
          <p:nvPr/>
        </p:nvSpPr>
        <p:spPr>
          <a:xfrm>
            <a:off x="2208600" y="5500800"/>
            <a:ext cx="403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Sans Unicode"/>
              </a:rPr>
              <a:t>Team -</a:t>
            </a:r>
            <a:r>
              <a:rPr b="0" lang="pt-BR" sz="2000" spc="-1" strike="noStrike">
                <a:solidFill>
                  <a:srgbClr val="000000"/>
                </a:solidFill>
                <a:latin typeface="Lucida Sans Unicode"/>
              </a:rPr>
              <a:t>&gt; Restore from Repository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ítulo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rbel"/>
              </a:rPr>
              <a:t>Acessando o histórico de versõ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rbel"/>
              </a:rPr>
              <a:t>Team -&gt; Show Histor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ítulo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rbel"/>
              </a:rPr>
              <a:t>File -&gt; Impor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2"/>
          <a:stretch/>
        </p:blipFill>
        <p:spPr>
          <a:xfrm>
            <a:off x="0" y="2428920"/>
            <a:ext cx="3108240" cy="40003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" descr=""/>
          <p:cNvPicPr/>
          <p:nvPr/>
        </p:nvPicPr>
        <p:blipFill>
          <a:blip r:embed="rId3"/>
          <a:stretch/>
        </p:blipFill>
        <p:spPr>
          <a:xfrm>
            <a:off x="3098880" y="2473200"/>
            <a:ext cx="3214440" cy="38912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5" descr=""/>
          <p:cNvPicPr/>
          <p:nvPr/>
        </p:nvPicPr>
        <p:blipFill>
          <a:blip r:embed="rId4"/>
          <a:stretch/>
        </p:blipFill>
        <p:spPr>
          <a:xfrm>
            <a:off x="6378480" y="2502000"/>
            <a:ext cx="276552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ítulo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rbel"/>
              </a:rPr>
              <a:t>Paulo Oliveira – phslfo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rbel"/>
              </a:rPr>
              <a:t>Victor Acioli - vaca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Título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6000"/>
          </a:bodyPr>
          <a:p>
            <a:pPr marL="420480" indent="-3060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rbel"/>
              </a:rPr>
              <a:t>Representa uma versão ainda incompleta do sistema em desenvolvimento, mas com certa estabilidad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rbel"/>
              </a:rPr>
              <a:t>Costuma apresentar limitações conhecida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rbel"/>
              </a:rPr>
              <a:t>Espaço para integração de funcionalidade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rbel"/>
              </a:rPr>
              <a:t>Inclue não só código fonte, mas documentação, arquivos de configuração, base de dados, etc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rbel"/>
              </a:rPr>
              <a:t>A política de geração dos builds deve ser bem definida na estruturação do ambient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Título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http://ant.apache.org/images/ant_logo_large.gif"/>
          <p:cNvPicPr/>
          <p:nvPr/>
        </p:nvPicPr>
        <p:blipFill>
          <a:blip r:embed="rId2"/>
          <a:stretch/>
        </p:blipFill>
        <p:spPr>
          <a:xfrm>
            <a:off x="2500200" y="2786040"/>
            <a:ext cx="392904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ítulo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rbel"/>
              </a:rPr>
              <a:t>Usado para integração Continua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rbel"/>
              </a:rPr>
              <a:t>XP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rbel"/>
              </a:rPr>
              <a:t>Compilar, Montar, Testar e Executa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rbel"/>
              </a:rPr>
              <a:t>Automatizar o processo de geração de </a:t>
            </a:r>
            <a:r>
              <a:rPr b="0" i="1" lang="pt-BR" sz="3200" spc="-1" strike="noStrike">
                <a:solidFill>
                  <a:srgbClr val="000000"/>
                </a:solidFill>
                <a:latin typeface="Corbel"/>
              </a:rPr>
              <a:t>build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ítulo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rbel"/>
              </a:rPr>
              <a:t>http://www.laliluna.de/articles/ejb-3-ant-tutorial-jboss.htm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ítulo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213840" y="1774800"/>
            <a:ext cx="857268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rbel"/>
              </a:rPr>
              <a:t>Grandes projetos =&gt; Gerência de Configuração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rbel"/>
              </a:rPr>
              <a:t>Controle da evolução do sistema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rbel"/>
              </a:rPr>
              <a:t>Qualidade do produto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ítulo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rbel"/>
              </a:rPr>
              <a:t>Todos artefatos mudam com o tempo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rbel"/>
              </a:rPr>
              <a:t>Como essas modificações são gerenciadas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rbel"/>
              </a:rPr>
              <a:t>Onde estarão registradas as modificações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rbel"/>
              </a:rPr>
              <a:t>Quem aprovará as modificações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rbel"/>
              </a:rPr>
              <a:t>Onde os arquivos estarão armazenados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rbel"/>
              </a:rPr>
              <a:t>Manter o histórico dos itens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rbel"/>
              </a:rPr>
              <a:t>Manipulação de itens de forma concorrente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rbel"/>
              </a:rPr>
              <a:t>Integração das modificaçõ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Aft>
                <a:spcPts val="6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rbel"/>
              </a:rPr>
              <a:t>Auditoria da gerência de configuração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ítulo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rbel"/>
              </a:rPr>
              <a:t>Gerência de Mudança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rbel"/>
              </a:rPr>
              <a:t>Registro de modificações no sistema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rbel"/>
              </a:rPr>
              <a:t>Por modificações se entende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rbel"/>
              </a:rPr>
              <a:t>Novas funcionalidades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rbel"/>
              </a:rPr>
              <a:t>Correções de erros/bug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rbel"/>
              </a:rPr>
              <a:t>Gerência de Versõ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rbel"/>
              </a:rPr>
              <a:t>Controle dos arquivos modificados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rbel"/>
              </a:rPr>
              <a:t>Lançamento de RELEASES e versões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ítulo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533520" indent="-533520">
              <a:lnSpc>
                <a:spcPct val="110000"/>
              </a:lnSpc>
              <a:spcAft>
                <a:spcPts val="601"/>
              </a:spcAft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rbel"/>
              </a:rPr>
              <a:t>Nova Solicitação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914400" indent="-457200">
              <a:lnSpc>
                <a:spcPct val="110000"/>
              </a:lnSpc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rbel"/>
              </a:rPr>
              <a:t>Solicitação de mudança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914400" indent="-457200">
              <a:lnSpc>
                <a:spcPct val="110000"/>
              </a:lnSpc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rbel"/>
              </a:rPr>
              <a:t>Descrição da modificação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914400" indent="-457200">
              <a:lnSpc>
                <a:spcPct val="110000"/>
              </a:lnSpc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rbel"/>
              </a:rPr>
              <a:t>Release que será modificado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914400" indent="-457200">
              <a:lnSpc>
                <a:spcPct val="110000"/>
              </a:lnSpc>
              <a:spcAft>
                <a:spcPts val="601"/>
              </a:spcAft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rbel"/>
              </a:rPr>
              <a:t>Prioridade da modificação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lnSpc>
                <a:spcPct val="110000"/>
              </a:lnSpc>
              <a:spcAft>
                <a:spcPts val="601"/>
              </a:spcAft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rbel"/>
              </a:rPr>
              <a:t>Aprovação de mudança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lnSpc>
                <a:spcPct val="110000"/>
              </a:lnSpc>
              <a:spcAft>
                <a:spcPts val="601"/>
              </a:spcAft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rbel"/>
              </a:rPr>
              <a:t>Atribuição de tarefa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lnSpc>
                <a:spcPct val="110000"/>
              </a:lnSpc>
              <a:spcAft>
                <a:spcPts val="601"/>
              </a:spcAft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rbel"/>
              </a:rPr>
              <a:t>Realização de mudança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lnSpc>
                <a:spcPct val="110000"/>
              </a:lnSpc>
              <a:spcAft>
                <a:spcPts val="601"/>
              </a:spcAft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rbel"/>
              </a:rPr>
              <a:t>Fechamento de solicitação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ítulo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1143000" y="2214360"/>
            <a:ext cx="1757520" cy="7966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82000"/>
          </a:bodyPr>
          <a:p>
            <a:pPr marL="358920" indent="-26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rbel"/>
              </a:rPr>
              <a:t>Bugzill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Picture 2" descr="http://www.bugzilla.org/img/buggie.png"/>
          <p:cNvPicPr/>
          <p:nvPr/>
        </p:nvPicPr>
        <p:blipFill>
          <a:blip r:embed="rId2"/>
          <a:stretch/>
        </p:blipFill>
        <p:spPr>
          <a:xfrm>
            <a:off x="2786040" y="1785960"/>
            <a:ext cx="857160" cy="1128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Mantis Bug Tracker Logo"/>
          <p:cNvPicPr/>
          <p:nvPr/>
        </p:nvPicPr>
        <p:blipFill>
          <a:blip r:embed="rId3"/>
          <a:stretch/>
        </p:blipFill>
        <p:spPr>
          <a:xfrm>
            <a:off x="4929120" y="2714760"/>
            <a:ext cx="2641680" cy="11127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ClockingIT"/>
          <p:cNvPicPr/>
          <p:nvPr/>
        </p:nvPicPr>
        <p:blipFill>
          <a:blip r:embed="rId4"/>
          <a:stretch/>
        </p:blipFill>
        <p:spPr>
          <a:xfrm>
            <a:off x="4286160" y="4572000"/>
            <a:ext cx="3367080" cy="928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8" descr="Trac"/>
          <p:cNvPicPr/>
          <p:nvPr/>
        </p:nvPicPr>
        <p:blipFill>
          <a:blip r:embed="rId5"/>
          <a:stretch/>
        </p:blipFill>
        <p:spPr>
          <a:xfrm>
            <a:off x="428760" y="4000680"/>
            <a:ext cx="3006720" cy="857160"/>
          </a:xfrm>
          <a:prstGeom prst="rect">
            <a:avLst/>
          </a:prstGeom>
          <a:ln w="0">
            <a:noFill/>
          </a:ln>
        </p:spPr>
      </p:pic>
      <p:sp>
        <p:nvSpPr>
          <p:cNvPr id="327" name="CaixaDeTexto 8"/>
          <p:cNvSpPr/>
          <p:nvPr/>
        </p:nvSpPr>
        <p:spPr>
          <a:xfrm>
            <a:off x="3429000" y="614376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rbel"/>
              </a:rPr>
              <a:t>Entre outros.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ítulo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rbel"/>
              </a:rPr>
              <a:t>Gratuito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rbel"/>
              </a:rPr>
              <a:t>Continua a ser amplamente utilizado,  porém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rbel"/>
              </a:rPr>
              <a:t>Difícil instalação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rbel"/>
              </a:rPr>
              <a:t>Interface Poluída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rbel"/>
              </a:rPr>
              <a:t>Difícil integração com outros sistemas de controle de versão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0" name="Picture 2" descr="http://www.bugzilla.org/img/buggie.png"/>
          <p:cNvPicPr/>
          <p:nvPr/>
        </p:nvPicPr>
        <p:blipFill>
          <a:blip r:embed="rId2"/>
          <a:stretch/>
        </p:blipFill>
        <p:spPr>
          <a:xfrm>
            <a:off x="6215040" y="4572000"/>
            <a:ext cx="121464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ítulo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rbel"/>
              </a:rPr>
              <a:t>Existência de vários tipos de usuário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rbel"/>
              </a:rPr>
              <a:t>visualizador:</a:t>
            </a:r>
            <a:r>
              <a:rPr b="0" lang="pt-BR" sz="2400" spc="-1" strike="noStrike">
                <a:solidFill>
                  <a:srgbClr val="000000"/>
                </a:solidFill>
                <a:latin typeface="Corbel"/>
              </a:rPr>
              <a:t> alguém que pode apenas consultar os bugs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rbel"/>
              </a:rPr>
              <a:t>relator:</a:t>
            </a:r>
            <a:r>
              <a:rPr b="0" lang="pt-BR" sz="2400" spc="-1" strike="noStrike">
                <a:solidFill>
                  <a:srgbClr val="000000"/>
                </a:solidFill>
                <a:latin typeface="Corbel"/>
              </a:rPr>
              <a:t> alguém que pode incluir novos bugs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rbel"/>
              </a:rPr>
              <a:t>atualizador:</a:t>
            </a:r>
            <a:r>
              <a:rPr b="0" lang="pt-BR" sz="2400" spc="-1" strike="noStrike">
                <a:solidFill>
                  <a:srgbClr val="000000"/>
                </a:solidFill>
                <a:latin typeface="Corbel"/>
              </a:rPr>
              <a:t> alguém que pode atualizar os dados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rbel"/>
              </a:rPr>
              <a:t>desenvolvedor:</a:t>
            </a:r>
            <a:r>
              <a:rPr b="0" lang="pt-BR" sz="2400" spc="-1" strike="noStrike">
                <a:solidFill>
                  <a:srgbClr val="000000"/>
                </a:solidFill>
                <a:latin typeface="Corbel"/>
              </a:rPr>
              <a:t> alguém que pode resolver bugs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rbel"/>
              </a:rPr>
              <a:t>gerente:</a:t>
            </a:r>
            <a:r>
              <a:rPr b="0" lang="pt-BR" sz="2400" spc="-1" strike="noStrike">
                <a:solidFill>
                  <a:srgbClr val="000000"/>
                </a:solidFill>
                <a:latin typeface="Corbel"/>
              </a:rPr>
              <a:t> alguém que pode criar projetos/produtos, que é onde os bugs ocorrem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rbel"/>
              </a:rPr>
              <a:t>administrador:</a:t>
            </a:r>
            <a:r>
              <a:rPr b="0" lang="pt-BR" sz="2400" spc="-1" strike="noStrike">
                <a:solidFill>
                  <a:srgbClr val="000000"/>
                </a:solidFill>
                <a:latin typeface="Corbel"/>
              </a:rPr>
              <a:t> o admin do Manti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3" name="Picture 4" descr="Mantis Bug Tracker Logo"/>
          <p:cNvPicPr/>
          <p:nvPr/>
        </p:nvPicPr>
        <p:blipFill>
          <a:blip r:embed="rId2"/>
          <a:stretch/>
        </p:blipFill>
        <p:spPr>
          <a:xfrm>
            <a:off x="5715000" y="5357880"/>
            <a:ext cx="264168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ítulo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rbel"/>
              </a:rPr>
              <a:t>Fácil integração com o CVS e o SVN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rbel"/>
              </a:rPr>
              <a:t>Fácil Administração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rbel"/>
              </a:rPr>
              <a:t>Criação de páginas Wiki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6" name="Picture 8" descr="Trac"/>
          <p:cNvPicPr/>
          <p:nvPr/>
        </p:nvPicPr>
        <p:blipFill>
          <a:blip r:embed="rId2"/>
          <a:stretch/>
        </p:blipFill>
        <p:spPr>
          <a:xfrm>
            <a:off x="4286160" y="5143680"/>
            <a:ext cx="426096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andre Vasconcelos</cp:lastModifiedBy>
  <dcterms:modified xsi:type="dcterms:W3CDTF">2010-05-12T19:29:24Z</dcterms:modified>
  <cp:revision>15</cp:revision>
  <dc:subject/>
  <dc:title>Gerencia de Configuração</dc:title>
</cp:coreProperties>
</file>