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AF0-6632-4924-B0F8-CC3ACFCC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01E-FE92-44BA-8A33-EC0F675C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C95-C65D-4B92-804D-66564C61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82A-0547-45BC-B086-0F7AF45A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74A1-64FE-41AB-B97D-E407622E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D49B-415D-4EC1-B969-D75D56B0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6E6A-8CDC-429B-B0EB-21BD0786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EDEB-1DF3-477D-AF6F-C9720948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9EFD-A6F8-4DCD-8ABD-E522A2A5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76B-2201-4213-B3C9-B3CAB479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D0B1-5711-4DAA-AE3E-DB8FACD1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C52-FBA0-43F0-A3CA-4974F3DC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8270-D271-406E-9290-DB5A5B0F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B788-38FB-4287-9600-F86608A9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1060-74F2-4DCF-9CAB-ECF6A5B0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104C-5BB5-4E86-85C8-A3D29B61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3F1A-FD3B-4401-958F-F6D4FF6E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E83-1916-420E-92A0-F514A3C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8B0-F813-48B2-BBA9-1BE6E650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642-4EA5-4798-BE05-8E4C4E86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88E-76CE-4E5D-B60C-67600A21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221-A1F8-4A85-B952-E7A4214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078-6304-49D9-83B9-D570A60E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F22-A893-45E2-81C9-6FFD4D06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/03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1CB6-A7C2-4DEA-B529-52064B85FE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46E6-6035-43E7-8422-35172B22B6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003366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álise de Casos de U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1760" y="449532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Rafael Duar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Alexandre Mo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[rmd, acm]@cin.ufpe.b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asses de Frontei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Utilizada para modelar a interação entre um ator e o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ara cada interação entre um ator e caso de uso, é criada uma classe de frontei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ossuem o estereótipo </a:t>
            </a:r>
            <a:r>
              <a:rPr b="0" lang="pt-BR" sz="3000" spc="-1" strike="noStrike">
                <a:solidFill>
                  <a:srgbClr val="336699"/>
                </a:solidFill>
                <a:latin typeface="Verdana"/>
              </a:rPr>
              <a:t>&lt;&lt;</a:t>
            </a:r>
            <a:r>
              <a:rPr b="0" i="1" lang="pt-BR" sz="3000" spc="-1" strike="noStrike">
                <a:solidFill>
                  <a:srgbClr val="336699"/>
                </a:solidFill>
                <a:latin typeface="Verdana"/>
              </a:rPr>
              <a:t>boundary</a:t>
            </a:r>
            <a:r>
              <a:rPr b="0" lang="pt-BR" sz="3000" spc="-1" strike="noStrike">
                <a:solidFill>
                  <a:srgbClr val="336699"/>
                </a:solidFill>
                <a:latin typeface="Verdana"/>
              </a:rPr>
              <a:t>&gt;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56A-2CEB-44B1-A316-F7601FBB86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asses de Entida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Utilizadas para modelar a informação manipulada pelo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odem ser persistentes ou n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nceito análogo às entidades dos diagramas 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ão identificadas a partir do fluxo de eventos do caso de u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ossuem o estereótipo </a:t>
            </a:r>
            <a:r>
              <a:rPr b="0" lang="pt-BR" sz="3000" spc="-1" strike="noStrike">
                <a:solidFill>
                  <a:srgbClr val="336699"/>
                </a:solidFill>
                <a:latin typeface="Verdana"/>
              </a:rPr>
              <a:t>&lt;&lt;</a:t>
            </a:r>
            <a:r>
              <a:rPr b="0" i="1" lang="pt-BR" sz="3000" spc="-1" strike="noStrike">
                <a:solidFill>
                  <a:srgbClr val="336699"/>
                </a:solidFill>
                <a:latin typeface="Verdana"/>
              </a:rPr>
              <a:t>entity</a:t>
            </a:r>
            <a:r>
              <a:rPr b="0" lang="pt-BR" sz="3000" spc="-1" strike="noStrike">
                <a:solidFill>
                  <a:srgbClr val="336699"/>
                </a:solidFill>
                <a:latin typeface="Verdana"/>
              </a:rPr>
              <a:t>&gt;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963-98FD-4B11-A298-EA7DF3E931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asses de Contro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lasses responsáveis por controlar o fluxo de execução do caso de u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ormalmente é criada uma classe de controle para cada caso de u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ossuem o estereótipo </a:t>
            </a:r>
            <a:r>
              <a:rPr b="0" lang="pt-BR" sz="3000" spc="-1" strike="noStrike">
                <a:solidFill>
                  <a:srgbClr val="336699"/>
                </a:solidFill>
                <a:latin typeface="Verdana"/>
              </a:rPr>
              <a:t>&lt;&lt;</a:t>
            </a:r>
            <a:r>
              <a:rPr b="0" i="1" lang="pt-BR" sz="3000" spc="-1" strike="noStrike">
                <a:solidFill>
                  <a:srgbClr val="336699"/>
                </a:solidFill>
                <a:latin typeface="Verdana"/>
              </a:rPr>
              <a:t>control</a:t>
            </a:r>
            <a:r>
              <a:rPr b="0" lang="pt-BR" sz="3000" spc="-1" strike="noStrike">
                <a:solidFill>
                  <a:srgbClr val="336699"/>
                </a:solidFill>
                <a:latin typeface="Verdana"/>
              </a:rPr>
              <a:t>&gt;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FBD-24AB-4D3C-B3B3-885725451A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772400" cy="5040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752480"/>
            <a:ext cx="990720" cy="533520"/>
          </a:xfrm>
          <a:prstGeom prst="ellipse">
            <a:avLst/>
          </a:prstGeom>
          <a:noFill/>
          <a:ln w="25560">
            <a:solidFill>
              <a:srgbClr val="1f3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800600"/>
            <a:ext cx="990720" cy="533520"/>
          </a:xfrm>
          <a:prstGeom prst="ellipse">
            <a:avLst/>
          </a:prstGeom>
          <a:noFill/>
          <a:ln w="25560">
            <a:solidFill>
              <a:srgbClr val="1f3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DCB-6693-452E-A399-4981DFD02C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Efetuar Log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luxo de event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1. Usuário informa login e senh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2. Sistema checa se o login e senha confer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3. Sistema registra a sessão do aluno e a tela principal do sistema é exib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47A-9D66-455A-A061-6C1D68E56F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 classes preciso cria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ma classe de fronteira para lidar com a interação dos atores com o siste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ma classe de entidade para representar as informações relevantes do alu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ma classe de controle para gerenciar o fluxo de execução do caso de u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8F3-0877-47ED-9068-811810CA5D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715000" cy="1716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52480" y="4952880"/>
            <a:ext cx="5639040" cy="878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34286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á diferentes opções de visualização dos estereótipos. A opção padrão é mostrada acima - os estereótipos são visualizados através da mudança dos ícones das classes. Há também a opção de se visualizar os estereótipos do modo convencional (&lt;&lt;estereótipo&gt;&gt;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15A-9DDB-47D7-8C18-EB97973C1B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sistê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as caso alguma classe de entidade precise ser persisten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Que classe será responsável por realizar as tarefas de persistênci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ara cada classe de entidade que precise ser persistente, é criada uma nova classe com o estereótipo </a:t>
            </a:r>
            <a:r>
              <a:rPr b="0" lang="pt-BR" sz="3000" spc="-1" strike="noStrike">
                <a:solidFill>
                  <a:srgbClr val="336699"/>
                </a:solidFill>
                <a:latin typeface="Verdana"/>
              </a:rPr>
              <a:t>&lt;&lt;entity collection&gt;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743-84D4-4E92-8128-CF3E8805C9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410080" cy="31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04C-6ADA-4123-B6C9-90C2D4D5A9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agramas de inter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ós a identificação das classes, é necessário descobrir quais são as responsabilidades de cada classe, o que cada uma precisa faz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s diagramas de interação (seqüência e colaboração) são muito úteis nesta taref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193-CDDE-464F-B26C-628DE3B0AA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ál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ssando de casos de uso para diagramas de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F67-74CF-42E6-B753-1A521065E7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6794" t="0" r="3882" b="15354"/>
          <a:stretch/>
        </p:blipFill>
        <p:spPr>
          <a:xfrm>
            <a:off x="609480" y="1523880"/>
            <a:ext cx="8001000" cy="443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9B4-900D-442B-8DA4-0316DE6110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ocando responsabil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ós identificarmos as responsabilidades (métodos) pelos diagramas de interação, devemos acrescentar os métodos nas classes previamente identificadas (1º pass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26A-C79B-4161-9B81-7DCDC762D0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asses com méto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172200" cy="34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4F6-BBDC-4DCE-9927-AC770E6962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entificando relacionam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classes identificadas não funcionam isoladamente, elas se relacionam com as demais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s diagramas de interação são muito úteis nesta taref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 cada ligação presente nos diagramas de interação, é necessário um relacionamento no diagrama de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560-FB3A-4316-AA14-22AC485EEE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asses com relacionam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934320" cy="33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B70-67E8-44E7-B7AA-B64E30FB96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entificando Atribu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mbém é necessário identificar quais os atributos das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m bom conhecimento do domínio do problema é bastante importante para esta tarefa, principalmente na identificação de atributos das classes de entid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sta etapa ainda não precisamos indicar quais os tipos dos atribu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ACA-8A98-4DCD-A9CA-C8ADE44E38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agrama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172200" cy="32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F9D-903E-43E1-BDBF-7BEB4885F8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1099440" y="3258000"/>
            <a:ext cx="677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luxo de ev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1. Secretária informa dados do al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2. Secretária seleciona a opção “confirmar cadastr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3. Sistema checa se os dados são vál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4. Sistema adiciona o aluno à base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5. Sistema envia um e-mail para o aluno, informando-o s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login e se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6. Sistema exibe uma mensagem de confirmação de cad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dentificar as classes do caso de uso </a:t>
            </a:r>
            <a:r>
              <a:rPr b="0" lang="pt-BR" sz="1800" spc="-1" strike="noStrike">
                <a:solidFill>
                  <a:srgbClr val="336699"/>
                </a:solidFill>
                <a:latin typeface="Verdana"/>
              </a:rPr>
              <a:t>“adicionar alu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620120" cy="17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B54-F14D-4A92-B20C-67CB2AABA8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he Unified Software Development Process - Jacobson, Rumbaugh, Boo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he UML Reference Manual - Rumbaugh, Jacobson, Boo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EA3-A6C0-4428-B981-55C96135B0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ós a etapa de análise de requisitos, temos documentos de requisitos e os casos de uso em mã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remos agora gerar um primeiro modelo do sistema a partir dos casos de us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e modelo é chamado de modelo de análi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082-E14B-4025-A349-D45BF5D1A7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x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743200"/>
            <a:ext cx="129528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743200"/>
            <a:ext cx="129564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ál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2743200"/>
            <a:ext cx="129528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1981080" cy="1428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1600200" cy="100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400800" y="350532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0920" y="3657600"/>
            <a:ext cx="761760" cy="1219320"/>
          </a:xfrm>
          <a:prstGeom prst="rightArrow">
            <a:avLst>
              <a:gd name="adj1" fmla="val 58333"/>
              <a:gd name="adj2" fmla="val 575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657600"/>
            <a:ext cx="761760" cy="1219320"/>
          </a:xfrm>
          <a:prstGeom prst="rightArrow">
            <a:avLst>
              <a:gd name="adj1" fmla="val 58333"/>
              <a:gd name="adj2" fmla="val 575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2514600"/>
            <a:ext cx="2133720" cy="914400"/>
          </a:xfrm>
          <a:prstGeom prst="ellipse">
            <a:avLst/>
          </a:prstGeom>
          <a:noFill/>
          <a:ln w="316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AED-7E9D-4AD5-BF84-D305AC077A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tividade de Anál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i proporcionar um método que permita que criemos um modelo de classes do sistema a partir dos casos de u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rá a resposta para a pergunt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is classes preciso para implementar estes casos de us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500-005F-4A86-BC48-4B266787F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álise &amp; R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 maneira como vamos realizar a etapa de análise se baseia no processo do RUP </a:t>
            </a:r>
            <a:r>
              <a:rPr b="0" i="1" lang="pt-BR" sz="3000" spc="-1" strike="noStrike">
                <a:solidFill>
                  <a:srgbClr val="000000"/>
                </a:solidFill>
                <a:latin typeface="Verdana"/>
              </a:rPr>
              <a:t>(Rational Unified Proces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 análise será orientada a casos de uso, ou seja, os casos de uso servirão de guia para a etapa de anál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4E9-8C48-4356-823A-E3C4928D7A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sos de Uso X Anál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88920" y="1906560"/>
          <a:ext cx="6940800" cy="39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906560"/>
                    <a:ext cx="694080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990720" y="2362320"/>
            <a:ext cx="708660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712-8454-4A53-9958-A7E3D28FC6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ssos da Atividade de Anál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ntificar as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icar persistê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ntificar responsabilidades das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ntificar relacionamen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ntificar atribu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2A9-9AEA-4805-9C59-88762DA887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dentificando as clas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primeiro passo de análise, identificaremos três tipos de class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nteir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3366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is classes são identificadas separadamente para cada de u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C95-7AEF-414D-8184-63CA8F0AF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andre Vasconcelos</cp:lastModifiedBy>
  <dcterms:modified xsi:type="dcterms:W3CDTF">2007-06-12T16:47:48Z</dcterms:modified>
  <cp:revision>1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