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BF43-6426-4508-B598-C59ACAE0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A355-9065-4A1A-87DB-030E6C41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998-ED41-458B-8E86-AE76B984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riar as user stories que geram casos para os acceptances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90C0-774C-4FC6-94D5-C0227CF5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elhorar ess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61D-DD67-4F89-85E6-5656102D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7F3-C029-41E6-A3EA-290D26BB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BC7-1870-457C-8D3D-685E4EE5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14E-FB00-4D1A-AD76-D9B0F042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6CD3-EA9C-4200-B23D-112BF8D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1844-6B16-46FC-9D89-9897073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A247-A877-437D-A4BD-4AC7FE0F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7743-ED20-4BDC-8A5D-1A2ABE4A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B3CE-0C1F-4707-92E5-CD82BE3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FB5-7D18-4330-BEA5-B302998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39D2-0933-45E9-BA48-F3E2CA3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D70-4621-411A-BB16-30CFF51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2C27-E098-4E17-A6CF-BAF4F7A4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D799-1E4B-47C0-975C-BD65C7A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2F62-25F3-4BA3-A87D-C1F2031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335D-21FE-4A2E-9BC4-F77E6138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CD5F-7DAF-4CC6-9A25-5790FFD1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9FB-63D0-4C98-9B76-6F89D072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360-4E4F-464F-87BF-5A74CCFA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E60-8644-4EF4-8DBD-181C91F3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E47-6B9D-4616-9EDE-ADFFBA9B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99C-F5AC-46FC-8D23-68DA3B0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36D-C5B9-4337-82E1-EE17D4D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025-4626-4A52-8EB8-F167D25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946-01F1-4D9F-A645-9E54DB66BCA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7866-2D68-4E38-8EC9-E0B12A40A48E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B53-16C4-417E-8993-565BA0CD2B71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ão Geral sobre o XP – eXtreme Programming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exandre Vasconc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amlv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76AC-69A1-4E4C-9030-29AC3B1D918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udar não é tão car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Line 3"/>
          <p:cNvSpPr/>
          <p:nvPr/>
        </p:nvSpPr>
        <p:spPr>
          <a:xfrm flipV="1">
            <a:off x="1371600" y="208260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143000" y="551196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5"/>
          <p:cNvSpPr/>
          <p:nvPr/>
        </p:nvSpPr>
        <p:spPr>
          <a:xfrm flipH="1" flipV="1">
            <a:off x="1294920" y="4114080"/>
            <a:ext cx="6477120" cy="1397160"/>
          </a:xfrm>
          <a:custGeom>
            <a:avLst/>
            <a:gdLst>
              <a:gd name="textAreaLeft" fmla="*/ 360 w 6477120"/>
              <a:gd name="textAreaRight" fmla="*/ 6477840 w 6477120"/>
              <a:gd name="textAreaTop" fmla="*/ -360 h 1397160"/>
              <a:gd name="textAreaBottom" fmla="*/ 1397160 h 1397160"/>
            </a:gdLst>
            <a:ahLst/>
            <a:rect l="textAreaLeft" t="textAreaTop" r="textAreaRight" b="textAreaBottom"/>
            <a:pathLst>
              <a:path w="4032" h="2272">
                <a:moveTo>
                  <a:pt x="0" y="2272"/>
                </a:moveTo>
                <a:cubicBezTo>
                  <a:pt x="272" y="2240"/>
                  <a:pt x="544" y="2208"/>
                  <a:pt x="768" y="2176"/>
                </a:cubicBezTo>
                <a:cubicBezTo>
                  <a:pt x="992" y="2144"/>
                  <a:pt x="1112" y="2128"/>
                  <a:pt x="1344" y="2080"/>
                </a:cubicBezTo>
                <a:cubicBezTo>
                  <a:pt x="1576" y="2032"/>
                  <a:pt x="1904" y="1976"/>
                  <a:pt x="2160" y="1888"/>
                </a:cubicBezTo>
                <a:cubicBezTo>
                  <a:pt x="2416" y="1800"/>
                  <a:pt x="2672" y="1688"/>
                  <a:pt x="2880" y="1552"/>
                </a:cubicBezTo>
                <a:cubicBezTo>
                  <a:pt x="3088" y="1416"/>
                  <a:pt x="3248" y="1264"/>
                  <a:pt x="3408" y="1072"/>
                </a:cubicBezTo>
                <a:cubicBezTo>
                  <a:pt x="3568" y="880"/>
                  <a:pt x="3744" y="568"/>
                  <a:pt x="3840" y="400"/>
                </a:cubicBezTo>
                <a:cubicBezTo>
                  <a:pt x="3936" y="232"/>
                  <a:pt x="3952" y="128"/>
                  <a:pt x="3984" y="64"/>
                </a:cubicBezTo>
                <a:cubicBezTo>
                  <a:pt x="4016" y="0"/>
                  <a:pt x="4024" y="24"/>
                  <a:pt x="4032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442880" y="55832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554200" y="558468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nál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490920" y="55897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je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356000" y="558972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869080" y="5589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6661080" y="558972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du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7957800" y="5516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80880" y="2082960"/>
            <a:ext cx="13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80C-7C7D-46AE-AF4B-7F1A8B85A16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XP inclui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unic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a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c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pei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D839-01E4-4AAD-9A90-7FA70C41217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omunic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oluções de problemas normalmente já são conhecidas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problema é a solução chegar a quem prec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unicação face a face é a maneira mais rápida de “espalhar” conhec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435-D1D4-4B5F-A14F-3333E48FBE1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oragem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xtreme Programming é novo e difer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itude é mais importante que proce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ragem pra dizer a verdade, para recomeçar do zero, para inov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1B8-6221-4488-A783-2AEAF0C3EE8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eedback &lt;-&gt; Comunic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eedback aumenta aprendizado e produtiv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16E-9400-4F0D-B25C-8A3D921CE5F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Simplic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gra g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ensar sempre : “ O que pode ser feito que seja o mais simples que funciona?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mplicidade normalmente gera mais va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065240" y="4998960"/>
            <a:ext cx="503280" cy="935280"/>
          </a:xfrm>
          <a:prstGeom prst="downArrow">
            <a:avLst>
              <a:gd name="adj1" fmla="val 50000"/>
              <a:gd name="adj2" fmla="val 46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69960" y="52149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6033960" y="4856040"/>
            <a:ext cx="503280" cy="863640"/>
          </a:xfrm>
          <a:prstGeom prst="upArrow">
            <a:avLst>
              <a:gd name="adj1" fmla="val 50000"/>
              <a:gd name="adj2" fmla="val 4290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537240" y="51436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Geração de va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3657600" y="5791320"/>
            <a:ext cx="1944720" cy="865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0" name="AutoShape 10"/>
          <p:cNvCxnSpPr>
            <a:stCxn id="169" idx="2"/>
            <a:endCxn id="166" idx="2"/>
          </p:cNvCxnSpPr>
          <p:nvPr/>
        </p:nvCxnSpPr>
        <p:spPr>
          <a:xfrm rot="10800000">
            <a:off x="2253600" y="5581800"/>
            <a:ext cx="1404000" cy="643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11"/>
          <p:cNvCxnSpPr>
            <a:stCxn id="169" idx="6"/>
            <a:endCxn id="168" idx="2"/>
          </p:cNvCxnSpPr>
          <p:nvPr/>
        </p:nvCxnSpPr>
        <p:spPr>
          <a:xfrm flipV="1">
            <a:off x="5601960" y="5784480"/>
            <a:ext cx="1872360" cy="440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C09E-D037-4540-AE09-27E9561335B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spei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ragem, Feedback, Simplicidade, Comunicação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peito é necessário para tirar o máximo desses valo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peito pelo próxi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eedback, Comunic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peito por si me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ragem, Simplic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A2B1-24D0-4449-AF78-CA8043A35A3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Boas Prátic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est First Desig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tand-up Mee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tinuous Integ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83080" y="1892160"/>
            <a:ext cx="3886200" cy="960480"/>
          </a:xfrm>
          <a:prstGeom prst="leftArrowCallout">
            <a:avLst>
              <a:gd name="adj1" fmla="val 25002"/>
              <a:gd name="adj2" fmla="val 25000"/>
              <a:gd name="adj3" fmla="val 67435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807160" y="1866960"/>
            <a:ext cx="259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riação de testes leva em conta não o tempo ganho com a criação dos mesmos antes da codificação, mas conhecer previamente as possíveis falhas do seu sistem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4495680" y="5016600"/>
            <a:ext cx="3886200" cy="1508040"/>
          </a:xfrm>
          <a:prstGeom prst="leftArrowCallout">
            <a:avLst>
              <a:gd name="adj1" fmla="val 25002"/>
              <a:gd name="adj2" fmla="val 25000"/>
              <a:gd name="adj3" fmla="val 42950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786280" y="4976640"/>
            <a:ext cx="2314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s diversos módulos do software são integrados diversas vezes por dia e todos os testes unitários são executados. O código não passa até obter sucesso em 100% dos testes unitário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4483080" y="4025880"/>
            <a:ext cx="3911760" cy="774720"/>
          </a:xfrm>
          <a:prstGeom prst="leftArrowCallout">
            <a:avLst>
              <a:gd name="adj1" fmla="val 25002"/>
              <a:gd name="adj2" fmla="val 25000"/>
              <a:gd name="adj3" fmla="val 84154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786280" y="4152960"/>
            <a:ext cx="233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Reuniões  rápidas e diárias com a equip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572000" y="2946240"/>
            <a:ext cx="4089240" cy="1000440"/>
          </a:xfrm>
          <a:prstGeom prst="leftArrowCallout">
            <a:avLst>
              <a:gd name="adj1" fmla="val 25002"/>
              <a:gd name="adj2" fmla="val 25000"/>
              <a:gd name="adj3" fmla="val 73460"/>
              <a:gd name="adj4" fmla="val 709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786280" y="2982960"/>
            <a:ext cx="28576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 reconstrução baseia-se na remoção de redundância, eliminação de funcionalidades inúteis, e reconstrução de projetos obsoleto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F641-8970-4353-932B-AA0D0FD4AE0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Boas Prátic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ir Programm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ve People Aroun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llectiv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d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wnershi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ding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tandar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4483080" y="1752480"/>
            <a:ext cx="3976560" cy="955800"/>
          </a:xfrm>
          <a:prstGeom prst="leftArrowCallout">
            <a:avLst>
              <a:gd name="adj1" fmla="val 25002"/>
              <a:gd name="adj2" fmla="val 25000"/>
              <a:gd name="adj3" fmla="val 69341"/>
              <a:gd name="adj4" fmla="val 718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572080" y="1800360"/>
            <a:ext cx="2949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odo código de produção é desenvolvido por duas pessoas trabalhando com o mesmo teclado, o mesmo mouse e o mesmo monito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4427640" y="5219640"/>
            <a:ext cx="4032000" cy="762120"/>
          </a:xfrm>
          <a:prstGeom prst="leftArrowCallout">
            <a:avLst>
              <a:gd name="adj1" fmla="val 25002"/>
              <a:gd name="adj2" fmla="val 25000"/>
              <a:gd name="adj3" fmla="val 88175"/>
              <a:gd name="adj4" fmla="val 68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680080" y="5357880"/>
            <a:ext cx="28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odo código é desenvolvido seguindo um padrão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267080" y="3933720"/>
            <a:ext cx="4192560" cy="955800"/>
          </a:xfrm>
          <a:prstGeom prst="leftArrowCallout">
            <a:avLst>
              <a:gd name="adj1" fmla="val 25002"/>
              <a:gd name="adj2" fmla="val 25000"/>
              <a:gd name="adj3" fmla="val 73107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665680" y="3924360"/>
            <a:ext cx="30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 equipe como um todo é responsável por cada arquivo de código. Não é preciso pedir autorização para alterar qualquer arquivo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4483080" y="2984400"/>
            <a:ext cx="3976560" cy="727200"/>
          </a:xfrm>
          <a:prstGeom prst="leftArrowCallout">
            <a:avLst>
              <a:gd name="adj1" fmla="val 25002"/>
              <a:gd name="adj2" fmla="val 25000"/>
              <a:gd name="adj3" fmla="val 91139"/>
              <a:gd name="adj4" fmla="val 71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5643720" y="3071880"/>
            <a:ext cx="28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s duplas de programação são revezadas em média a cada 2h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1E7-3625-490E-A0EE-D1A2FBBF6FF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Boas Prátic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he Customer is Always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mall Relea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imple Desig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483080" y="1752480"/>
            <a:ext cx="3976560" cy="1100160"/>
          </a:xfrm>
          <a:prstGeom prst="leftArrowCallout">
            <a:avLst>
              <a:gd name="adj1" fmla="val 25002"/>
              <a:gd name="adj2" fmla="val 25000"/>
              <a:gd name="adj3" fmla="val 60242"/>
              <a:gd name="adj4" fmla="val 718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654520" y="1976400"/>
            <a:ext cx="29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cliente está sempre disponível para resolver dúvidas, alterar o escopo de uma iteração e definir prioridade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286160" y="4929120"/>
            <a:ext cx="4192560" cy="955800"/>
          </a:xfrm>
          <a:prstGeom prst="leftArrowCallout">
            <a:avLst>
              <a:gd name="adj1" fmla="val 25002"/>
              <a:gd name="adj2" fmla="val 25000"/>
              <a:gd name="adj3" fmla="val 73107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715000" y="5000760"/>
            <a:ext cx="267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código está, a qualquer momento, na forma mais simples que passe em todos os teste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4429080" y="3429000"/>
            <a:ext cx="3976560" cy="1125360"/>
          </a:xfrm>
          <a:prstGeom prst="leftArrowCallout">
            <a:avLst>
              <a:gd name="adj1" fmla="val 25002"/>
              <a:gd name="adj2" fmla="val 25000"/>
              <a:gd name="adj3" fmla="val 58893"/>
              <a:gd name="adj4" fmla="val 71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5643720" y="3500280"/>
            <a:ext cx="28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software é entregue em pequenas versões para que o cliente possa obter o seu ganho o mais cedo possível e para minimizar risco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82E8-87A3-4F74-9D4B-190BE9D11D9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anifesto Ágil [1/5]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ssinado por 17 desenvolvedores com reconhecimento mundial em Utah em fevereiro/2001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claração de 4 valo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ttp://www.agilemanifesto.org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5" descr="agilealliance"/>
          <p:cNvPicPr/>
          <p:nvPr/>
        </p:nvPicPr>
        <p:blipFill>
          <a:blip r:embed="rId2"/>
          <a:stretch/>
        </p:blipFill>
        <p:spPr>
          <a:xfrm>
            <a:off x="7020000" y="52293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6B5-9C74-4A61-92E7-5D6E813583F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Boas Prátic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40-Hour We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-Site Custo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cceptance T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4584600" y="1905120"/>
            <a:ext cx="3886200" cy="1668240"/>
          </a:xfrm>
          <a:prstGeom prst="leftArrowCallout">
            <a:avLst>
              <a:gd name="adj1" fmla="val 25002"/>
              <a:gd name="adj2" fmla="val 25000"/>
              <a:gd name="adj3" fmla="val 38825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857920" y="1886040"/>
            <a:ext cx="231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ada programador trabalha 40 horas por semana.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Se o horário for flexível, deve-se respeitar o horário do par naquele período, senão enquanto um trabalha o outro vai pra cas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4643280" y="4143240"/>
            <a:ext cx="3885840" cy="1143000"/>
            <a:chOff x="4643280" y="4143240"/>
            <a:chExt cx="3885840" cy="1143000"/>
          </a:xfrm>
        </p:grpSpPr>
        <p:sp>
          <p:nvSpPr>
            <p:cNvPr id="212" name="AutoShape 7"/>
            <p:cNvSpPr/>
            <p:nvPr/>
          </p:nvSpPr>
          <p:spPr>
            <a:xfrm>
              <a:off x="4643280" y="4143240"/>
              <a:ext cx="3885840" cy="1143000"/>
            </a:xfrm>
            <a:prstGeom prst="leftArrowCallout">
              <a:avLst>
                <a:gd name="adj1" fmla="val 25002"/>
                <a:gd name="adj2" fmla="val 25000"/>
                <a:gd name="adj3" fmla="val 56661"/>
                <a:gd name="adj4" fmla="val 6667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5928120" y="4357440"/>
              <a:ext cx="2314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Ter um papel de cliente na equipe XP em tempo integral para responder as pergunt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4" name="AutoShape 9"/>
          <p:cNvSpPr/>
          <p:nvPr/>
        </p:nvSpPr>
        <p:spPr>
          <a:xfrm>
            <a:off x="4597560" y="5740560"/>
            <a:ext cx="3975120" cy="760320"/>
          </a:xfrm>
          <a:prstGeom prst="leftArrowCallout">
            <a:avLst>
              <a:gd name="adj1" fmla="val 25002"/>
              <a:gd name="adj2" fmla="val 25000"/>
              <a:gd name="adj3" fmla="val 71839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5905440" y="5786280"/>
            <a:ext cx="253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São definidos pelo usuário e são os critérios de aceitação do software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Object 11" descr=""/>
          <p:cNvPicPr/>
          <p:nvPr/>
        </p:nvPicPr>
        <p:blipFill>
          <a:blip r:embed="rId1"/>
          <a:stretch/>
        </p:blipFill>
        <p:spPr>
          <a:xfrm>
            <a:off x="3695760" y="2382840"/>
            <a:ext cx="7621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5EE-CF78-4DF0-A27D-D7B0D0B0212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Boas Prátic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ystem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4584600" y="1785960"/>
            <a:ext cx="3886200" cy="833400"/>
          </a:xfrm>
          <a:prstGeom prst="leftArrowCallout">
            <a:avLst>
              <a:gd name="adj1" fmla="val 25002"/>
              <a:gd name="adj2" fmla="val 25000"/>
              <a:gd name="adj3" fmla="val 67787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064200" y="1785960"/>
            <a:ext cx="23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juda a manter todos os desenvolvedores em sintonia com o projeto quando dando nomes a objetos ou class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1717560" y="2720880"/>
            <a:ext cx="6766200" cy="1225800"/>
          </a:xfrm>
          <a:prstGeom prst="leftArrowCallout">
            <a:avLst>
              <a:gd name="adj1" fmla="val 25002"/>
              <a:gd name="adj2" fmla="val 25000"/>
              <a:gd name="adj3" fmla="val 91997"/>
              <a:gd name="adj4" fmla="val 803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228840" y="2913120"/>
            <a:ext cx="51850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 idéia é que exista um objeto "produto" que sofre várias modificações ao longo da "linha de montagem", onde outros objetos trabalham sobre o produto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 vantagem é que é simples adicionar "máquinas novas" à linha de montagem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67760" y="309888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Fáb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1717560" y="4016520"/>
            <a:ext cx="6766200" cy="1225440"/>
          </a:xfrm>
          <a:prstGeom prst="leftArrowCallout">
            <a:avLst>
              <a:gd name="adj1" fmla="val 25002"/>
              <a:gd name="adj2" fmla="val 25000"/>
              <a:gd name="adj3" fmla="val 92024"/>
              <a:gd name="adj4" fmla="val 803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28840" y="4016520"/>
            <a:ext cx="518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Quando o "produto" precisa passar pela mão de várias pessoas, às vezes para conhecimento, aprovação ou modificação do conteúdo. Podem existir modificações feitas pelo sistema, nesse caso, existem "destinatários virtuais" que recebem a mensagem, analisam e despacham para quem deve. A diferença básica do Correio para a Fábrica é que ele não segue uma linh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154080" y="4394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Corre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1717560" y="5311800"/>
            <a:ext cx="6766200" cy="1357200"/>
          </a:xfrm>
          <a:prstGeom prst="leftArrowCallout">
            <a:avLst>
              <a:gd name="adj1" fmla="val 25002"/>
              <a:gd name="adj2" fmla="val 25000"/>
              <a:gd name="adj3" fmla="val 83090"/>
              <a:gd name="adj4" fmla="val 803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228840" y="5248440"/>
            <a:ext cx="5185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objeto é um "turista", o Servlet e o Banco são hospedagens, os dados são a bagagem, o objeto que tira os dados do "turista" e coloca ou no Servlet (em XML) ou no Banco são "carregadores de bagagem". Quando a "bagagem" está guardada no hotel "Banco de Dados“, o "turista" recebe um ticket da bagagem para poder pegar ela depois (o Identificador único da tabela). </a:t>
            </a:r>
            <a:br>
              <a:rPr sz="1400"/>
            </a:br>
            <a:br>
              <a:rPr sz="800"/>
            </a:b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485280" y="57531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uri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028-932B-4AC3-B90E-0F1C974E8E0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Um Projeto X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419640" y="5157720"/>
            <a:ext cx="36036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7" descr="xpmanager_projetoxp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B5C-E4C0-4BE6-AFA1-3C394639433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6815-A2B8-476A-8FF1-6FC46652E23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lanejamento das iteraçõ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vida o projeto em etapas de 1 ou 2 semana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e prazos fixos e escolha um dia da semana para integrações e entregas; (segunda ou sexta-feir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laneje reuniões diárias para acompanhar a evolução do projeto (“stand-up”, meeting matinal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 iterações serão as unidades de referência para fazer estimativa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e no jogo para entregar um produto a cada iter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B33C-2144-4D01-9A47-21CDD1BA2A0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Papéis no X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0666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ig Boss / Xp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981080" y="2311560"/>
            <a:ext cx="57913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gendar  reuniõ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ever ata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nter o XP Tracker informado dos acontecimentos das reuniõ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ão 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ixar que problemas externos interfiram no desenvolvi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zer quando as coisas devem acontec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izer às pessoas o que fa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brar das pesso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9BB7-F84B-4733-AD08-D92FA6B7702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Papéis no X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43000" y="1905120"/>
            <a:ext cx="645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Xp Gold Owner (Cliente 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prietário do our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66680" y="2743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É quem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aga pelo sistema,  geralmente o dono d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219320" y="3733920"/>
            <a:ext cx="38862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ever User Sto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ir priorid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ir testes de aceit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Validar testes de aceit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larecer dúvi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219320" y="3124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Xp Goal Do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876920" y="3962520"/>
            <a:ext cx="38862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ão 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mplementar códi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ir quanto tempo uma tarefa leva para ser fe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DAF-F339-4D5A-B981-25E590C7363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Papéis no X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8800" y="1981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Xp Coach                    Xp Trac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371600" y="25779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sponsável pela negociação com o cliente quanto ao escopo e pela coordenação do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Planning Ga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73392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orden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257800" y="2590920"/>
            <a:ext cx="358128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letar métr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nter todos informados do que está acontecen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finir testes de aceit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omar atitudes diante de proble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gerir sessões de CRC (Class, Responsabilities, Collabor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4952880" y="20574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539640" y="4653000"/>
            <a:ext cx="3311640" cy="1440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WordArt 10"/>
          <p:cNvSpPr txBox="1"/>
          <p:nvPr/>
        </p:nvSpPr>
        <p:spPr>
          <a:xfrm>
            <a:off x="811080" y="501336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métrica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1" name="AutoShape 11"/>
          <p:cNvSpPr/>
          <p:nvPr/>
        </p:nvSpPr>
        <p:spPr>
          <a:xfrm rot="19452600">
            <a:off x="3573360" y="453672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8A3-92A1-44C9-975B-2E68E608679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Verdana"/>
              </a:rPr>
              <a:t>Papéis no X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577960"/>
            <a:ext cx="723888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timar prazos de User Sto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mplementar código de produ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rabalhar em p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azer refacto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rrigir b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Não deve faz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riar/Alterar novas funcionalid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crever testes de aceit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200400" y="1828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gramador  (Driver/Partn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C6B-5F64-4442-91BF-D675AA56A3A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onclu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xtreme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it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iscipl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Mudança é algo norm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ceitar, não fug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njunto de boas prát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90B5-666D-4218-9A5B-5828B6D0451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anifesto Ágil </a:t>
            </a: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[2/2]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mos evidenciando maneiras melhores de desenvolver software fazendo-o nós mesmos e ajudando outros a fazê-lo. Através desse trabalho, passamos a entender qu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Indivíduos e interaçõe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ão mais importantes qu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rocessos e ferrament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Software funcionando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mais importante do qu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ocumentação completa e detalh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Colaboração com o 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mais importante do qu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egociação de contra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daptação a mudança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mais importante do qu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guir o plano inicia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ja, mesmo tendo valor os itens à direita, valorizamos mais os itens à esquerda. 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9307-284E-4F80-B267-DDF3E8106F4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ferênci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XPRecife – Grupo de Estudos de Métodos Ágeis de Rec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www.cin.ufpe.br/~xprecif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Xispê – Portal Brasileiro de X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www.xispe.com.b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53D9-EAF7-4B68-8456-3E289A37938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etodologias Áge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eXtreme Progra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D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Lean Software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ristal Fam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cr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..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80D3-0EC5-4E5C-B878-2C8C3DF7D4D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2564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 meados de 1990,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Comic Sans MS"/>
              </a:rPr>
              <a:t>Kent Beck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curou                  formas mais simples e eficientes de desenvolver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ntificou o que tornava simples e o que dificultava o desenvolvimento de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 Março de 1996, ele iniciou um projeto com novos conceitos que resultaram na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todologia XP -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eXtreme Programm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surgimento do X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FA6B-2DF4-4BDE-B587-836CA78A606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192564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rata-se de uma metodologia ágil para equipes pequenas e médias desenvolvendo software com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Comic Sans MS"/>
              </a:rPr>
              <a:t>requisitos vago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e em constante mudança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Comic Sans MS"/>
              </a:rPr>
              <a:t>O que é </a:t>
            </a:r>
            <a:r>
              <a:rPr b="0" i="1" lang="pt-BR" sz="3200" spc="-1" strike="noStrike">
                <a:solidFill>
                  <a:srgbClr val="333399"/>
                </a:solidFill>
                <a:latin typeface="Comic Sans MS"/>
              </a:rPr>
              <a:t>eXtreme Programming</a:t>
            </a:r>
            <a:r>
              <a:rPr b="0" lang="pt-BR" sz="32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661800" y="366552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Kent Be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5" descr="kent"/>
          <p:cNvPicPr/>
          <p:nvPr/>
        </p:nvPicPr>
        <p:blipFill>
          <a:blip r:embed="rId1"/>
          <a:stretch/>
        </p:blipFill>
        <p:spPr>
          <a:xfrm>
            <a:off x="2627280" y="407664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B4E5-554C-456A-B9A9-0B2871B7206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gramando ao Extrem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evar todas as boas práticas ao Extre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testar é bom, vamos testar toda hora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rojetar é bom, vamos fazer disso parte do trabalho diário de cada pesso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integrar é bom, vamos integrar a maior quantidade de vezes possíve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iterações curtas é bom, vamos deixar as iterações realmente curta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BC6-56E0-4A6E-AFDC-F92D845B652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udanças sempre ocorrem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lientes não sabem o que querem no iníc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envolvedores não sabem qual a melhor maneira de fazer o software no iníc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Medo da mudança trava o desenvolv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EC6-CB17-42B8-8745-3E1E845B10E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vanç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os últimos 30 anos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lhoria nos proce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terativo Incremen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lhorias nas ferramen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s, automação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ior abstração no desenvolv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rientação a Obje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rientação a Aspec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rientação a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9:58:32Z</dcterms:created>
  <dc:creator>Ricardo</dc:creator>
  <dc:description/>
  <dc:language>en-US</dc:language>
  <cp:lastModifiedBy>Alexandre Vasconcelos</cp:lastModifiedBy>
  <dcterms:modified xsi:type="dcterms:W3CDTF">2010-05-20T15:25:30Z</dcterms:modified>
  <cp:revision>229</cp:revision>
  <dc:subject/>
  <dc:title>eXtreme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