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C29-45B1-4C68-87F8-5E5DAC44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DD7-3EEA-4A75-95E3-C0FABD12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C8C-0B9A-4836-B8A8-86CAFB93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A7B-7974-4326-98A6-0EC0E445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B255-BEA4-4458-877E-1A43DDAE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8718-87E5-41B8-9C67-71F7577A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CD64-66C5-4F56-BBEA-228C4F48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3A89-951A-4F45-9912-0D448516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13B4-6C58-4A8E-89EF-8DF1A6EB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387B-B873-4810-AC66-E9CFA5E6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F31E-5240-4EA4-A3CA-6F37E16D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3FA-0F5C-4DB1-A017-02C0978E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1D0B-0C4E-4575-A90C-69ACE835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07A4-2B8D-4339-B0A7-9E92B60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0501-C7F3-4A4C-8CC0-2299C4B4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AA81-4BED-4BBD-A0C3-117822A9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58A0-51A9-46A7-86C9-157D89BF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15E1-BADA-4DE1-8ABB-70F04603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9C9C8-C408-42C3-8FE2-DC385929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2DFA9-B138-4C7A-8E0B-BCDD0DF6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A02F-9BC7-4F25-AC16-60CC06A9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E64FA-90F2-4909-B159-C2BFE83F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193-2036-4870-9431-6E8BA389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F99F-83D1-409E-A14A-4C492D37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3B16-B271-43D0-BEBF-61BCE62D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21FC-248C-41D2-9AC5-23B19071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A58A-37E7-4F16-8612-489F2B60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28B7A-7246-42AF-BE3A-C4E066FC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9365-7EA6-4872-B413-B5BDDCB5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A62EC-9357-4ED9-A8E3-E4EE63D2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455E3-6280-4743-8954-41AFCD68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56B56-27A8-4002-AF0F-AE3188F7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F95D7-B8B1-462C-ADA4-8BEB269E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5F4-41BC-422F-92EE-2946AF04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7717-28D6-4A37-81DE-0B98EA8F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67310-E5E8-47FA-A8B3-BC462F1F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75FE-4B12-470F-A4E3-0514B31C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882D7-B5D4-4661-B460-5CC040EC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8D09-8882-4DE0-BE89-0402AC13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A846-5722-4732-83CE-BB0ADDDB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2F66D-AEBA-45E9-87B9-B2EE034C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6684-0F89-48F6-9F78-67010769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682C7-ADCB-45D0-A8DE-8FD10773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20459-0195-4907-9A86-6F479ACB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3A8-69BE-4CB5-89E0-F1B9AEB7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764C4-D006-454E-B442-408BE0F7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9F615-CF6D-481A-B087-ED2A1F52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2732D-E92C-4CFF-9F1E-78BE1E86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488B0-54D5-49F7-8169-F4B65FA8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106F2-6F53-482D-9264-D09B80C2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50570-3AAE-459D-9F6F-B4461572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42B62-F337-4F3D-ACB0-5799EC76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BDB96-77E6-4C50-AA0F-294B3B5D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C900D-E0BB-4E52-BEA6-40CCEB0D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06EDE-A5C1-4E7C-BED8-51CA648E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D11-801B-460B-8074-8EDE807F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ED2ED-A412-48B9-8A54-1D2CA873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E5137-21DE-4F3D-967D-1594B857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A0FAE-72B5-4106-A9B7-19FFBCBF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765CA-A5A3-494E-92F8-6F3B569A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7405D-BDDE-47EC-9883-7439E631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72CDF-46D9-410C-8BF8-F324167F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7B76B-AF0B-46FB-BEFC-86112CD0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B28ED-9AF4-40E4-BF74-D37E2B37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C53B4-82C5-49AA-9D09-B216B494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98848-C9EF-48C1-88FD-4D56CF65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509-34F7-4B11-8ABE-34068E5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2E2F1-B163-4D7B-AF14-2FBA3A40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D16C4-92A7-4DE1-95FB-B5C6B7A2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9F8B8-1DCD-46D3-9ADE-0DEBAC97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CDBB0-9D9A-4A60-AB75-6C2071E0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5AD98-53FA-4F02-8262-27746B4A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AE1A4-85DF-4435-9E31-E8F3C27B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5BFD1-1644-4AAD-A6B9-26E8406F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EF845-B672-4B36-9938-09C112CD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C34A-C5F3-4DC3-A028-DB103655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9488F-8A53-4FB3-8C35-AC20C05A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E2C-1D60-49CD-9207-FCE876A7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C2A05-71A9-4249-A4C6-53A8D204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2E5BB-5DE5-43D3-BDE9-E13EDAFC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630DE-237A-4A06-A0A5-F646EB3C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8B0EF-AD07-4A15-A803-963128B5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CABE8-2AFB-4C1F-B9F0-4FB6D08F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7FDAC-E584-4D53-9C0C-B69EA73F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EBFD3-063C-480A-A341-4323F0D5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6D644-6CCB-44D6-96E6-00854380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F2CB3-084B-4338-9476-80C45ACB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56048-6F83-43E3-9F59-93854CCB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6BB-1FD9-4786-923A-A497D06F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15CE3-82B5-4D85-9CEB-D5F628A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DE343-53B7-435F-9679-CC05103B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586EB-9DB8-4D1A-ADEC-DD491962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1ED3F-CA4A-4D86-85AA-C843B326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548A5-3949-45A0-A6CD-DE5FDD31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375A9-C567-406F-B44F-442ACD98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3953E-D6CD-4DF2-B269-87E61B2B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CBCC-511F-4115-A970-2ADC7A6DE082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55" name="CaixaDeTexto 21"/>
          <p:cNvSpPr/>
          <p:nvPr/>
        </p:nvSpPr>
        <p:spPr>
          <a:xfrm>
            <a:off x="689040" y="2280960"/>
            <a:ext cx="77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Bookman Old Style"/>
              </a:rPr>
              <a:t>AfterLife</a:t>
            </a:r>
            <a:endParaRPr b="0" lang="en-US" sz="6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2BB3-DC96-4193-BA80-9CFB4C6FA5D4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9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104" name="CaixaDeTexto 14"/>
          <p:cNvSpPr/>
          <p:nvPr/>
        </p:nvSpPr>
        <p:spPr>
          <a:xfrm>
            <a:off x="468360" y="404640"/>
            <a:ext cx="820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Bookman Old Style"/>
              </a:rPr>
              <a:t>AfterLife</a:t>
            </a:r>
            <a:endParaRPr b="0" lang="en-US" sz="66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7BC8-875D-4BA0-AD41-F9F48646F81D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0BF3-11C9-44E8-B500-6F1A841E3563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19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9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11B3-7323-4227-8023-BD2DB158DA93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24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4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4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A6A6-B4D9-42FF-9EF5-69C4458C6548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29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A8CD-89AE-4B4C-9123-AAFC286FEEDF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grpSp>
        <p:nvGrpSpPr>
          <p:cNvPr id="33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34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34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34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  <p:sp>
          <p:nvSpPr>
            <p:cNvPr id="34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73e87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B71F-6B53-42B4-9294-FEF09CEED946}" type="slidenum"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5219640" y="4076640"/>
            <a:ext cx="3673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Equipe: 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Felipe Duarte</a:t>
            </a:r>
            <a:endParaRPr b="0" lang="en-US" sz="1800" spc="-1" strike="noStrike">
              <a:solidFill>
                <a:srgbClr val="073e8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Guilherme Cavalcanti</a:t>
            </a:r>
            <a:endParaRPr b="0" lang="en-US" sz="1800" spc="-1" strike="noStrike">
              <a:solidFill>
                <a:srgbClr val="073e8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Igor Gomes</a:t>
            </a:r>
            <a:endParaRPr b="0" lang="en-US" sz="1800" spc="-1" strike="noStrike">
              <a:solidFill>
                <a:srgbClr val="073e8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Jonathas Alves</a:t>
            </a:r>
            <a:endParaRPr b="0" lang="en-US" sz="1800" spc="-1" strike="noStrike">
              <a:solidFill>
                <a:srgbClr val="073e8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Mailson Lira</a:t>
            </a:r>
            <a:endParaRPr b="0" lang="en-US" sz="1800" spc="-1" strike="noStrike">
              <a:solidFill>
                <a:srgbClr val="073e8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pt-BR" sz="1800" spc="-1" strike="noStrike">
                <a:solidFill>
                  <a:srgbClr val="073e87"/>
                </a:solidFill>
                <a:latin typeface="Candara"/>
              </a:rPr>
              <a:t>Mateus Gondim</a:t>
            </a:r>
            <a:endParaRPr b="0" lang="en-US" sz="18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Requisito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Visões do sistema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Administrado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Gerent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Atendent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Requisito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8" name="Picture 4" descr="requisitos"/>
          <p:cNvPicPr/>
          <p:nvPr/>
        </p:nvPicPr>
        <p:blipFill>
          <a:blip r:embed="rId1"/>
          <a:stretch/>
        </p:blipFill>
        <p:spPr>
          <a:xfrm>
            <a:off x="900000" y="2276640"/>
            <a:ext cx="5524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79524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Diagrama de casos de uso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0" name="Picture 4" descr="C:\Users\mailson\Desktop\Diagrama corrigido 2.bmp"/>
          <p:cNvPicPr/>
          <p:nvPr/>
        </p:nvPicPr>
        <p:blipFill>
          <a:blip r:embed="rId1"/>
          <a:stretch/>
        </p:blipFill>
        <p:spPr>
          <a:xfrm>
            <a:off x="1187280" y="2565360"/>
            <a:ext cx="662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Apresentação do softwar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t-BR" sz="4800" spc="-1" strike="noStrike">
                <a:solidFill>
                  <a:srgbClr val="073e87"/>
                </a:solidFill>
                <a:latin typeface="Candara"/>
              </a:rPr>
              <a:t>Apresentando o AfterLife..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Roteiro da apresentação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O que é o AfterLife 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Objetivo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Cronograma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Risco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Ferramentas utilizada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Requisito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Diagrama de casos de uso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Apresentação do software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O que é o AfterLife 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AfterLife é um sistema gerenciador de cemitérios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Objetiv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Automatizar atividades de manipulação de dados(cadastros, remoções, consultas) de um cemitério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5191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Cronogram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1" name="Picture 5" descr="grafico"/>
          <p:cNvPicPr/>
          <p:nvPr/>
        </p:nvPicPr>
        <p:blipFill>
          <a:blip r:embed="rId1"/>
          <a:stretch/>
        </p:blipFill>
        <p:spPr>
          <a:xfrm>
            <a:off x="611280" y="2133720"/>
            <a:ext cx="72007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Risco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Falta de expertise na definição do cronogram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Mudanças de requisito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Problemas pessoa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Problemas com a infraestrutur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Distribuição de tarefas desbalancead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9528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Ferramentas utilizada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Desenvolviment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Eclipse Ganymed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Java JDK 1.6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Windows 7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Oracle 10g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PhotoFilter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Gerenciament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Microsoft Project 2010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Controle de versã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SubVersion(SVN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4" name="Picture 4" descr="C:\Users\Guilherme\Downloads\eclipse.jpg"/>
          <p:cNvPicPr/>
          <p:nvPr/>
        </p:nvPicPr>
        <p:blipFill>
          <a:blip r:embed="rId1"/>
          <a:stretch/>
        </p:blipFill>
        <p:spPr>
          <a:xfrm>
            <a:off x="4325760" y="2322360"/>
            <a:ext cx="1589400" cy="92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5" name="Picture 5" descr="C:\Users\Guilherme\Downloads\Índice.jpg"/>
          <p:cNvPicPr/>
          <p:nvPr/>
        </p:nvPicPr>
        <p:blipFill>
          <a:blip r:embed="rId2"/>
          <a:stretch/>
        </p:blipFill>
        <p:spPr>
          <a:xfrm>
            <a:off x="7561440" y="2322360"/>
            <a:ext cx="1193760" cy="82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6" name="Picture 6" descr="C:\Users\Guilherme\Downloads\Java.jpg"/>
          <p:cNvPicPr/>
          <p:nvPr/>
        </p:nvPicPr>
        <p:blipFill>
          <a:blip r:embed="rId3"/>
          <a:stretch/>
        </p:blipFill>
        <p:spPr>
          <a:xfrm>
            <a:off x="6315120" y="2322360"/>
            <a:ext cx="718920" cy="7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7" name="Picture 7" descr="C:\Users\Guilherme\Downloads\JUnit.jpg"/>
          <p:cNvPicPr/>
          <p:nvPr/>
        </p:nvPicPr>
        <p:blipFill>
          <a:blip r:embed="rId4"/>
          <a:stretch/>
        </p:blipFill>
        <p:spPr>
          <a:xfrm>
            <a:off x="4368960" y="3645000"/>
            <a:ext cx="942840" cy="49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8" name="Picture 8" descr="C:\Users\Guilherme\Downloads\Oracle.jpg"/>
          <p:cNvPicPr/>
          <p:nvPr/>
        </p:nvPicPr>
        <p:blipFill>
          <a:blip r:embed="rId5"/>
          <a:stretch/>
        </p:blipFill>
        <p:spPr>
          <a:xfrm>
            <a:off x="5654520" y="3624120"/>
            <a:ext cx="1020960" cy="96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9" name="Picture 9" descr="C:\Users\Guilherme\Downloads\project 2010.jpg"/>
          <p:cNvPicPr/>
          <p:nvPr/>
        </p:nvPicPr>
        <p:blipFill>
          <a:blip r:embed="rId6"/>
          <a:stretch/>
        </p:blipFill>
        <p:spPr>
          <a:xfrm>
            <a:off x="6999120" y="3645000"/>
            <a:ext cx="1889280" cy="65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0" name="Picture 10" descr="C:\Users\Guilherme\Downloads\wom7.jpg"/>
          <p:cNvPicPr/>
          <p:nvPr/>
        </p:nvPicPr>
        <p:blipFill>
          <a:blip r:embed="rId7"/>
          <a:stretch/>
        </p:blipFill>
        <p:spPr>
          <a:xfrm>
            <a:off x="5803920" y="4941720"/>
            <a:ext cx="1195200" cy="10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79524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Utilizando o JUnit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2" name="Imagem 2" descr="Recorte de Tela"/>
          <p:cNvPicPr/>
          <p:nvPr/>
        </p:nvPicPr>
        <p:blipFill>
          <a:blip r:embed="rId1"/>
          <a:stretch/>
        </p:blipFill>
        <p:spPr>
          <a:xfrm>
            <a:off x="971640" y="2637000"/>
            <a:ext cx="75754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68320" y="1916280"/>
            <a:ext cx="74073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73e87"/>
                </a:solidFill>
                <a:latin typeface="Candara"/>
              </a:rPr>
              <a:t>Utilizando o SVN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4" name="Imagem 1" descr="Recorte de Tela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Requisito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Com o objetivo de obter uma visão mais clara do domínio do problema e identificar requisitos, os seguintes cemitérios foram visitado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Cemitério da Várze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Cemitério de Olind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73e87"/>
                </a:solidFill>
                <a:latin typeface="Candara"/>
              </a:rPr>
              <a:t>Cemitério Morada da Paz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3:58:46Z</dcterms:created>
  <dc:creator>NILTON LUIZ DE NADAI</dc:creator>
  <dc:description/>
  <dc:language>en-US</dc:language>
  <cp:lastModifiedBy>mailson</cp:lastModifiedBy>
  <dcterms:modified xsi:type="dcterms:W3CDTF">2010-11-16T17:33:18Z</dcterms:modified>
  <cp:revision>27</cp:revision>
  <dc:subject/>
  <dc:title>AfterLife</dc:title>
</cp:coreProperties>
</file>