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114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1D92-E339-4664-A421-77AB8A15B08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51C4-8613-4932-A2FB-36C2A6CA676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259D-AC9B-45AB-A168-CF40641E590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0950-3FFF-4C69-9FDD-6739B977BF0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AFB1-A076-450F-83FB-0BF9B28AD2E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451A-A128-4F76-BA2E-BD40FC6297D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D6A5-116F-4AFA-9286-35FDB6CAC3A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1086-513E-4D43-9490-5B5E9190568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D0D8-915E-4EA1-ACA8-ABC9F050F5F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F952-6ED3-46D4-B619-785C90EC0F2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B966-5219-4917-A3D0-FC2F2E86ACB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12AF-C242-4B89-9E9B-E15ADEC9D0B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4B47-E0F9-4E89-BD62-F73E10D935B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A9F8-96E0-4682-99DF-AFF6F237681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295C-27B6-42BF-9017-2620A72259F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870E-4677-4DB2-A48D-D0CFFC371FF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952E-9934-4936-B09B-DF9E7290EDB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97BB-80C5-4CD1-9CF5-C9189958D7C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42A0-318C-4362-B96E-20C2F5BC502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4225-BAAF-40F2-9757-DF484D9FEC1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DA93-0839-4162-ACEC-5103C9139D8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BA12-CE9A-4220-BA54-CC32E8DB697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DE59-F200-4FEC-B1A5-E6C2D6BC217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C8F8-D8C5-497E-AC80-AC54E1A4374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806D-2730-4D3F-BDC7-4C4AB4BA75A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212E-6993-4C0F-8C9F-F6F07875E64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A379-9EAB-42B1-A3DB-CC014C674C5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F41F-6157-4F3D-B73E-D542F363330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58CB-E376-48B9-97AF-ED35511C302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9D2D-332A-4A8C-A166-74665F092E8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49C1-B7C8-47CB-9BBF-463935B967F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B820-F68F-401A-B118-DC09D8C5311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8AF8-D476-43EF-9342-443CE2D465C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2571-2BA0-4F98-A712-8B8D8CA0F59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0FDD-F14A-47C2-AD84-7AAE5540976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FEF3-8958-485D-8541-2B673BE7EC7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6C84-B32B-438F-A75D-EC3813AA882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A18E-1F48-4F67-AC0A-E60FC0F2CAF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ECF4-A50A-4B5B-80A6-F0A2EFBB491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7BE7-5FC4-4153-BF6D-002672E4B04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DC55-E6A4-4607-A12D-93D9234ADBC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CA40-2502-4F5F-9CEA-B2845EFBE7C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5165-470C-4683-B589-C5284C5A0F8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15C9-390E-4D2E-A57E-72FB16F15D9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44E1-13FF-412F-83D2-4B96F80A232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9692-B0B0-4C37-8491-EE94A44BE6C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39B8-EDCE-4A2B-AA6D-634C6A81CD9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294D-2156-4E0B-A4AE-44736113587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7025-3C7A-44D0-B17E-5E0F0BEC436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890D-DEC8-44D9-BD11-AB14F982315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17E8-BFCD-4B4A-AE78-5380D60736E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8A42-A56E-4322-AC72-C40A9F1AFA3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9E06-7294-43E3-89DE-59A0BE5DC29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2554200" y="831960"/>
            <a:ext cx="4040280" cy="303048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2580840" y="4165200"/>
            <a:ext cx="3971880" cy="39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We will discuss briefly each of these techniques in the following slid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Rectangle 4"/>
          <p:cNvSpPr/>
          <p:nvPr/>
        </p:nvSpPr>
        <p:spPr>
          <a:xfrm>
            <a:off x="228600" y="1211400"/>
            <a:ext cx="2133720" cy="63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What follows is a crash course in elicitation techniques. We will briefly discuss each topic in turn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Many of these techniques can be used together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There are many other techniques such as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ZapfHumnst BT"/>
              <a:buChar char="•"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Production softwar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ZapfHumnst BT"/>
              <a:buChar char="•"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Task analysi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ZapfHumnst BT"/>
              <a:buChar char="•"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Note: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Storyboarding and prototyping have been moved to “Module 7: Refining the System Definition”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D8FE-73D4-489A-9CA3-4623A98A28B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2554200" y="831960"/>
            <a:ext cx="4040280" cy="303048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2580840" y="4165200"/>
            <a:ext cx="3971880" cy="39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Interviewing is probably the most useful technique to directly get needs from your stakeholders.  It is helpful to interview key stakeholders for your projec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Rectangle 4"/>
          <p:cNvSpPr/>
          <p:nvPr/>
        </p:nvSpPr>
        <p:spPr>
          <a:xfrm>
            <a:off x="228600" y="1211400"/>
            <a:ext cx="2133720" cy="71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Refer back to the interview exercise we did at the beginning of the class to determine their needs for this clas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D938-D57C-4BA9-BC7B-ED3B9D9DBD1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2554200" y="831960"/>
            <a:ext cx="4040280" cy="303048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2580840" y="4165200"/>
            <a:ext cx="3971880" cy="39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One of the 4 types of interview question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ZapfHumnst BT"/>
              </a:rPr>
              <a:t>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Produ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Meta-ques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FA84-2A6A-4932-9029-802BFBAE616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2554200" y="831960"/>
            <a:ext cx="4040280" cy="303048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2580840" y="4165200"/>
            <a:ext cx="3971880" cy="39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One of the 4 types of interview question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ZapfHumnst BT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Produ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1141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ZapfHumn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Meta-ques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5C61-57BE-4E98-97A8-78B949AA559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2554200" y="831960"/>
            <a:ext cx="4040280" cy="303048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2580840" y="4165200"/>
            <a:ext cx="3971880" cy="39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A questionnaire can be useful for gathering data, but it should still be prefaced by interviews to determine the correct questions to ask.  How many customers should be interviewed to determine a good cross-section of questions?  Usually 12-15 is adequate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Most items should be categorized to allow for statistical analysi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Always leave some open-ended questions to allow for new ide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4"/>
          <p:cNvSpPr/>
          <p:nvPr/>
        </p:nvSpPr>
        <p:spPr>
          <a:xfrm>
            <a:off x="228600" y="1211400"/>
            <a:ext cx="221148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Should still be prefaced by interviews to determine the correct questions to ask.  How many customers should be interviewed to determine a good cross-section of questions?  Usually 12-15 is adequate.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Most items should be categorized to allow for statistical analysi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Always leave some open-ended questions to allow for new idea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28F3-D385-4612-AA50-D6DC6481E5F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2554200" y="831960"/>
            <a:ext cx="4040280" cy="303048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2580840" y="4165200"/>
            <a:ext cx="3971880" cy="39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We will present a use-case model for defining our requirements, but we will often find that as we develop this model, it will uncover other needs that were not apparent originall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As a high-level elicitation technique, use cases and actors should be identified.  This gives us a context for finding the needs of the stakeholders in terms of the functionality and interfaces of the syste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In conjunction with identifying use cases, we might need to use our other elicitation techniques. For example, it is common to hold a requirements workshop for the purpose of identifying use cas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A70E-DFDC-4335-A8AB-C7562A8985D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2554200" y="831960"/>
            <a:ext cx="4040280" cy="303048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580840" y="4165200"/>
            <a:ext cx="3971880" cy="39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We will present a use-case model for defining our requirements, but we will often find that as we develop this model, it will uncover other needs that were not apparent originall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As a high-level elicitation technique, use cases and actors should be identified.  This gives us a context for finding the needs of the stakeholders in terms of the functionality and interfaces of the syste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In conjunction with identifying use cases, we might need to use our other elicitation techniques. For example, it is common to hold a requirements workshop for the purpose of identifying use cas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3038-1ED0-405B-8CF7-10DB43276DE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2554200" y="831960"/>
            <a:ext cx="4040280" cy="303048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2580840" y="4165200"/>
            <a:ext cx="3971880" cy="39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If the people you are getting requirements from are not the actual user, sometimes it can be useful to have them take on the role of a user and walk through some user scenari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Rectangle 4"/>
          <p:cNvSpPr/>
          <p:nvPr/>
        </p:nvSpPr>
        <p:spPr>
          <a:xfrm>
            <a:off x="228600" y="1285920"/>
            <a:ext cx="2133720" cy="60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Ask group if they’ve used this techniqu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If anyone has used CRC cards they can share how they were used and if they were successful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The CRC Card technique is based on paper by Kent Beck and Ward Cunningham.  The technique was made popular by Rebecca Wirffs-Brock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24CD-E113-4775-9C6E-A842FBA0D7C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2554200" y="831960"/>
            <a:ext cx="4040280" cy="303048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2580840" y="4165200"/>
            <a:ext cx="3971880" cy="39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02FC-B557-4E8B-8751-6FE4893AFF0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05DA-BBEC-4A20-A0CE-37E80A6CA16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2554200" y="831960"/>
            <a:ext cx="4040280" cy="303048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2580840" y="4165200"/>
            <a:ext cx="3971880" cy="39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A requirements workshop is one of the most cost-effective and time-efficient means to get feedback.  The same concepts are used in JAD (Joint Application Development) or RAD (Rapid Application Development) session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Rectangle 4"/>
          <p:cNvSpPr/>
          <p:nvPr/>
        </p:nvSpPr>
        <p:spPr>
          <a:xfrm>
            <a:off x="228600" y="1211400"/>
            <a:ext cx="2133720" cy="63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Ask: “Has anyone participated in a similar workshop?”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This section is much more effective if it is presented in the context of a real (or close to real) workshop in which you have actually participated -- or at least in the context of an imaginary one which you might want to set up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881F-2C34-42B9-9DC5-59489CA6713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BB3F-8440-408E-BF98-76789C5D3E8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43AA-FFB1-4566-A343-48627639840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708D-F5C2-44E4-BEF0-6083BD9CADE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E40D-A15C-4849-8A4E-3A223B5A3EB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022B-8054-4C2A-83E3-7A37913F511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C546-BC49-4555-85A7-35C76602C3A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66B3-7712-48A2-80A5-79E1A3DFFFA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1456-72D0-4972-9F65-0D70A975744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C95D-7B19-4783-861A-24D175CE7FC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C8CA-D9E4-4827-83FE-779FF3B4505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03AF-CF7F-4F74-9B6B-185FE945A0E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2BF2-59F1-4DEA-BF53-3EF296DEBE7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ECD1-2795-407D-A296-F6EB8D61E4C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56B5-793C-451A-BE03-D6015AF1360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D489-57D3-4EE8-8109-B3BFF68A737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D168-2D1F-4DA5-867A-959565928BA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F80F-8F40-4DE0-91D6-0FF8FA10542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8090-0783-4EF1-A9C0-88D3D1B1860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87CD-F051-4E9F-BD69-9933974C1DA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2554200" y="831960"/>
            <a:ext cx="4040280" cy="303048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2580840" y="4165200"/>
            <a:ext cx="3971880" cy="39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Based on this structure, we then need to set up traceability links between all associated requirements or other project elemen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18B6-02C1-4E12-9A56-377F4377AA3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C8A5-28AE-4D4C-87C3-B2AF16017FC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2554200" y="831960"/>
            <a:ext cx="4040280" cy="303048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2580840" y="4165200"/>
            <a:ext cx="3971880" cy="39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RequisitePro provides what are called “suspect links”, which can notify that an associated requirement has chang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All directly related requirements should be reviewed to assess whether they are affec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Why is the link from Req B to Req C not marked as suspect?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The only way to resolve suspect links are manually (by actually looking at the changes and the affected requirements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4"/>
          <p:cNvSpPr/>
          <p:nvPr/>
        </p:nvSpPr>
        <p:spPr>
          <a:xfrm>
            <a:off x="228600" y="1211400"/>
            <a:ext cx="2133720" cy="67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RequisitePro provides what are called “suspect links”, which notify that an associated requirement has changed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All directly related requirements should be reviewed to assess whether they are impacted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Why is the link from Req B to Req C not marked as suspect?  Because it will only go suspect if B actually changes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The only way to resolve these are manually (by actually looking at the changes and the affected requirements)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ZapfHumnst BT"/>
              </a:rPr>
              <a:t>You can probably make a *lot* of money if you could figure out a way to do this automatically (joke)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96EB-F19D-48A1-B196-46A10FC21B0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972F-5DFE-4AC4-AFA6-09E8841D739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99FF-CCB7-4A68-9B99-A8AF3EC9850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416D-62DE-4CC0-AA33-9C376C0142E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8C24-0154-4854-90AD-33638CD74E5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EEF7-4066-45D5-8009-A3B7D39BC28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4143-3187-4230-8E36-DF2406551DC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544F-5B60-4CFB-9B30-57FC2BEB767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93E4-FAC0-4D6D-8139-7C171DB6D8A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BF13-D723-4E6C-9302-4B2F8DD82DC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4253-50EB-4FCF-8216-5502EA4F256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6BF8-BBC5-42BB-8975-BAB72CEE729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B34A-5FE3-472C-83C7-618AB469C9D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A61C-618C-4CEE-843B-4C6EF436F46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ADF9-CDFC-46A4-8CBD-BB9B92A36C9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CCAF-EAC9-47DE-9BA3-6CE66A10311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51A4-F543-4622-B053-C7A2C5F0AC5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B7A4-67E6-44BD-978D-65F55556291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F589-EBD8-4DCF-B947-F6A8F28E674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F260-A716-4351-A5F0-92AD3202F0B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1EA2-1CBE-4EE0-B1BC-E6E697A850E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2779-155F-4653-883A-096C23E84C8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8A98-4C77-4174-93D3-2957EF6FA59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DF40-98AA-4C55-B7EB-9C193AA5E41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A4C5-E59B-4A56-9053-B3D4AD339D4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5592-5F91-4BD3-B519-756206598BA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720E-6CEC-4D8D-A26E-15DA239A899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C7EE-D25F-4918-80DA-6930D9E42C3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0560-52BA-4622-A4A8-FF124197CD6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8A87-B75E-4839-AAC9-6B27B2AF457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4DF8-119D-4C13-81E2-B9EC8D285C1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CFCE-EAAE-45E2-BC2B-5C33C3A14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F3C8-407D-4395-BD40-DD66A5DF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90D7-E22B-44BF-9A22-946747AC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D86C-3F52-484C-BF7F-5308BB902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3C57-4B5F-4769-AF31-8AF2A1F62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E31B-596B-46F9-A3F4-22B0AE16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3600-1EA6-41FA-9141-3CC22334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08B6-B785-492A-A4D9-2AD3F01A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8774-0E48-4C83-A14C-5C5D31A4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D861-C615-47C1-B035-890FD4D4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6AE5-8C7B-4AAD-BF59-83AC81D3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F7FD-4110-4686-B8BC-30C3AC6C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C0E0-5F0C-4D0E-8DA1-82BCD77D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DAA8-4884-4E9E-858D-AF160CDC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1511-55C4-480A-82E0-CD1B4607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CDAA-6241-419E-85E7-3DFD0965A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540F-4273-46A0-A5F4-07D9ADBF4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EB1E-2F3B-4E02-8437-C64AA490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0B71-BE69-40D7-812F-F1336F06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F97F-957C-476B-869E-38CD70C2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9449-F540-4BEE-8E31-0F53CC5A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0C93-1B87-400F-99DB-2395FDDD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7D02-BA78-4EAA-A296-39DC8BE6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C18D-C428-40A0-BDC5-452D24E0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6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1027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1028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1029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1030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1031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1032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F8B7-3270-40BD-8A6A-34D517D007AB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1709-A639-4663-B316-4539989F3118}" type="slidenum">
              <a:rPr b="0" lang="pt-BR" sz="1400" spc="-1" strike="noStrike">
                <a:solidFill>
                  <a:srgbClr val="1c1c1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47E1-EF83-4B67-901E-A4E182542F22}" type="slidenum">
              <a:rPr b="0" lang="pt-BR" sz="1400" spc="-1" strike="noStrike">
                <a:solidFill>
                  <a:srgbClr val="1c1c1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Engenharia de Requisit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lexandre Vasconcel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(amlv@cin.ufpe.br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FDAF-9EEB-46D9-A325-1CED4EA8494C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Testes de Viabilidad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onogra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aliação de quão razoável está o cronograma do proje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conômi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valiação de custo-eficiência de um projeto ou solu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nhecida como análise de custo/benefíc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7BE7-1317-40ED-9103-0ACAB80879E1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Especializaçã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i="1" lang="pt-BR" sz="3200" spc="-1" strike="noStrike">
                <a:solidFill>
                  <a:srgbClr val="000000"/>
                </a:solidFill>
                <a:latin typeface="Comic Sans MS"/>
              </a:rPr>
              <a:t>se case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 pode especializar outr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dição/refinamento do fluxo de eventos origi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specialização permite modelar comportamento de estruturas de aplicação em comu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B897-87E1-4BBA-A611-C0BCEABB6A13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Especializaçã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17" name="Oval 3"/>
          <p:cNvSpPr/>
          <p:nvPr/>
        </p:nvSpPr>
        <p:spPr>
          <a:xfrm>
            <a:off x="6248520" y="2209680"/>
            <a:ext cx="2361960" cy="106704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Text Box 4"/>
          <p:cNvSpPr/>
          <p:nvPr/>
        </p:nvSpPr>
        <p:spPr>
          <a:xfrm>
            <a:off x="6423480" y="3216240"/>
            <a:ext cx="205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tendi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Oval 5"/>
          <p:cNvSpPr/>
          <p:nvPr/>
        </p:nvSpPr>
        <p:spPr>
          <a:xfrm>
            <a:off x="557280" y="2209680"/>
            <a:ext cx="2361960" cy="106704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Text Box 6"/>
          <p:cNvSpPr/>
          <p:nvPr/>
        </p:nvSpPr>
        <p:spPr>
          <a:xfrm>
            <a:off x="660600" y="3216240"/>
            <a:ext cx="205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tendi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e urgê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Line 7"/>
          <p:cNvSpPr/>
          <p:nvPr/>
        </p:nvSpPr>
        <p:spPr>
          <a:xfrm>
            <a:off x="2919240" y="27432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Text Box 8"/>
          <p:cNvSpPr/>
          <p:nvPr/>
        </p:nvSpPr>
        <p:spPr>
          <a:xfrm rot="5400000">
            <a:off x="5918760" y="24735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3" name="Group 9"/>
          <p:cNvGrpSpPr/>
          <p:nvPr/>
        </p:nvGrpSpPr>
        <p:grpSpPr>
          <a:xfrm>
            <a:off x="1523880" y="4572000"/>
            <a:ext cx="457200" cy="1371600"/>
            <a:chOff x="1523880" y="4572000"/>
            <a:chExt cx="457200" cy="1371600"/>
          </a:xfrm>
        </p:grpSpPr>
        <p:sp>
          <p:nvSpPr>
            <p:cNvPr id="724" name="Oval 10"/>
            <p:cNvSpPr/>
            <p:nvPr/>
          </p:nvSpPr>
          <p:spPr>
            <a:xfrm>
              <a:off x="1600200" y="4572000"/>
              <a:ext cx="304920" cy="304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5" name="Line 11"/>
            <p:cNvSpPr/>
            <p:nvPr/>
          </p:nvSpPr>
          <p:spPr>
            <a:xfrm flipV="1">
              <a:off x="1752480" y="4876560"/>
              <a:ext cx="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6" name="Line 12"/>
            <p:cNvSpPr/>
            <p:nvPr/>
          </p:nvSpPr>
          <p:spPr>
            <a:xfrm flipV="1">
              <a:off x="1523880" y="5410080"/>
              <a:ext cx="22860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7" name="Line 13"/>
            <p:cNvSpPr/>
            <p:nvPr/>
          </p:nvSpPr>
          <p:spPr>
            <a:xfrm flipH="1" flipV="1">
              <a:off x="1752120" y="5410080"/>
              <a:ext cx="22860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8" name="Line 14"/>
            <p:cNvSpPr/>
            <p:nvPr/>
          </p:nvSpPr>
          <p:spPr>
            <a:xfrm>
              <a:off x="1523880" y="51055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29" name="Group 15"/>
          <p:cNvGrpSpPr/>
          <p:nvPr/>
        </p:nvGrpSpPr>
        <p:grpSpPr>
          <a:xfrm>
            <a:off x="7238880" y="4572000"/>
            <a:ext cx="457200" cy="1371600"/>
            <a:chOff x="7238880" y="4572000"/>
            <a:chExt cx="457200" cy="1371600"/>
          </a:xfrm>
        </p:grpSpPr>
        <p:sp>
          <p:nvSpPr>
            <p:cNvPr id="730" name="Oval 16"/>
            <p:cNvSpPr/>
            <p:nvPr/>
          </p:nvSpPr>
          <p:spPr>
            <a:xfrm>
              <a:off x="7315200" y="4572000"/>
              <a:ext cx="304920" cy="304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1" name="Line 17"/>
            <p:cNvSpPr/>
            <p:nvPr/>
          </p:nvSpPr>
          <p:spPr>
            <a:xfrm flipV="1">
              <a:off x="7467480" y="4876560"/>
              <a:ext cx="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2" name="Line 18"/>
            <p:cNvSpPr/>
            <p:nvPr/>
          </p:nvSpPr>
          <p:spPr>
            <a:xfrm flipV="1">
              <a:off x="7238880" y="5410080"/>
              <a:ext cx="22860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3" name="Line 19"/>
            <p:cNvSpPr/>
            <p:nvPr/>
          </p:nvSpPr>
          <p:spPr>
            <a:xfrm flipH="1" flipV="1">
              <a:off x="7467120" y="5410080"/>
              <a:ext cx="22860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4" name="Line 20"/>
            <p:cNvSpPr/>
            <p:nvPr/>
          </p:nvSpPr>
          <p:spPr>
            <a:xfrm>
              <a:off x="7238880" y="51055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35" name="Line 21"/>
          <p:cNvSpPr/>
          <p:nvPr/>
        </p:nvSpPr>
        <p:spPr>
          <a:xfrm>
            <a:off x="2133720" y="5324400"/>
            <a:ext cx="4647960" cy="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Text Box 22"/>
          <p:cNvSpPr/>
          <p:nvPr/>
        </p:nvSpPr>
        <p:spPr>
          <a:xfrm rot="5400000">
            <a:off x="6733080" y="5040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Text Box 23"/>
          <p:cNvSpPr/>
          <p:nvPr/>
        </p:nvSpPr>
        <p:spPr>
          <a:xfrm>
            <a:off x="6851880" y="594360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Text Box 24"/>
          <p:cNvSpPr/>
          <p:nvPr/>
        </p:nvSpPr>
        <p:spPr>
          <a:xfrm>
            <a:off x="908640" y="5943600"/>
            <a:ext cx="157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6784-804E-4B8B-B1BA-F029611561C5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Fluxo de Event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Parte mais importante de um use c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tividade de requisit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Define a seqüência de ações entre o ator e o siste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3BC2-7A95-43FD-91C3-D5B694763420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Fluxo de Event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Geralmente em linguagem natur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Uso preciso de termos definidos no glossário de acordo com o domínio do proble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Também expresso formalm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ré e pós-condições (ou pseudo-código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AA2F-E5A0-4EC2-8374-7D46387927EE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Exemplo de Fluxo de Event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Um esboço inicial sobre Sacar dinheiro ser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 use case inicia quando o Cliente insere um cartão no CA. Sistema lê e valida informação do cart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istema pede a senha. Cliente entra com a senha. Sistema valida a senh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istema pede seleção do serviço. Cliente escolhe “Sacar dinheiro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278A-3129-426C-9BBC-D9ED024A764D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Exemplo de Fluxo de Event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Um esboço inicial sobre Sacar dinheiro ser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700"/>
              </a:spcBef>
              <a:buClr>
                <a:srgbClr val="ff0000"/>
              </a:buClr>
              <a:buSzPct val="55000"/>
              <a:buFont typeface="Comic Sans MS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istema pede a quantia a sacar. Cliente inform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700"/>
              </a:spcBef>
              <a:buClr>
                <a:srgbClr val="ff0000"/>
              </a:buClr>
              <a:buSzPct val="55000"/>
              <a:buFont typeface="Comic Sans MS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istema pede seleção da conta (corrente, etc). Cliente inform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700"/>
              </a:spcBef>
              <a:buClr>
                <a:srgbClr val="ff0000"/>
              </a:buClr>
              <a:buSzPct val="55000"/>
              <a:buFont typeface="Comic Sans MS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istema comunica com a rede para validar a conta, senha e o valor a saca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BB9A-1BD8-4AC5-B438-9FA804BCC1A7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Exemplo de Fluxo de Event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Um esboço inicial sobre Sacar dinheiro ser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Comic Sans MS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istema pede remoção do cartão. Cliente remov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Comic Sans MS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istema entrega quantia solicitad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B994-CE67-4812-A922-A91343C3907F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Exercíci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modele exercício anterior para mostrar a situação excepcional quando o serviço pode ser solicitado pelo browser do celula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B390-C2D3-45AA-B9ED-4544444C2C04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Fluxo de Event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Na descrição do que o sistema faz através de fluxos de eventos complet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urgem caminhos alternativ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asos diferentes a consider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feitos/valores diferentes a produzi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ventualmente descreve todos esses caminhos possíve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2C51-6597-4DFC-B86B-23C6942A4CB3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Sub-fluxos de Event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Fluxo de eventos visto co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Vários sub-fluxos de event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Sub-fluxos são descritos co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rincip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lternativos/excepcion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bordagem visa reuso de fluxos de eventos (sub-fluxo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658E-AA51-470C-A8E2-766547743D82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Viabilidade Operacional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valia a urgência do problema (visão e fases de estudo) ou a aceitação da solução (definição, seleção, aquisição, e fases do projeto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Há dois aspectos da viabilidade operacional a serem considera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 problema vale a pena ser resolvido ou a solução proposta para o problema funcionará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o o usuário final e a gerência sentem-se sobre o problema (solução)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B2F7-7F43-4F94-8950-84C16E77D5BD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Exemplo de Sub-flux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eja o </a:t>
            </a:r>
            <a:r>
              <a:rPr b="0" i="1" lang="pt-BR" sz="2800" spc="-1" strike="noStrike">
                <a:solidFill>
                  <a:srgbClr val="000000"/>
                </a:solidFill>
                <a:latin typeface="Comic Sans MS"/>
              </a:rPr>
              <a:t>use case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Validar usuár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luxo principa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use cas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inicia quando o sistema pede ao Cliente a senha. Cliente entra com senha. Sistema verifica se a senha é válida. Se a senha é válida, sistema confirma e termina o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use cas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luxo excepciona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 pode cancelar a transação a qualquer momento pressionando a tecla ESC, reiniciando o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use cas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. Nenhuma modificação é feita na conta do Client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luxo excepciona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Cliente entra com senha inválida, o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use cas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einici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2E49-61FD-4E2D-A45A-EE3E726D47FF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Diagrama de Atividad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Descreve fluxo de taref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spectos dinâmicos de um siste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odem também ser usados para criar sistemas executáve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pende do nível de detalhamento e grau de execução dos elementos us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lternativa para modelar fluxos de eventos de casos de u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Diagrama de atividades: exemplo</a:t>
            </a:r>
            <a:endParaRPr b="0" lang="en-US" sz="36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770" name="Picture 3" descr="C:\Users\Denise\Use Cases\diag_atividades.bmp"/>
          <p:cNvPicPr/>
          <p:nvPr/>
        </p:nvPicPr>
        <p:blipFill>
          <a:blip r:embed="rId1"/>
          <a:stretch/>
        </p:blipFill>
        <p:spPr>
          <a:xfrm>
            <a:off x="2209680" y="1857240"/>
            <a:ext cx="4505400" cy="4762800"/>
          </a:xfrm>
          <a:prstGeom prst="rect">
            <a:avLst/>
          </a:prstGeom>
          <a:ln w="0">
            <a:noFill/>
          </a:ln>
        </p:spPr>
      </p:pic>
      <p:sp>
        <p:nvSpPr>
          <p:cNvPr id="77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F752-5752-4AEE-942A-CE74E612EFCB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95C3-2B96-43FE-B8D4-35606034B770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Exercíci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Remodele o exercício anterior usando um diagrama de atividade no lugar de linguagem natur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6075-060D-47B0-B080-BD8422FD7FC9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Diagramas de </a:t>
            </a:r>
            <a:r>
              <a:rPr b="0" i="1" lang="pt-BR" sz="4400" spc="-1" strike="noStrike">
                <a:solidFill>
                  <a:srgbClr val="333399"/>
                </a:solidFill>
                <a:latin typeface="Comic Sans MS"/>
              </a:rPr>
              <a:t>Use Cas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Caracterizar limites da funcionalidade do siste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Comic Sans MS"/>
              </a:rPr>
              <a:t>Use cases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ão organizados dentro de um diagra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m diagramas de </a:t>
            </a:r>
            <a:r>
              <a:rPr b="0" i="1" lang="pt-BR" sz="3200" spc="-1" strike="noStrike">
                <a:solidFill>
                  <a:srgbClr val="000000"/>
                </a:solidFill>
                <a:latin typeface="Comic Sans MS"/>
              </a:rPr>
              <a:t>use ca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tores são relacionados por generalização/especializa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FC33-214C-4607-AE30-6F01BA78C790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Exemplo de Diagrama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80" name="Oval 3"/>
          <p:cNvSpPr/>
          <p:nvPr/>
        </p:nvSpPr>
        <p:spPr>
          <a:xfrm>
            <a:off x="4600440" y="2610000"/>
            <a:ext cx="1589400" cy="64296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Text Box 4"/>
          <p:cNvSpPr/>
          <p:nvPr/>
        </p:nvSpPr>
        <p:spPr>
          <a:xfrm>
            <a:off x="4664160" y="2714760"/>
            <a:ext cx="151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Transação 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tã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82" name="Group 5"/>
          <p:cNvGrpSpPr/>
          <p:nvPr/>
        </p:nvGrpSpPr>
        <p:grpSpPr>
          <a:xfrm>
            <a:off x="2687760" y="4038480"/>
            <a:ext cx="457200" cy="1371600"/>
            <a:chOff x="2687760" y="4038480"/>
            <a:chExt cx="457200" cy="1371600"/>
          </a:xfrm>
        </p:grpSpPr>
        <p:sp>
          <p:nvSpPr>
            <p:cNvPr id="783" name="Oval 6"/>
            <p:cNvSpPr/>
            <p:nvPr/>
          </p:nvSpPr>
          <p:spPr>
            <a:xfrm>
              <a:off x="2764080" y="4038480"/>
              <a:ext cx="304920" cy="304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4" name="Line 7"/>
            <p:cNvSpPr/>
            <p:nvPr/>
          </p:nvSpPr>
          <p:spPr>
            <a:xfrm flipV="1">
              <a:off x="2916360" y="4343040"/>
              <a:ext cx="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5" name="Line 8"/>
            <p:cNvSpPr/>
            <p:nvPr/>
          </p:nvSpPr>
          <p:spPr>
            <a:xfrm flipV="1">
              <a:off x="2687760" y="4876560"/>
              <a:ext cx="22860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6" name="Line 9"/>
            <p:cNvSpPr/>
            <p:nvPr/>
          </p:nvSpPr>
          <p:spPr>
            <a:xfrm flipH="1" flipV="1">
              <a:off x="2916000" y="4876560"/>
              <a:ext cx="22860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7" name="Line 10"/>
            <p:cNvSpPr/>
            <p:nvPr/>
          </p:nvSpPr>
          <p:spPr>
            <a:xfrm>
              <a:off x="2687760" y="45720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88" name="Text Box 11"/>
          <p:cNvSpPr/>
          <p:nvPr/>
        </p:nvSpPr>
        <p:spPr>
          <a:xfrm rot="20045400">
            <a:off x="1830960" y="35809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2107080" y="5410080"/>
            <a:ext cx="156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rporat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90" name="Group 13"/>
          <p:cNvGrpSpPr/>
          <p:nvPr/>
        </p:nvGrpSpPr>
        <p:grpSpPr>
          <a:xfrm>
            <a:off x="655560" y="4038480"/>
            <a:ext cx="457200" cy="1371600"/>
            <a:chOff x="655560" y="4038480"/>
            <a:chExt cx="457200" cy="1371600"/>
          </a:xfrm>
        </p:grpSpPr>
        <p:sp>
          <p:nvSpPr>
            <p:cNvPr id="791" name="Oval 14"/>
            <p:cNvSpPr/>
            <p:nvPr/>
          </p:nvSpPr>
          <p:spPr>
            <a:xfrm>
              <a:off x="731880" y="4038480"/>
              <a:ext cx="304920" cy="304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2" name="Line 15"/>
            <p:cNvSpPr/>
            <p:nvPr/>
          </p:nvSpPr>
          <p:spPr>
            <a:xfrm flipV="1">
              <a:off x="884160" y="4343040"/>
              <a:ext cx="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3" name="Line 16"/>
            <p:cNvSpPr/>
            <p:nvPr/>
          </p:nvSpPr>
          <p:spPr>
            <a:xfrm flipV="1">
              <a:off x="655560" y="4876560"/>
              <a:ext cx="22860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4" name="Line 17"/>
            <p:cNvSpPr/>
            <p:nvPr/>
          </p:nvSpPr>
          <p:spPr>
            <a:xfrm flipH="1" flipV="1">
              <a:off x="883800" y="4876560"/>
              <a:ext cx="22860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5" name="Line 18"/>
            <p:cNvSpPr/>
            <p:nvPr/>
          </p:nvSpPr>
          <p:spPr>
            <a:xfrm>
              <a:off x="655560" y="45720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96" name="Text Box 19"/>
          <p:cNvSpPr/>
          <p:nvPr/>
        </p:nvSpPr>
        <p:spPr>
          <a:xfrm rot="1679400">
            <a:off x="1549080" y="3581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Text Box 20"/>
          <p:cNvSpPr/>
          <p:nvPr/>
        </p:nvSpPr>
        <p:spPr>
          <a:xfrm>
            <a:off x="183960" y="5410080"/>
            <a:ext cx="134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98" name="Group 21"/>
          <p:cNvGrpSpPr/>
          <p:nvPr/>
        </p:nvGrpSpPr>
        <p:grpSpPr>
          <a:xfrm>
            <a:off x="1600200" y="1981080"/>
            <a:ext cx="457200" cy="1371600"/>
            <a:chOff x="1600200" y="1981080"/>
            <a:chExt cx="457200" cy="1371600"/>
          </a:xfrm>
        </p:grpSpPr>
        <p:sp>
          <p:nvSpPr>
            <p:cNvPr id="799" name="Oval 22"/>
            <p:cNvSpPr/>
            <p:nvPr/>
          </p:nvSpPr>
          <p:spPr>
            <a:xfrm>
              <a:off x="1676520" y="1981080"/>
              <a:ext cx="304920" cy="304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0" name="Line 23"/>
            <p:cNvSpPr/>
            <p:nvPr/>
          </p:nvSpPr>
          <p:spPr>
            <a:xfrm flipV="1">
              <a:off x="1828800" y="2285640"/>
              <a:ext cx="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1" name="Line 24"/>
            <p:cNvSpPr/>
            <p:nvPr/>
          </p:nvSpPr>
          <p:spPr>
            <a:xfrm flipV="1">
              <a:off x="1600200" y="2819160"/>
              <a:ext cx="22860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2" name="Line 25"/>
            <p:cNvSpPr/>
            <p:nvPr/>
          </p:nvSpPr>
          <p:spPr>
            <a:xfrm flipH="1" flipV="1">
              <a:off x="1828440" y="2819160"/>
              <a:ext cx="22860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3" name="Line 26"/>
            <p:cNvSpPr/>
            <p:nvPr/>
          </p:nvSpPr>
          <p:spPr>
            <a:xfrm>
              <a:off x="1600200" y="25146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04" name="Text Box 27"/>
          <p:cNvSpPr/>
          <p:nvPr/>
        </p:nvSpPr>
        <p:spPr>
          <a:xfrm>
            <a:off x="1332000" y="335268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Line 28"/>
          <p:cNvSpPr/>
          <p:nvPr/>
        </p:nvSpPr>
        <p:spPr>
          <a:xfrm flipH="1" flipV="1">
            <a:off x="2100240" y="4010040"/>
            <a:ext cx="3808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Line 29"/>
          <p:cNvSpPr/>
          <p:nvPr/>
        </p:nvSpPr>
        <p:spPr>
          <a:xfrm flipV="1">
            <a:off x="1219320" y="4005000"/>
            <a:ext cx="45720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07" name="Group 30"/>
          <p:cNvGrpSpPr/>
          <p:nvPr/>
        </p:nvGrpSpPr>
        <p:grpSpPr>
          <a:xfrm>
            <a:off x="8021520" y="1996920"/>
            <a:ext cx="457200" cy="1371600"/>
            <a:chOff x="8021520" y="1996920"/>
            <a:chExt cx="457200" cy="1371600"/>
          </a:xfrm>
        </p:grpSpPr>
        <p:sp>
          <p:nvSpPr>
            <p:cNvPr id="808" name="Oval 31"/>
            <p:cNvSpPr/>
            <p:nvPr/>
          </p:nvSpPr>
          <p:spPr>
            <a:xfrm>
              <a:off x="8097840" y="1996920"/>
              <a:ext cx="304920" cy="304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9" name="Line 32"/>
            <p:cNvSpPr/>
            <p:nvPr/>
          </p:nvSpPr>
          <p:spPr>
            <a:xfrm flipV="1">
              <a:off x="8250120" y="2301480"/>
              <a:ext cx="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0" name="Line 33"/>
            <p:cNvSpPr/>
            <p:nvPr/>
          </p:nvSpPr>
          <p:spPr>
            <a:xfrm flipV="1">
              <a:off x="8021520" y="2835000"/>
              <a:ext cx="22860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Line 34"/>
            <p:cNvSpPr/>
            <p:nvPr/>
          </p:nvSpPr>
          <p:spPr>
            <a:xfrm flipH="1" flipV="1">
              <a:off x="8249760" y="2835000"/>
              <a:ext cx="22860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Line 35"/>
            <p:cNvSpPr/>
            <p:nvPr/>
          </p:nvSpPr>
          <p:spPr>
            <a:xfrm>
              <a:off x="8021520" y="253044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Text Box 36"/>
          <p:cNvSpPr/>
          <p:nvPr/>
        </p:nvSpPr>
        <p:spPr>
          <a:xfrm>
            <a:off x="7457400" y="3417840"/>
            <a:ext cx="153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nstituiç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vendedor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37"/>
          <p:cNvGrpSpPr/>
          <p:nvPr/>
        </p:nvGrpSpPr>
        <p:grpSpPr>
          <a:xfrm>
            <a:off x="8016840" y="4278240"/>
            <a:ext cx="457200" cy="1371600"/>
            <a:chOff x="8016840" y="4278240"/>
            <a:chExt cx="457200" cy="1371600"/>
          </a:xfrm>
        </p:grpSpPr>
        <p:sp>
          <p:nvSpPr>
            <p:cNvPr id="815" name="Oval 38"/>
            <p:cNvSpPr/>
            <p:nvPr/>
          </p:nvSpPr>
          <p:spPr>
            <a:xfrm>
              <a:off x="8093160" y="4278240"/>
              <a:ext cx="304920" cy="304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Line 39"/>
            <p:cNvSpPr/>
            <p:nvPr/>
          </p:nvSpPr>
          <p:spPr>
            <a:xfrm flipV="1">
              <a:off x="8245440" y="4582800"/>
              <a:ext cx="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Line 40"/>
            <p:cNvSpPr/>
            <p:nvPr/>
          </p:nvSpPr>
          <p:spPr>
            <a:xfrm flipV="1">
              <a:off x="8016840" y="5116320"/>
              <a:ext cx="22860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8" name="Line 41"/>
            <p:cNvSpPr/>
            <p:nvPr/>
          </p:nvSpPr>
          <p:spPr>
            <a:xfrm flipH="1" flipV="1">
              <a:off x="8245080" y="5116320"/>
              <a:ext cx="22860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9" name="Line 42"/>
            <p:cNvSpPr/>
            <p:nvPr/>
          </p:nvSpPr>
          <p:spPr>
            <a:xfrm>
              <a:off x="8016840" y="481176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0" name="Text Box 43"/>
          <p:cNvSpPr/>
          <p:nvPr/>
        </p:nvSpPr>
        <p:spPr>
          <a:xfrm>
            <a:off x="7515000" y="5699160"/>
            <a:ext cx="14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Financei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Rectangle 44"/>
          <p:cNvSpPr/>
          <p:nvPr/>
        </p:nvSpPr>
        <p:spPr>
          <a:xfrm>
            <a:off x="3657600" y="1981080"/>
            <a:ext cx="373392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Text Box 45"/>
          <p:cNvSpPr/>
          <p:nvPr/>
        </p:nvSpPr>
        <p:spPr>
          <a:xfrm>
            <a:off x="3697920" y="1947960"/>
            <a:ext cx="230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istema de validaçã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de cartão de crédi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Oval 46"/>
          <p:cNvSpPr/>
          <p:nvPr/>
        </p:nvSpPr>
        <p:spPr>
          <a:xfrm>
            <a:off x="4562640" y="3538440"/>
            <a:ext cx="1752480" cy="64296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Text Box 47"/>
          <p:cNvSpPr/>
          <p:nvPr/>
        </p:nvSpPr>
        <p:spPr>
          <a:xfrm>
            <a:off x="4937400" y="3505320"/>
            <a:ext cx="107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cess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fatur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Oval 48"/>
          <p:cNvSpPr/>
          <p:nvPr/>
        </p:nvSpPr>
        <p:spPr>
          <a:xfrm>
            <a:off x="4695840" y="4552920"/>
            <a:ext cx="1589040" cy="64296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Text Box 49"/>
          <p:cNvSpPr/>
          <p:nvPr/>
        </p:nvSpPr>
        <p:spPr>
          <a:xfrm>
            <a:off x="4879440" y="4572000"/>
            <a:ext cx="128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Reconcil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transaçõ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Oval 50"/>
          <p:cNvSpPr/>
          <p:nvPr/>
        </p:nvSpPr>
        <p:spPr>
          <a:xfrm>
            <a:off x="4743360" y="5524560"/>
            <a:ext cx="1589040" cy="64296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Text Box 51"/>
          <p:cNvSpPr/>
          <p:nvPr/>
        </p:nvSpPr>
        <p:spPr>
          <a:xfrm>
            <a:off x="5028120" y="5629320"/>
            <a:ext cx="108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Geren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on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Line 52"/>
          <p:cNvSpPr/>
          <p:nvPr/>
        </p:nvSpPr>
        <p:spPr>
          <a:xfrm flipH="1" flipV="1">
            <a:off x="2209320" y="2666520"/>
            <a:ext cx="251460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Line 53"/>
          <p:cNvSpPr/>
          <p:nvPr/>
        </p:nvSpPr>
        <p:spPr>
          <a:xfrm flipH="1" flipV="1">
            <a:off x="2209320" y="2666520"/>
            <a:ext cx="251460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1" name="Line 54"/>
          <p:cNvSpPr/>
          <p:nvPr/>
        </p:nvSpPr>
        <p:spPr>
          <a:xfrm flipH="1" flipV="1">
            <a:off x="2209680" y="2666520"/>
            <a:ext cx="23623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Line 55"/>
          <p:cNvSpPr/>
          <p:nvPr/>
        </p:nvSpPr>
        <p:spPr>
          <a:xfrm flipH="1" flipV="1">
            <a:off x="2209680" y="2666520"/>
            <a:ext cx="2362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Line 56"/>
          <p:cNvSpPr/>
          <p:nvPr/>
        </p:nvSpPr>
        <p:spPr>
          <a:xfrm flipH="1">
            <a:off x="6171840" y="2666880"/>
            <a:ext cx="1676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Line 57"/>
          <p:cNvSpPr/>
          <p:nvPr/>
        </p:nvSpPr>
        <p:spPr>
          <a:xfrm flipH="1">
            <a:off x="6324480" y="266688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5" name="Line 58"/>
          <p:cNvSpPr/>
          <p:nvPr/>
        </p:nvSpPr>
        <p:spPr>
          <a:xfrm flipH="1" flipV="1">
            <a:off x="6324120" y="3962160"/>
            <a:ext cx="16002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Line 59"/>
          <p:cNvSpPr/>
          <p:nvPr/>
        </p:nvSpPr>
        <p:spPr>
          <a:xfrm flipH="1">
            <a:off x="6324120" y="495288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E157-DEDF-422A-B0F2-16B448F3BF98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Bibliografia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Sommerville, I. Software Engineerin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Kruchten, P. The Rational Unified Process: An Introduction. 2nd 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Booch, G. et al. The Unified Modeling Language User Guid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DA7C-FA76-41C7-9E60-596D8C641108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Viabilidade Técnica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 solução ou a tecnologia proposta é prática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Já possuímos a tecnologia necessária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Já possuímos o conhecimento técnico necessário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ADB0-C628-4FCC-84C7-7E1AD3792837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Viabilidade de Cronograma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Dado nosso conhecimento técnico, os prazos dos projetos são razoávei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lguns projetos são iniciados com prazos específic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ocê precisa determinar se os prazos são obrigatórios ou desejáve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 são mais desejáveis que obrigatórios, o analista pode propor outros cronogram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283D-5A86-4745-BD8C-CE4485A1245A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Viabilidade Econômica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alvez a mais crít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urante as fases iniciais do projeto, a análise da viabilidade econômica consiste em julgar se os possíveis benefícios de solucionar o problema são ou não vantajos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ão logo os requisitos específicos e soluções sejam identificados, o analista pode levar em consideração os custos e benefícios de cada alternati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sso é chamado de análise de custo-benefíc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D3C4-73BD-4175-9C26-E54A26A3EA0B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ipos de Cust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Custos de desenvolvimento de sistem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Desenvolvimento e aquisi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Custos de instalação e de convers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Custos operacionais (contínuo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Manuten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Pesso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05FC-E7BF-44AD-A97F-201BE1F2BAEA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nálise Custo-Benefíci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Há três técnicas principa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Análise do retorno financeiro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(payback analysi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Retorno do investimento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(return on investment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Valor atual líquido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(Net present valu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457200" y="3581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1407-7552-4E3A-9A47-0F0120924BD3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nálise de Retorno do Investiment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 técnica de </a:t>
            </a: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análise de retorno do investimento (ROI)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mpara os benefícios das diferentes soluções ou projet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 ROI para uma solução ou projeto é a taxa percentual que mede a relação entre a quantia que a empresa obtém de retorno ao seu investimento e a quantia investi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E3B1-7862-47FD-8F2A-7C763FF76136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nálise de Retorno do Investiment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 ROI para uma solução ou projeto potencial é calculado como a segui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OI = (Benefícios totais - Custos totais) / Custos tota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OI = valor atual líquido / Custos tota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x: ROI = (22508,64-17321,20)/ 17321,20= 29,95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X: ROI = 5187,44/ 17321,20 = 29,95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 solução que oferecer o ROI mais alto é a melhor alternati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9363-5ACA-488D-8EE3-1BA3341681D7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Matriz de Viabilidad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Como nós comparamos alternativas quando existem vários critérios de seleção e nenhuma das alternativas é superior em todos os aspecto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Use uma Matriz de Análise de Viabilidad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419F-3259-4112-B4D7-713419BAD062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Objetiv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Descrever as principais atividades da engenharia de requisit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Introduzir técnicas para a elicitação e análise de requisit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Descrever validação de requisit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Discutir o gerenciamento de requisit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3982-D6BA-486A-9058-3CADDCB25727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Relatório de Viabilidad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pós o esforço inicial, discutido anteriormente, deve-se elaborar um relatório de viabilida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ara cada aspecto apresentado, deve haver seção de avalia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eve haver uma seção conclusiva sobre a melhor alternativa ou que o sistema não é viá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1010-2A69-49DC-9B97-28F1779336C2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Exercíci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Determine a viabilidade de (+ROI)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1. Sistema para uma padaria de pequeno porte (Só caixa, no balcão também, etc.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2. Sistema inteligente de preenchimento do IRPF pela própria pessoa física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3. Sistema para gerar alocação de docentes, salas, horários, local de forma otimizad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5A16-682C-48CA-ADC9-670FAF1ABA01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99"/>
                </a:solidFill>
                <a:latin typeface="Comic Sans MS"/>
              </a:rPr>
              <a:t>Elicitação de requisitos e análise</a:t>
            </a:r>
            <a:endParaRPr b="0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sta atividade divide-se em dois esforços maior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licitação dos requisitos em s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écnicas de elicit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nálise do que foi elicita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cesso de análi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2E7B-2C7E-4B0A-B38F-4C0BB9EC1B67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Que é um requisito?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Tanto pode s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Uma declaração abstrata de alto nível de um </a:t>
            </a: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serviç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Como uma </a:t>
            </a: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restrição</a:t>
            </a: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 do siste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Quanto </a:t>
            </a:r>
            <a:r>
              <a:rPr b="0" lang="pt-BR" sz="3200" spc="-1" strike="noStrike">
                <a:solidFill>
                  <a:srgbClr val="009900"/>
                </a:solidFill>
                <a:latin typeface="Comic Sans MS"/>
              </a:rPr>
              <a:t>uma especificação funcional matemática detalh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14F3-072C-456F-99D7-3C4657BFB03C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Elicitação de Requisit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ambém denominada de descoberta de requisit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nvolve pessoal objetivando descobrir o domínio de aplicação, serviços que devem ser fornecidos bem como restriçõ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eve envolver usuários finais, gerentes, pessoal envolvido na manutenção, especialistas no domínio, etc. (</a:t>
            </a:r>
            <a:r>
              <a:rPr b="0" i="1" lang="pt-BR" sz="2800" spc="-1" strike="noStrike">
                <a:solidFill>
                  <a:srgbClr val="3333cc"/>
                </a:solidFill>
                <a:latin typeface="Comic Sans MS"/>
              </a:rPr>
              <a:t>Stakeholders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292D-447A-4A0C-A71F-3539A50BE9D2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Visão dos Requisit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Requisitos do Usuári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eclarações em linguagem natural com diagramas de serviços que o sistema deve oferecer e suas restrições operacionais. Escrito para os clien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Requisitos do Siste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ocumento estruturado com descrições detalhadas sobre os serviços do sistema. Contrato entre cliente e forneced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2B21-74E1-4452-9599-DF40C020FBDC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Tipos de Requisit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Requisitos Funciona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Requisitos Não-Funciona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Requisitos de Domíni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BAB1-1604-44F3-8B2A-A9048ADF91E5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Requisitos Funcionai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Descreve funcionalidade e serviços do siste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Depende 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ipo do softw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Usuários espera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ipo do sistema onde o software é usa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FFA5-C500-4B7F-9F3E-3CF08C50A5B3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Exemplos de R.F.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[RF001] Usuário pode pesquisar todo ou um sub-conjunto do banco de da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[RF002] Sistema deve oferecer visualizadores apropriados para o usuário ler documentos armazena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[RF003] A todo pedido deve ser associado um identificador único (PID), o qual o usuário pode copiar para a área de armazenamento permanente da con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FEAA-73F3-44EA-9851-87E7144AF07E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Exercíci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Dê alguns exemplos de R.F.s para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1. Sistema da padaria de pequeno porte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2. Sistema inteligente de preenchimento do IRPF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3. Sistema de alocação docen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DBC2-1C9D-4804-8CE6-E26FFA3F5E86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O Processo da Engenharia de Requisit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grpSp>
        <p:nvGrpSpPr>
          <p:cNvPr id="114" name="Group 2051"/>
          <p:cNvGrpSpPr/>
          <p:nvPr/>
        </p:nvGrpSpPr>
        <p:grpSpPr>
          <a:xfrm>
            <a:off x="609480" y="2209680"/>
            <a:ext cx="8077320" cy="4191120"/>
            <a:chOff x="609480" y="2209680"/>
            <a:chExt cx="8077320" cy="4191120"/>
          </a:xfrm>
        </p:grpSpPr>
        <p:sp>
          <p:nvSpPr>
            <p:cNvPr id="115" name="AutoShape 2052"/>
            <p:cNvSpPr/>
            <p:nvPr/>
          </p:nvSpPr>
          <p:spPr>
            <a:xfrm>
              <a:off x="609480" y="2286000"/>
              <a:ext cx="1676520" cy="685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Text Box 2053"/>
            <p:cNvSpPr/>
            <p:nvPr/>
          </p:nvSpPr>
          <p:spPr>
            <a:xfrm>
              <a:off x="871920" y="233352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studo d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viabilidad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Rectangle 2054"/>
            <p:cNvSpPr/>
            <p:nvPr/>
          </p:nvSpPr>
          <p:spPr>
            <a:xfrm>
              <a:off x="609480" y="3657600"/>
              <a:ext cx="167652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Text Box 2055"/>
            <p:cNvSpPr/>
            <p:nvPr/>
          </p:nvSpPr>
          <p:spPr>
            <a:xfrm>
              <a:off x="799920" y="3728880"/>
              <a:ext cx="127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Relatório d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viabilidad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AutoShape 2056"/>
            <p:cNvSpPr/>
            <p:nvPr/>
          </p:nvSpPr>
          <p:spPr>
            <a:xfrm>
              <a:off x="2819520" y="2209680"/>
              <a:ext cx="1676160" cy="914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Text Box 2057"/>
            <p:cNvSpPr/>
            <p:nvPr/>
          </p:nvSpPr>
          <p:spPr>
            <a:xfrm>
              <a:off x="2989080" y="2257560"/>
              <a:ext cx="1334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licitação d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requisitos 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nális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Rectangle 2058"/>
            <p:cNvSpPr/>
            <p:nvPr/>
          </p:nvSpPr>
          <p:spPr>
            <a:xfrm>
              <a:off x="2819520" y="5715000"/>
              <a:ext cx="167616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Text Box 2059"/>
            <p:cNvSpPr/>
            <p:nvPr/>
          </p:nvSpPr>
          <p:spPr>
            <a:xfrm>
              <a:off x="3036600" y="5786280"/>
              <a:ext cx="1230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Modelos d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sistem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AutoShape 2060"/>
            <p:cNvSpPr/>
            <p:nvPr/>
          </p:nvSpPr>
          <p:spPr>
            <a:xfrm>
              <a:off x="4952880" y="2895480"/>
              <a:ext cx="1676520" cy="685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Text Box 2061"/>
            <p:cNvSpPr/>
            <p:nvPr/>
          </p:nvSpPr>
          <p:spPr>
            <a:xfrm>
              <a:off x="5071320" y="2943360"/>
              <a:ext cx="1436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specificaçã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de requisito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AutoShape 2062"/>
            <p:cNvSpPr/>
            <p:nvPr/>
          </p:nvSpPr>
          <p:spPr>
            <a:xfrm>
              <a:off x="7010280" y="3352680"/>
              <a:ext cx="1676520" cy="685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Text Box 2063"/>
            <p:cNvSpPr/>
            <p:nvPr/>
          </p:nvSpPr>
          <p:spPr>
            <a:xfrm>
              <a:off x="7179840" y="3400560"/>
              <a:ext cx="133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Validaçã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de requisito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Rectangle 2064"/>
            <p:cNvSpPr/>
            <p:nvPr/>
          </p:nvSpPr>
          <p:spPr>
            <a:xfrm>
              <a:off x="5029200" y="4572000"/>
              <a:ext cx="1676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Text Box 2065"/>
            <p:cNvSpPr/>
            <p:nvPr/>
          </p:nvSpPr>
          <p:spPr>
            <a:xfrm>
              <a:off x="5159520" y="4643280"/>
              <a:ext cx="1412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Requisitos d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usuário e d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sistem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Rectangle 2066"/>
            <p:cNvSpPr/>
            <p:nvPr/>
          </p:nvSpPr>
          <p:spPr>
            <a:xfrm>
              <a:off x="7010280" y="5715000"/>
              <a:ext cx="167652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Text Box 2067"/>
            <p:cNvSpPr/>
            <p:nvPr/>
          </p:nvSpPr>
          <p:spPr>
            <a:xfrm>
              <a:off x="7098120" y="5786280"/>
              <a:ext cx="1500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Documento d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AutoShape 2068"/>
            <p:cNvSpPr/>
            <p:nvPr/>
          </p:nvSpPr>
          <p:spPr>
            <a:xfrm>
              <a:off x="2328840" y="251460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AutoShape 2069"/>
            <p:cNvSpPr/>
            <p:nvPr/>
          </p:nvSpPr>
          <p:spPr>
            <a:xfrm rot="5457600">
              <a:off x="1180440" y="316224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AutoShape 2070"/>
            <p:cNvSpPr/>
            <p:nvPr/>
          </p:nvSpPr>
          <p:spPr>
            <a:xfrm rot="5396400">
              <a:off x="2420640" y="4265640"/>
              <a:ext cx="2361960" cy="228600"/>
            </a:xfrm>
            <a:prstGeom prst="rightArrow">
              <a:avLst>
                <a:gd name="adj1" fmla="val 50000"/>
                <a:gd name="adj2" fmla="val 258307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AutoShape 2071"/>
            <p:cNvSpPr/>
            <p:nvPr/>
          </p:nvSpPr>
          <p:spPr>
            <a:xfrm>
              <a:off x="4572000" y="5943600"/>
              <a:ext cx="2362320" cy="228600"/>
            </a:xfrm>
            <a:prstGeom prst="rightArrow">
              <a:avLst>
                <a:gd name="adj1" fmla="val 50000"/>
                <a:gd name="adj2" fmla="val 258346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AutoShape 2072"/>
            <p:cNvSpPr/>
            <p:nvPr/>
          </p:nvSpPr>
          <p:spPr>
            <a:xfrm rot="5396400">
              <a:off x="7048080" y="4762440"/>
              <a:ext cx="1523880" cy="228600"/>
            </a:xfrm>
            <a:prstGeom prst="rightArrow">
              <a:avLst>
                <a:gd name="adj1" fmla="val 50000"/>
                <a:gd name="adj2" fmla="val 166654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AutoShape 2073"/>
            <p:cNvSpPr/>
            <p:nvPr/>
          </p:nvSpPr>
          <p:spPr>
            <a:xfrm rot="5396400">
              <a:off x="5408280" y="3962160"/>
              <a:ext cx="838080" cy="228600"/>
            </a:xfrm>
            <a:prstGeom prst="rightArrow">
              <a:avLst>
                <a:gd name="adj1" fmla="val 50000"/>
                <a:gd name="adj2" fmla="val 91654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AutoShape 2074"/>
            <p:cNvSpPr/>
            <p:nvPr/>
          </p:nvSpPr>
          <p:spPr>
            <a:xfrm rot="3139200">
              <a:off x="6629040" y="5181480"/>
              <a:ext cx="838080" cy="228600"/>
            </a:xfrm>
            <a:prstGeom prst="rightArrow">
              <a:avLst>
                <a:gd name="adj1" fmla="val 50000"/>
                <a:gd name="adj2" fmla="val 91654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AutoShape 2075"/>
            <p:cNvSpPr/>
            <p:nvPr/>
          </p:nvSpPr>
          <p:spPr>
            <a:xfrm rot="1837800">
              <a:off x="4571640" y="251460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AutoShape 2076"/>
            <p:cNvSpPr/>
            <p:nvPr/>
          </p:nvSpPr>
          <p:spPr>
            <a:xfrm rot="12637800">
              <a:off x="4476600" y="309492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AutoShape 2077"/>
            <p:cNvSpPr/>
            <p:nvPr/>
          </p:nvSpPr>
          <p:spPr>
            <a:xfrm rot="1837800">
              <a:off x="6629040" y="307656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AutoShape 2078"/>
            <p:cNvSpPr/>
            <p:nvPr/>
          </p:nvSpPr>
          <p:spPr>
            <a:xfrm rot="12637800">
              <a:off x="6534000" y="365688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0A9A-EBEC-4DC4-A9DD-E299FDC2F69F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Requisitos Não-Funcionai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efinem propriedades e restrições do sistema (tempo, espaço, etc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equisitos de processo também podem especificar o uso de determinadas linguagens de programação, método de desenvolvimen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equisitos não-funcionais podem ser mais críticos que requisitos funcionais. Não satisfaz, sistema inúti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7230-D834-481F-BE89-9E50675B29B1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Requisitos Não-Funcionai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Devido à sua própria definição, requisitos não-funcionais são esperados mensuráve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ssim, deve-se associar forma de medida/referência a cada requisito não-funcional elicit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DFDB-E07B-48D5-B1EA-CADC9DAA41C1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99"/>
                </a:solidFill>
                <a:latin typeface="Comic Sans MS"/>
              </a:rPr>
              <a:t>Medidas de Requisitos</a:t>
            </a:r>
            <a:br>
              <a:rPr sz="4000"/>
            </a:br>
            <a:r>
              <a:rPr b="0" lang="pt-BR" sz="4000" spc="-1" strike="noStrike">
                <a:solidFill>
                  <a:srgbClr val="333399"/>
                </a:solidFill>
                <a:latin typeface="Comic Sans MS"/>
              </a:rPr>
              <a:t>(Não-Funcionais)</a:t>
            </a:r>
            <a:endParaRPr b="0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-34560" y="2265480"/>
            <a:ext cx="9332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Tahoma"/>
              </a:rPr>
              <a:t>Propriedade</a:t>
            </a:r>
            <a:r>
              <a:rPr b="1" lang="pt-BR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pt-BR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pt-BR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pt-BR" sz="1800" spc="-1" strike="noStrike">
                <a:solidFill>
                  <a:srgbClr val="3333cc"/>
                </a:solidFill>
                <a:latin typeface="Tahoma"/>
              </a:rPr>
              <a:t>Medid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Velocidade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Transações processadas/se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Tempo de resposta do usuário/even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Tamanho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K by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pt-BR" sz="1800" spc="-1" strike="noStrike" u="sng" baseline="30000">
                <a:solidFill>
                  <a:srgbClr val="000000"/>
                </a:solidFill>
                <a:uFillTx/>
                <a:latin typeface="Tahoma"/>
              </a:rPr>
              <a:t>o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de chips de RA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Facilidade de uso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Tempo de treinamen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pt-BR" sz="1800" spc="-1" strike="noStrike" u="sng" baseline="30000">
                <a:solidFill>
                  <a:srgbClr val="000000"/>
                </a:solidFill>
                <a:uFillTx/>
                <a:latin typeface="Tahoma"/>
              </a:rPr>
              <a:t>o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de quadros de ajud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Confiabilidade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Tempo médio de falh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Probabilidade de indisponibilida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Taxa de ocorrência de falh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Robustez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Tempo de reinício após falh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Percentual de eventos causando falh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Probabilidade de corrupção de dados após falh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Portabilidade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Percentual de declarações dependentes do desti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pt-BR" sz="1800" spc="-1" strike="noStrike" u="sng" baseline="30000">
                <a:solidFill>
                  <a:srgbClr val="000000"/>
                </a:solidFill>
                <a:uFillTx/>
                <a:latin typeface="Tahoma"/>
              </a:rPr>
              <a:t>o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de sistemas desti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166680" y="2300400"/>
            <a:ext cx="8891640" cy="4114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5"/>
          <p:cNvSpPr/>
          <p:nvPr/>
        </p:nvSpPr>
        <p:spPr>
          <a:xfrm>
            <a:off x="166680" y="2590920"/>
            <a:ext cx="889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6"/>
          <p:cNvSpPr/>
          <p:nvPr/>
        </p:nvSpPr>
        <p:spPr>
          <a:xfrm>
            <a:off x="166680" y="3152880"/>
            <a:ext cx="889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166680" y="3714840"/>
            <a:ext cx="889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Line 8"/>
          <p:cNvSpPr/>
          <p:nvPr/>
        </p:nvSpPr>
        <p:spPr>
          <a:xfrm>
            <a:off x="166680" y="4276800"/>
            <a:ext cx="889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Line 9"/>
          <p:cNvSpPr/>
          <p:nvPr/>
        </p:nvSpPr>
        <p:spPr>
          <a:xfrm>
            <a:off x="166680" y="5076720"/>
            <a:ext cx="889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Line 10"/>
          <p:cNvSpPr/>
          <p:nvPr/>
        </p:nvSpPr>
        <p:spPr>
          <a:xfrm>
            <a:off x="166680" y="5905440"/>
            <a:ext cx="889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Line 11"/>
          <p:cNvSpPr/>
          <p:nvPr/>
        </p:nvSpPr>
        <p:spPr>
          <a:xfrm flipV="1">
            <a:off x="3505320" y="22860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F310-E339-4956-92BC-515A85F87642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Classificação de R. N. F.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equisitos do Produ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duto deve comportar-se de forma particular (velocidade de execução, confiabilidade, etc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equisitos Organizacion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nseqüência de políticas e procedimentos organizacionais (padrões de processo usados, requisitos de implementação, etc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equisitos Extern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nseqüência de fatores externos ao sistema e ao processo de desenvolvimento (legislação, etc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DF2F-CDF7-42B9-8048-9D90DFF2AFB5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Exemplos de R. N. F.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equisitos do Produ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[RNF001] Toda consulta ao B.D., baseada em código de barras, deve resultar em até 5 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equisitos Organizacion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[RNF002] Todos os documentos entregues devem seguir o padrão de relatórios XYZ-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equisitos Extern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[RNF003] Informações pessoais do usuário não devem ser vistas pelos operadores do siste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1B24-C02E-40E7-9E42-AD7B812F8846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Exercíci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Dê alguns exemplos de R.N.F.s para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1. Sistema da padaria de pequeno porte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2. Sistema inteligente de preenchimento do IRPF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3. Sistema de alocação docen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B2E5-F7D3-476C-A029-DFB6FBBD1932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Requisitos de Domíni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erivados do domínio da aplicação e descrevem características do sistema e qualidades que refletem o domín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odem ser requisitos funcionais novos, restrições sobre requisitos existentes ou computações específic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e requisitos de domínio não forem satisfeitos, o sistema pode tornar-se impraticá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604B-1C38-4D35-AF9D-A4A0F88B0572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Requisitos de Domínio (Problemas)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ntendimen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equisitos são descritos na linguagem do domínio da aplica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Não é entendido pelos engenheiros de software que vão desenvolver a aplica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Implicitu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specialistas no domínio entendem a área tão bem que não tornam todos os requisitos de domínio explícit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C4C2-AB88-4EF6-95E8-751FB7093FF7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Requisitos de Domínio (Exemplo 1)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 desaceleração do trem deve ser computada através da fórmula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Comic Sans MS"/>
              </a:rPr>
              <a:t>trem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=D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Comic Sans MS"/>
              </a:rPr>
              <a:t>controle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+D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Comic Sans MS"/>
              </a:rPr>
              <a:t>gradiente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   onde 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0CCC-A2E8-4ECA-A768-571665DC33BD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Exercíci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Dê alguns exemplos de domínio para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1. Sistema da padaria de pequeno porte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2. Sistema inteligente de preenchimento do IRPF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3. Sistema de alocação docen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2363-3A8B-45FB-A190-F8584BA5D7A8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Estudo de Viabilidad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O que é um estudo de viabilidad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O que estudar e conclui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Benefícios e cust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nálise de custo/benefíci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lternativas de compara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CDA1-375E-42EE-B43D-3E807BE666B0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Requisit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3685680" y="19162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si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3405960" y="426708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ão-funciona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3490560" y="566892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481320" y="4267080"/>
            <a:ext cx="171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iona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7176600" y="4264200"/>
            <a:ext cx="14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mín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1346040" y="5661000"/>
            <a:ext cx="134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Text Box 9"/>
          <p:cNvSpPr/>
          <p:nvPr/>
        </p:nvSpPr>
        <p:spPr>
          <a:xfrm>
            <a:off x="6221160" y="566748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Line 10"/>
          <p:cNvSpPr/>
          <p:nvPr/>
        </p:nvSpPr>
        <p:spPr>
          <a:xfrm flipH="1">
            <a:off x="1402920" y="3357720"/>
            <a:ext cx="309564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Line 11"/>
          <p:cNvSpPr/>
          <p:nvPr/>
        </p:nvSpPr>
        <p:spPr>
          <a:xfrm>
            <a:off x="4498920" y="33577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Line 12"/>
          <p:cNvSpPr/>
          <p:nvPr/>
        </p:nvSpPr>
        <p:spPr>
          <a:xfrm>
            <a:off x="4498920" y="3357720"/>
            <a:ext cx="331308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Line 13"/>
          <p:cNvSpPr/>
          <p:nvPr/>
        </p:nvSpPr>
        <p:spPr>
          <a:xfrm>
            <a:off x="4498920" y="472428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Line 14"/>
          <p:cNvSpPr/>
          <p:nvPr/>
        </p:nvSpPr>
        <p:spPr>
          <a:xfrm flipH="1">
            <a:off x="2050920" y="4724280"/>
            <a:ext cx="2448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Line 15"/>
          <p:cNvSpPr/>
          <p:nvPr/>
        </p:nvSpPr>
        <p:spPr>
          <a:xfrm>
            <a:off x="4498920" y="4724280"/>
            <a:ext cx="23050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Rectangle 16"/>
          <p:cNvSpPr/>
          <p:nvPr/>
        </p:nvSpPr>
        <p:spPr>
          <a:xfrm>
            <a:off x="466560" y="4037040"/>
            <a:ext cx="5329440" cy="936720"/>
          </a:xfrm>
          <a:prstGeom prst="rect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Rectangle 17"/>
          <p:cNvSpPr/>
          <p:nvPr/>
        </p:nvSpPr>
        <p:spPr>
          <a:xfrm>
            <a:off x="395280" y="3965400"/>
            <a:ext cx="8209080" cy="107964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Text Box 18"/>
          <p:cNvSpPr/>
          <p:nvPr/>
        </p:nvSpPr>
        <p:spPr>
          <a:xfrm>
            <a:off x="4927680" y="278928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Text Box 19"/>
          <p:cNvSpPr/>
          <p:nvPr/>
        </p:nvSpPr>
        <p:spPr>
          <a:xfrm>
            <a:off x="2751840" y="27813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á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Line 20"/>
          <p:cNvSpPr/>
          <p:nvPr/>
        </p:nvSpPr>
        <p:spPr>
          <a:xfrm flipH="1">
            <a:off x="3492360" y="2349360"/>
            <a:ext cx="10065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Line 21"/>
          <p:cNvSpPr/>
          <p:nvPr/>
        </p:nvSpPr>
        <p:spPr>
          <a:xfrm>
            <a:off x="4498920" y="2349360"/>
            <a:ext cx="10098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Rectangle 22"/>
          <p:cNvSpPr/>
          <p:nvPr/>
        </p:nvSpPr>
        <p:spPr>
          <a:xfrm>
            <a:off x="2698920" y="2637000"/>
            <a:ext cx="3601800" cy="720720"/>
          </a:xfrm>
          <a:prstGeom prst="rect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Text Box 23"/>
          <p:cNvSpPr/>
          <p:nvPr/>
        </p:nvSpPr>
        <p:spPr>
          <a:xfrm>
            <a:off x="4264200" y="2793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3953-A1F2-4AEB-B0DB-440CE6064526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écnicas de Elicitaçã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trevist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estionári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sos de U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go de Funçõ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rainstorm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shop de Requisit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9CBB-633C-40A3-83BA-846A0108AD1C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6" name="Group 2"/>
          <p:cNvGrpSpPr/>
          <p:nvPr/>
        </p:nvGrpSpPr>
        <p:grpSpPr>
          <a:xfrm>
            <a:off x="6140520" y="4432320"/>
            <a:ext cx="2535120" cy="2309760"/>
            <a:chOff x="6140520" y="4432320"/>
            <a:chExt cx="2535120" cy="2309760"/>
          </a:xfrm>
        </p:grpSpPr>
        <p:grpSp>
          <p:nvGrpSpPr>
            <p:cNvPr id="287" name="Group 3"/>
            <p:cNvGrpSpPr/>
            <p:nvPr/>
          </p:nvGrpSpPr>
          <p:grpSpPr>
            <a:xfrm>
              <a:off x="7281720" y="4545000"/>
              <a:ext cx="1393920" cy="2084400"/>
              <a:chOff x="7281720" y="4545000"/>
              <a:chExt cx="1393920" cy="2084400"/>
            </a:xfrm>
          </p:grpSpPr>
          <p:sp>
            <p:nvSpPr>
              <p:cNvPr id="288" name="Freeform 4"/>
              <p:cNvSpPr/>
              <p:nvPr/>
            </p:nvSpPr>
            <p:spPr>
              <a:xfrm>
                <a:off x="7900920" y="4545000"/>
                <a:ext cx="422280" cy="4651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465120"/>
                  <a:gd name="textAreaBottom" fmla="*/ 465480 h 465120"/>
                </a:gdLst>
                <a:ahLst/>
                <a:rect l="textAreaLeft" t="textAreaTop" r="textAreaRight" b="textAreaBottom"/>
                <a:pathLst>
                  <a:path w="533" h="585">
                    <a:moveTo>
                      <a:pt x="143" y="398"/>
                    </a:moveTo>
                    <a:lnTo>
                      <a:pt x="99" y="292"/>
                    </a:lnTo>
                    <a:lnTo>
                      <a:pt x="63" y="159"/>
                    </a:lnTo>
                    <a:lnTo>
                      <a:pt x="72" y="89"/>
                    </a:lnTo>
                    <a:lnTo>
                      <a:pt x="107" y="36"/>
                    </a:lnTo>
                    <a:lnTo>
                      <a:pt x="205" y="0"/>
                    </a:lnTo>
                    <a:lnTo>
                      <a:pt x="320" y="26"/>
                    </a:lnTo>
                    <a:lnTo>
                      <a:pt x="410" y="97"/>
                    </a:lnTo>
                    <a:lnTo>
                      <a:pt x="454" y="159"/>
                    </a:lnTo>
                    <a:lnTo>
                      <a:pt x="507" y="265"/>
                    </a:lnTo>
                    <a:lnTo>
                      <a:pt x="533" y="355"/>
                    </a:lnTo>
                    <a:lnTo>
                      <a:pt x="533" y="443"/>
                    </a:lnTo>
                    <a:lnTo>
                      <a:pt x="498" y="549"/>
                    </a:lnTo>
                    <a:lnTo>
                      <a:pt x="445" y="566"/>
                    </a:lnTo>
                    <a:lnTo>
                      <a:pt x="374" y="585"/>
                    </a:lnTo>
                    <a:lnTo>
                      <a:pt x="303" y="566"/>
                    </a:lnTo>
                    <a:lnTo>
                      <a:pt x="223" y="523"/>
                    </a:lnTo>
                    <a:lnTo>
                      <a:pt x="178" y="470"/>
                    </a:lnTo>
                    <a:lnTo>
                      <a:pt x="72" y="558"/>
                    </a:lnTo>
                    <a:lnTo>
                      <a:pt x="37" y="558"/>
                    </a:lnTo>
                    <a:lnTo>
                      <a:pt x="10" y="513"/>
                    </a:lnTo>
                    <a:lnTo>
                      <a:pt x="0" y="487"/>
                    </a:lnTo>
                    <a:lnTo>
                      <a:pt x="152" y="425"/>
                    </a:lnTo>
                    <a:lnTo>
                      <a:pt x="143" y="398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Freeform 5"/>
              <p:cNvSpPr/>
              <p:nvPr/>
            </p:nvSpPr>
            <p:spPr>
              <a:xfrm>
                <a:off x="7281720" y="5065560"/>
                <a:ext cx="979560" cy="514440"/>
              </a:xfrm>
              <a:custGeom>
                <a:avLst/>
                <a:gdLst>
                  <a:gd name="textAreaLeft" fmla="*/ 0 w 979560"/>
                  <a:gd name="textAreaRight" fmla="*/ 979920 w 979560"/>
                  <a:gd name="textAreaTop" fmla="*/ 0 h 514440"/>
                  <a:gd name="textAreaBottom" fmla="*/ 514800 h 514440"/>
                </a:gdLst>
                <a:ahLst/>
                <a:rect l="textAreaLeft" t="textAreaTop" r="textAreaRight" b="textAreaBottom"/>
                <a:pathLst>
                  <a:path w="1234" h="647">
                    <a:moveTo>
                      <a:pt x="1020" y="106"/>
                    </a:moveTo>
                    <a:lnTo>
                      <a:pt x="1110" y="27"/>
                    </a:lnTo>
                    <a:lnTo>
                      <a:pt x="1180" y="0"/>
                    </a:lnTo>
                    <a:lnTo>
                      <a:pt x="1225" y="9"/>
                    </a:lnTo>
                    <a:lnTo>
                      <a:pt x="1234" y="80"/>
                    </a:lnTo>
                    <a:lnTo>
                      <a:pt x="1190" y="150"/>
                    </a:lnTo>
                    <a:lnTo>
                      <a:pt x="1074" y="203"/>
                    </a:lnTo>
                    <a:lnTo>
                      <a:pt x="870" y="293"/>
                    </a:lnTo>
                    <a:lnTo>
                      <a:pt x="647" y="426"/>
                    </a:lnTo>
                    <a:lnTo>
                      <a:pt x="434" y="487"/>
                    </a:lnTo>
                    <a:lnTo>
                      <a:pt x="302" y="541"/>
                    </a:lnTo>
                    <a:lnTo>
                      <a:pt x="204" y="620"/>
                    </a:lnTo>
                    <a:lnTo>
                      <a:pt x="133" y="647"/>
                    </a:lnTo>
                    <a:lnTo>
                      <a:pt x="18" y="620"/>
                    </a:lnTo>
                    <a:lnTo>
                      <a:pt x="0" y="532"/>
                    </a:lnTo>
                    <a:lnTo>
                      <a:pt x="0" y="426"/>
                    </a:lnTo>
                    <a:lnTo>
                      <a:pt x="98" y="426"/>
                    </a:lnTo>
                    <a:lnTo>
                      <a:pt x="177" y="487"/>
                    </a:lnTo>
                    <a:lnTo>
                      <a:pt x="266" y="487"/>
                    </a:lnTo>
                    <a:lnTo>
                      <a:pt x="444" y="443"/>
                    </a:lnTo>
                    <a:lnTo>
                      <a:pt x="612" y="354"/>
                    </a:lnTo>
                    <a:lnTo>
                      <a:pt x="727" y="311"/>
                    </a:lnTo>
                    <a:lnTo>
                      <a:pt x="897" y="230"/>
                    </a:lnTo>
                    <a:lnTo>
                      <a:pt x="994" y="142"/>
                    </a:lnTo>
                    <a:lnTo>
                      <a:pt x="1020" y="106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90" name="Group 6"/>
              <p:cNvGrpSpPr/>
              <p:nvPr/>
            </p:nvGrpSpPr>
            <p:grpSpPr>
              <a:xfrm>
                <a:off x="7773840" y="5038560"/>
                <a:ext cx="901800" cy="1590840"/>
                <a:chOff x="7773840" y="5038560"/>
                <a:chExt cx="901800" cy="1590840"/>
              </a:xfrm>
            </p:grpSpPr>
            <p:sp>
              <p:nvSpPr>
                <p:cNvPr id="291" name="Freeform 7"/>
                <p:cNvSpPr/>
                <p:nvPr/>
              </p:nvSpPr>
              <p:spPr>
                <a:xfrm>
                  <a:off x="8183520" y="5038560"/>
                  <a:ext cx="330120" cy="754200"/>
                </a:xfrm>
                <a:custGeom>
                  <a:avLst/>
                  <a:gdLst>
                    <a:gd name="textAreaLeft" fmla="*/ 0 w 330120"/>
                    <a:gd name="textAreaRight" fmla="*/ 330480 w 330120"/>
                    <a:gd name="textAreaTop" fmla="*/ 0 h 754200"/>
                    <a:gd name="textAreaBottom" fmla="*/ 754560 h 754200"/>
                  </a:gdLst>
                  <a:ahLst/>
                  <a:rect l="textAreaLeft" t="textAreaTop" r="textAreaRight" b="textAreaBottom"/>
                  <a:pathLst>
                    <a:path w="416" h="949">
                      <a:moveTo>
                        <a:pt x="27" y="61"/>
                      </a:moveTo>
                      <a:lnTo>
                        <a:pt x="80" y="8"/>
                      </a:lnTo>
                      <a:lnTo>
                        <a:pt x="133" y="0"/>
                      </a:lnTo>
                      <a:lnTo>
                        <a:pt x="203" y="17"/>
                      </a:lnTo>
                      <a:lnTo>
                        <a:pt x="256" y="96"/>
                      </a:lnTo>
                      <a:lnTo>
                        <a:pt x="310" y="230"/>
                      </a:lnTo>
                      <a:lnTo>
                        <a:pt x="346" y="346"/>
                      </a:lnTo>
                      <a:lnTo>
                        <a:pt x="381" y="469"/>
                      </a:lnTo>
                      <a:lnTo>
                        <a:pt x="407" y="594"/>
                      </a:lnTo>
                      <a:lnTo>
                        <a:pt x="416" y="709"/>
                      </a:lnTo>
                      <a:lnTo>
                        <a:pt x="416" y="789"/>
                      </a:lnTo>
                      <a:lnTo>
                        <a:pt x="381" y="877"/>
                      </a:lnTo>
                      <a:lnTo>
                        <a:pt x="328" y="922"/>
                      </a:lnTo>
                      <a:lnTo>
                        <a:pt x="230" y="949"/>
                      </a:lnTo>
                      <a:lnTo>
                        <a:pt x="133" y="949"/>
                      </a:lnTo>
                      <a:lnTo>
                        <a:pt x="53" y="895"/>
                      </a:lnTo>
                      <a:lnTo>
                        <a:pt x="9" y="771"/>
                      </a:lnTo>
                      <a:lnTo>
                        <a:pt x="0" y="620"/>
                      </a:lnTo>
                      <a:lnTo>
                        <a:pt x="0" y="389"/>
                      </a:lnTo>
                      <a:lnTo>
                        <a:pt x="0" y="221"/>
                      </a:lnTo>
                      <a:lnTo>
                        <a:pt x="9" y="123"/>
                      </a:lnTo>
                      <a:lnTo>
                        <a:pt x="27" y="61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1c1c1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2" name="Freeform 8"/>
                <p:cNvSpPr/>
                <p:nvPr/>
              </p:nvSpPr>
              <p:spPr>
                <a:xfrm>
                  <a:off x="8324640" y="5059440"/>
                  <a:ext cx="351000" cy="745920"/>
                </a:xfrm>
                <a:custGeom>
                  <a:avLst/>
                  <a:gdLst>
                    <a:gd name="textAreaLeft" fmla="*/ 0 w 351000"/>
                    <a:gd name="textAreaRight" fmla="*/ 351360 w 351000"/>
                    <a:gd name="textAreaTop" fmla="*/ 0 h 745920"/>
                    <a:gd name="textAreaBottom" fmla="*/ 746280 h 745920"/>
                  </a:gdLst>
                  <a:ahLst/>
                  <a:rect l="textAreaLeft" t="textAreaTop" r="textAreaRight" b="textAreaBottom"/>
                  <a:pathLst>
                    <a:path w="444" h="942">
                      <a:moveTo>
                        <a:pt x="18" y="0"/>
                      </a:moveTo>
                      <a:lnTo>
                        <a:pt x="62" y="0"/>
                      </a:lnTo>
                      <a:lnTo>
                        <a:pt x="151" y="71"/>
                      </a:lnTo>
                      <a:lnTo>
                        <a:pt x="257" y="178"/>
                      </a:lnTo>
                      <a:lnTo>
                        <a:pt x="364" y="285"/>
                      </a:lnTo>
                      <a:lnTo>
                        <a:pt x="425" y="356"/>
                      </a:lnTo>
                      <a:lnTo>
                        <a:pt x="425" y="391"/>
                      </a:lnTo>
                      <a:lnTo>
                        <a:pt x="417" y="462"/>
                      </a:lnTo>
                      <a:lnTo>
                        <a:pt x="337" y="569"/>
                      </a:lnTo>
                      <a:lnTo>
                        <a:pt x="274" y="649"/>
                      </a:lnTo>
                      <a:lnTo>
                        <a:pt x="249" y="711"/>
                      </a:lnTo>
                      <a:lnTo>
                        <a:pt x="274" y="746"/>
                      </a:lnTo>
                      <a:lnTo>
                        <a:pt x="319" y="809"/>
                      </a:lnTo>
                      <a:lnTo>
                        <a:pt x="390" y="844"/>
                      </a:lnTo>
                      <a:lnTo>
                        <a:pt x="434" y="853"/>
                      </a:lnTo>
                      <a:lnTo>
                        <a:pt x="444" y="889"/>
                      </a:lnTo>
                      <a:lnTo>
                        <a:pt x="434" y="942"/>
                      </a:lnTo>
                      <a:lnTo>
                        <a:pt x="354" y="906"/>
                      </a:lnTo>
                      <a:lnTo>
                        <a:pt x="284" y="844"/>
                      </a:lnTo>
                      <a:lnTo>
                        <a:pt x="239" y="764"/>
                      </a:lnTo>
                      <a:lnTo>
                        <a:pt x="231" y="693"/>
                      </a:lnTo>
                      <a:lnTo>
                        <a:pt x="231" y="657"/>
                      </a:lnTo>
                      <a:lnTo>
                        <a:pt x="274" y="586"/>
                      </a:lnTo>
                      <a:lnTo>
                        <a:pt x="319" y="533"/>
                      </a:lnTo>
                      <a:lnTo>
                        <a:pt x="354" y="471"/>
                      </a:lnTo>
                      <a:lnTo>
                        <a:pt x="372" y="418"/>
                      </a:lnTo>
                      <a:lnTo>
                        <a:pt x="346" y="383"/>
                      </a:lnTo>
                      <a:lnTo>
                        <a:pt x="292" y="311"/>
                      </a:lnTo>
                      <a:lnTo>
                        <a:pt x="222" y="258"/>
                      </a:lnTo>
                      <a:lnTo>
                        <a:pt x="151" y="196"/>
                      </a:lnTo>
                      <a:lnTo>
                        <a:pt x="71" y="143"/>
                      </a:lnTo>
                      <a:lnTo>
                        <a:pt x="0" y="108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1c1c1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3" name="Freeform 9"/>
                <p:cNvSpPr/>
                <p:nvPr/>
              </p:nvSpPr>
              <p:spPr>
                <a:xfrm>
                  <a:off x="8183520" y="5600520"/>
                  <a:ext cx="330120" cy="1028880"/>
                </a:xfrm>
                <a:custGeom>
                  <a:avLst/>
                  <a:gdLst>
                    <a:gd name="textAreaLeft" fmla="*/ 0 w 330120"/>
                    <a:gd name="textAreaRight" fmla="*/ 330480 w 330120"/>
                    <a:gd name="textAreaTop" fmla="*/ 0 h 1028880"/>
                    <a:gd name="textAreaBottom" fmla="*/ 1029240 h 1028880"/>
                  </a:gdLst>
                  <a:ahLst/>
                  <a:rect l="textAreaLeft" t="textAreaTop" r="textAreaRight" b="textAreaBottom"/>
                  <a:pathLst>
                    <a:path w="416" h="1296">
                      <a:moveTo>
                        <a:pt x="248" y="72"/>
                      </a:moveTo>
                      <a:lnTo>
                        <a:pt x="283" y="0"/>
                      </a:lnTo>
                      <a:lnTo>
                        <a:pt x="363" y="0"/>
                      </a:lnTo>
                      <a:lnTo>
                        <a:pt x="389" y="36"/>
                      </a:lnTo>
                      <a:lnTo>
                        <a:pt x="407" y="178"/>
                      </a:lnTo>
                      <a:lnTo>
                        <a:pt x="381" y="400"/>
                      </a:lnTo>
                      <a:lnTo>
                        <a:pt x="301" y="666"/>
                      </a:lnTo>
                      <a:lnTo>
                        <a:pt x="177" y="923"/>
                      </a:lnTo>
                      <a:lnTo>
                        <a:pt x="106" y="1039"/>
                      </a:lnTo>
                      <a:lnTo>
                        <a:pt x="115" y="1065"/>
                      </a:lnTo>
                      <a:lnTo>
                        <a:pt x="168" y="1084"/>
                      </a:lnTo>
                      <a:lnTo>
                        <a:pt x="310" y="1127"/>
                      </a:lnTo>
                      <a:lnTo>
                        <a:pt x="407" y="1189"/>
                      </a:lnTo>
                      <a:lnTo>
                        <a:pt x="416" y="1225"/>
                      </a:lnTo>
                      <a:lnTo>
                        <a:pt x="399" y="1269"/>
                      </a:lnTo>
                      <a:lnTo>
                        <a:pt x="301" y="1296"/>
                      </a:lnTo>
                      <a:lnTo>
                        <a:pt x="274" y="1260"/>
                      </a:lnTo>
                      <a:lnTo>
                        <a:pt x="274" y="1216"/>
                      </a:lnTo>
                      <a:lnTo>
                        <a:pt x="195" y="1162"/>
                      </a:lnTo>
                      <a:lnTo>
                        <a:pt x="106" y="1127"/>
                      </a:lnTo>
                      <a:lnTo>
                        <a:pt x="35" y="1119"/>
                      </a:lnTo>
                      <a:lnTo>
                        <a:pt x="0" y="1092"/>
                      </a:lnTo>
                      <a:lnTo>
                        <a:pt x="9" y="1065"/>
                      </a:lnTo>
                      <a:lnTo>
                        <a:pt x="80" y="967"/>
                      </a:lnTo>
                      <a:lnTo>
                        <a:pt x="160" y="834"/>
                      </a:lnTo>
                      <a:lnTo>
                        <a:pt x="239" y="683"/>
                      </a:lnTo>
                      <a:lnTo>
                        <a:pt x="266" y="551"/>
                      </a:lnTo>
                      <a:lnTo>
                        <a:pt x="293" y="391"/>
                      </a:lnTo>
                      <a:lnTo>
                        <a:pt x="283" y="258"/>
                      </a:lnTo>
                      <a:lnTo>
                        <a:pt x="274" y="134"/>
                      </a:lnTo>
                      <a:lnTo>
                        <a:pt x="248" y="72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1c1c1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4" name="Freeform 10"/>
                <p:cNvSpPr/>
                <p:nvPr/>
              </p:nvSpPr>
              <p:spPr>
                <a:xfrm>
                  <a:off x="7773840" y="5692680"/>
                  <a:ext cx="565200" cy="909720"/>
                </a:xfrm>
                <a:custGeom>
                  <a:avLst/>
                  <a:gdLst>
                    <a:gd name="textAreaLeft" fmla="*/ 0 w 565200"/>
                    <a:gd name="textAreaRight" fmla="*/ 565560 w 565200"/>
                    <a:gd name="textAreaTop" fmla="*/ 0 h 909720"/>
                    <a:gd name="textAreaBottom" fmla="*/ 910080 h 909720"/>
                  </a:gdLst>
                  <a:ahLst/>
                  <a:rect l="textAreaLeft" t="textAreaTop" r="textAreaRight" b="textAreaBottom"/>
                  <a:pathLst>
                    <a:path w="710" h="1146">
                      <a:moveTo>
                        <a:pt x="497" y="205"/>
                      </a:moveTo>
                      <a:lnTo>
                        <a:pt x="577" y="54"/>
                      </a:lnTo>
                      <a:lnTo>
                        <a:pt x="639" y="0"/>
                      </a:lnTo>
                      <a:lnTo>
                        <a:pt x="692" y="10"/>
                      </a:lnTo>
                      <a:lnTo>
                        <a:pt x="710" y="63"/>
                      </a:lnTo>
                      <a:lnTo>
                        <a:pt x="710" y="107"/>
                      </a:lnTo>
                      <a:lnTo>
                        <a:pt x="665" y="178"/>
                      </a:lnTo>
                      <a:lnTo>
                        <a:pt x="568" y="258"/>
                      </a:lnTo>
                      <a:lnTo>
                        <a:pt x="515" y="347"/>
                      </a:lnTo>
                      <a:lnTo>
                        <a:pt x="479" y="453"/>
                      </a:lnTo>
                      <a:lnTo>
                        <a:pt x="435" y="604"/>
                      </a:lnTo>
                      <a:lnTo>
                        <a:pt x="399" y="746"/>
                      </a:lnTo>
                      <a:lnTo>
                        <a:pt x="408" y="888"/>
                      </a:lnTo>
                      <a:lnTo>
                        <a:pt x="435" y="959"/>
                      </a:lnTo>
                      <a:lnTo>
                        <a:pt x="435" y="1012"/>
                      </a:lnTo>
                      <a:lnTo>
                        <a:pt x="408" y="1030"/>
                      </a:lnTo>
                      <a:lnTo>
                        <a:pt x="310" y="1039"/>
                      </a:lnTo>
                      <a:lnTo>
                        <a:pt x="222" y="1074"/>
                      </a:lnTo>
                      <a:lnTo>
                        <a:pt x="115" y="1137"/>
                      </a:lnTo>
                      <a:lnTo>
                        <a:pt x="44" y="1146"/>
                      </a:lnTo>
                      <a:lnTo>
                        <a:pt x="0" y="1110"/>
                      </a:lnTo>
                      <a:lnTo>
                        <a:pt x="9" y="1084"/>
                      </a:lnTo>
                      <a:lnTo>
                        <a:pt x="115" y="1039"/>
                      </a:lnTo>
                      <a:lnTo>
                        <a:pt x="239" y="1012"/>
                      </a:lnTo>
                      <a:lnTo>
                        <a:pt x="337" y="994"/>
                      </a:lnTo>
                      <a:lnTo>
                        <a:pt x="355" y="969"/>
                      </a:lnTo>
                      <a:lnTo>
                        <a:pt x="345" y="844"/>
                      </a:lnTo>
                      <a:lnTo>
                        <a:pt x="345" y="719"/>
                      </a:lnTo>
                      <a:lnTo>
                        <a:pt x="372" y="621"/>
                      </a:lnTo>
                      <a:lnTo>
                        <a:pt x="417" y="453"/>
                      </a:lnTo>
                      <a:lnTo>
                        <a:pt x="470" y="303"/>
                      </a:lnTo>
                      <a:lnTo>
                        <a:pt x="497" y="20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1c1c1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95" name="Group 11"/>
            <p:cNvGrpSpPr/>
            <p:nvPr/>
          </p:nvGrpSpPr>
          <p:grpSpPr>
            <a:xfrm>
              <a:off x="6140520" y="4432320"/>
              <a:ext cx="1258920" cy="2309760"/>
              <a:chOff x="6140520" y="4432320"/>
              <a:chExt cx="1258920" cy="2309760"/>
            </a:xfrm>
          </p:grpSpPr>
          <p:sp>
            <p:nvSpPr>
              <p:cNvPr id="296" name="Freeform 12"/>
              <p:cNvSpPr/>
              <p:nvPr/>
            </p:nvSpPr>
            <p:spPr>
              <a:xfrm>
                <a:off x="6527880" y="4432320"/>
                <a:ext cx="393480" cy="52056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520560"/>
                  <a:gd name="textAreaBottom" fmla="*/ 520560 h 520560"/>
                </a:gdLst>
                <a:ahLst/>
                <a:rect l="textAreaLeft" t="textAreaTop" r="textAreaRight" b="textAreaBottom"/>
                <a:pathLst>
                  <a:path w="497" h="657">
                    <a:moveTo>
                      <a:pt x="417" y="399"/>
                    </a:moveTo>
                    <a:lnTo>
                      <a:pt x="452" y="258"/>
                    </a:lnTo>
                    <a:lnTo>
                      <a:pt x="434" y="133"/>
                    </a:lnTo>
                    <a:lnTo>
                      <a:pt x="373" y="27"/>
                    </a:lnTo>
                    <a:lnTo>
                      <a:pt x="248" y="0"/>
                    </a:lnTo>
                    <a:lnTo>
                      <a:pt x="133" y="53"/>
                    </a:lnTo>
                    <a:lnTo>
                      <a:pt x="27" y="275"/>
                    </a:lnTo>
                    <a:lnTo>
                      <a:pt x="0" y="479"/>
                    </a:lnTo>
                    <a:lnTo>
                      <a:pt x="45" y="639"/>
                    </a:lnTo>
                    <a:lnTo>
                      <a:pt x="160" y="657"/>
                    </a:lnTo>
                    <a:lnTo>
                      <a:pt x="293" y="586"/>
                    </a:lnTo>
                    <a:lnTo>
                      <a:pt x="346" y="497"/>
                    </a:lnTo>
                    <a:lnTo>
                      <a:pt x="452" y="568"/>
                    </a:lnTo>
                    <a:lnTo>
                      <a:pt x="497" y="551"/>
                    </a:lnTo>
                    <a:lnTo>
                      <a:pt x="373" y="453"/>
                    </a:lnTo>
                    <a:lnTo>
                      <a:pt x="417" y="39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Freeform 13"/>
              <p:cNvSpPr/>
              <p:nvPr/>
            </p:nvSpPr>
            <p:spPr>
              <a:xfrm>
                <a:off x="6364080" y="4965480"/>
                <a:ext cx="339840" cy="85428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854280"/>
                  <a:gd name="textAreaBottom" fmla="*/ 854640 h 854280"/>
                </a:gdLst>
                <a:ahLst/>
                <a:rect l="textAreaLeft" t="textAreaTop" r="textAreaRight" b="textAreaBottom"/>
                <a:pathLst>
                  <a:path w="427" h="1074">
                    <a:moveTo>
                      <a:pt x="400" y="71"/>
                    </a:moveTo>
                    <a:lnTo>
                      <a:pt x="346" y="11"/>
                    </a:lnTo>
                    <a:lnTo>
                      <a:pt x="292" y="0"/>
                    </a:lnTo>
                    <a:lnTo>
                      <a:pt x="219" y="21"/>
                    </a:lnTo>
                    <a:lnTo>
                      <a:pt x="165" y="111"/>
                    </a:lnTo>
                    <a:lnTo>
                      <a:pt x="110" y="261"/>
                    </a:lnTo>
                    <a:lnTo>
                      <a:pt x="73" y="392"/>
                    </a:lnTo>
                    <a:lnTo>
                      <a:pt x="37" y="533"/>
                    </a:lnTo>
                    <a:lnTo>
                      <a:pt x="10" y="673"/>
                    </a:lnTo>
                    <a:lnTo>
                      <a:pt x="0" y="804"/>
                    </a:lnTo>
                    <a:lnTo>
                      <a:pt x="0" y="894"/>
                    </a:lnTo>
                    <a:lnTo>
                      <a:pt x="37" y="994"/>
                    </a:lnTo>
                    <a:lnTo>
                      <a:pt x="92" y="1045"/>
                    </a:lnTo>
                    <a:lnTo>
                      <a:pt x="192" y="1074"/>
                    </a:lnTo>
                    <a:lnTo>
                      <a:pt x="292" y="1074"/>
                    </a:lnTo>
                    <a:lnTo>
                      <a:pt x="373" y="1014"/>
                    </a:lnTo>
                    <a:lnTo>
                      <a:pt x="419" y="874"/>
                    </a:lnTo>
                    <a:lnTo>
                      <a:pt x="427" y="704"/>
                    </a:lnTo>
                    <a:lnTo>
                      <a:pt x="427" y="442"/>
                    </a:lnTo>
                    <a:lnTo>
                      <a:pt x="427" y="252"/>
                    </a:lnTo>
                    <a:lnTo>
                      <a:pt x="419" y="141"/>
                    </a:lnTo>
                    <a:lnTo>
                      <a:pt x="400" y="71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Freeform 14"/>
              <p:cNvSpPr/>
              <p:nvPr/>
            </p:nvSpPr>
            <p:spPr>
              <a:xfrm>
                <a:off x="6673680" y="4992480"/>
                <a:ext cx="263520" cy="809640"/>
              </a:xfrm>
              <a:custGeom>
                <a:avLst/>
                <a:gdLst>
                  <a:gd name="textAreaLeft" fmla="*/ 0 w 263520"/>
                  <a:gd name="textAreaRight" fmla="*/ 263880 w 263520"/>
                  <a:gd name="textAreaTop" fmla="*/ 0 h 809640"/>
                  <a:gd name="textAreaBottom" fmla="*/ 810000 h 809640"/>
                </a:gdLst>
                <a:ahLst/>
                <a:rect l="textAreaLeft" t="textAreaTop" r="textAreaRight" b="textAreaBottom"/>
                <a:pathLst>
                  <a:path w="333" h="1020">
                    <a:moveTo>
                      <a:pt x="44" y="0"/>
                    </a:moveTo>
                    <a:lnTo>
                      <a:pt x="89" y="13"/>
                    </a:lnTo>
                    <a:lnTo>
                      <a:pt x="151" y="106"/>
                    </a:lnTo>
                    <a:lnTo>
                      <a:pt x="222" y="239"/>
                    </a:lnTo>
                    <a:lnTo>
                      <a:pt x="293" y="372"/>
                    </a:lnTo>
                    <a:lnTo>
                      <a:pt x="333" y="456"/>
                    </a:lnTo>
                    <a:lnTo>
                      <a:pt x="320" y="492"/>
                    </a:lnTo>
                    <a:lnTo>
                      <a:pt x="293" y="558"/>
                    </a:lnTo>
                    <a:lnTo>
                      <a:pt x="187" y="638"/>
                    </a:lnTo>
                    <a:lnTo>
                      <a:pt x="102" y="692"/>
                    </a:lnTo>
                    <a:lnTo>
                      <a:pt x="62" y="745"/>
                    </a:lnTo>
                    <a:lnTo>
                      <a:pt x="76" y="788"/>
                    </a:lnTo>
                    <a:lnTo>
                      <a:pt x="97" y="860"/>
                    </a:lnTo>
                    <a:lnTo>
                      <a:pt x="155" y="913"/>
                    </a:lnTo>
                    <a:lnTo>
                      <a:pt x="195" y="935"/>
                    </a:lnTo>
                    <a:lnTo>
                      <a:pt x="191" y="971"/>
                    </a:lnTo>
                    <a:lnTo>
                      <a:pt x="169" y="1020"/>
                    </a:lnTo>
                    <a:lnTo>
                      <a:pt x="107" y="966"/>
                    </a:lnTo>
                    <a:lnTo>
                      <a:pt x="54" y="882"/>
                    </a:lnTo>
                    <a:lnTo>
                      <a:pt x="36" y="793"/>
                    </a:lnTo>
                    <a:lnTo>
                      <a:pt x="44" y="722"/>
                    </a:lnTo>
                    <a:lnTo>
                      <a:pt x="57" y="687"/>
                    </a:lnTo>
                    <a:lnTo>
                      <a:pt x="120" y="638"/>
                    </a:lnTo>
                    <a:lnTo>
                      <a:pt x="177" y="598"/>
                    </a:lnTo>
                    <a:lnTo>
                      <a:pt x="227" y="545"/>
                    </a:lnTo>
                    <a:lnTo>
                      <a:pt x="262" y="500"/>
                    </a:lnTo>
                    <a:lnTo>
                      <a:pt x="249" y="461"/>
                    </a:lnTo>
                    <a:lnTo>
                      <a:pt x="217" y="376"/>
                    </a:lnTo>
                    <a:lnTo>
                      <a:pt x="169" y="306"/>
                    </a:lnTo>
                    <a:lnTo>
                      <a:pt x="115" y="226"/>
                    </a:lnTo>
                    <a:lnTo>
                      <a:pt x="54" y="154"/>
                    </a:lnTo>
                    <a:lnTo>
                      <a:pt x="0" y="96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Freeform 15"/>
              <p:cNvSpPr/>
              <p:nvPr/>
            </p:nvSpPr>
            <p:spPr>
              <a:xfrm>
                <a:off x="6140520" y="5729400"/>
                <a:ext cx="345960" cy="101268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1012680"/>
                  <a:gd name="textAreaBottom" fmla="*/ 1013040 h 1012680"/>
                </a:gdLst>
                <a:ahLst/>
                <a:rect l="textAreaLeft" t="textAreaTop" r="textAreaRight" b="textAreaBottom"/>
                <a:pathLst>
                  <a:path w="435" h="1278">
                    <a:moveTo>
                      <a:pt x="422" y="93"/>
                    </a:moveTo>
                    <a:lnTo>
                      <a:pt x="405" y="18"/>
                    </a:lnTo>
                    <a:lnTo>
                      <a:pt x="328" y="0"/>
                    </a:lnTo>
                    <a:lnTo>
                      <a:pt x="293" y="27"/>
                    </a:lnTo>
                    <a:lnTo>
                      <a:pt x="245" y="165"/>
                    </a:lnTo>
                    <a:lnTo>
                      <a:pt x="222" y="386"/>
                    </a:lnTo>
                    <a:lnTo>
                      <a:pt x="240" y="661"/>
                    </a:lnTo>
                    <a:lnTo>
                      <a:pt x="302" y="940"/>
                    </a:lnTo>
                    <a:lnTo>
                      <a:pt x="346" y="1070"/>
                    </a:lnTo>
                    <a:lnTo>
                      <a:pt x="328" y="1092"/>
                    </a:lnTo>
                    <a:lnTo>
                      <a:pt x="275" y="1100"/>
                    </a:lnTo>
                    <a:lnTo>
                      <a:pt x="125" y="1110"/>
                    </a:lnTo>
                    <a:lnTo>
                      <a:pt x="18" y="1150"/>
                    </a:lnTo>
                    <a:lnTo>
                      <a:pt x="0" y="1180"/>
                    </a:lnTo>
                    <a:lnTo>
                      <a:pt x="9" y="1230"/>
                    </a:lnTo>
                    <a:lnTo>
                      <a:pt x="98" y="1278"/>
                    </a:lnTo>
                    <a:lnTo>
                      <a:pt x="128" y="1247"/>
                    </a:lnTo>
                    <a:lnTo>
                      <a:pt x="142" y="1203"/>
                    </a:lnTo>
                    <a:lnTo>
                      <a:pt x="231" y="1172"/>
                    </a:lnTo>
                    <a:lnTo>
                      <a:pt x="325" y="1153"/>
                    </a:lnTo>
                    <a:lnTo>
                      <a:pt x="395" y="1163"/>
                    </a:lnTo>
                    <a:lnTo>
                      <a:pt x="435" y="1145"/>
                    </a:lnTo>
                    <a:lnTo>
                      <a:pt x="435" y="1118"/>
                    </a:lnTo>
                    <a:lnTo>
                      <a:pt x="386" y="1007"/>
                    </a:lnTo>
                    <a:lnTo>
                      <a:pt x="338" y="857"/>
                    </a:lnTo>
                    <a:lnTo>
                      <a:pt x="293" y="692"/>
                    </a:lnTo>
                    <a:lnTo>
                      <a:pt x="298" y="559"/>
                    </a:lnTo>
                    <a:lnTo>
                      <a:pt x="311" y="395"/>
                    </a:lnTo>
                    <a:lnTo>
                      <a:pt x="346" y="266"/>
                    </a:lnTo>
                    <a:lnTo>
                      <a:pt x="382" y="151"/>
                    </a:lnTo>
                    <a:lnTo>
                      <a:pt x="422" y="93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Freeform 16"/>
              <p:cNvSpPr/>
              <p:nvPr/>
            </p:nvSpPr>
            <p:spPr>
              <a:xfrm>
                <a:off x="6541920" y="5740200"/>
                <a:ext cx="384120" cy="990720"/>
              </a:xfrm>
              <a:custGeom>
                <a:avLst/>
                <a:gdLst>
                  <a:gd name="textAreaLeft" fmla="*/ 0 w 384120"/>
                  <a:gd name="textAreaRight" fmla="*/ 384480 w 384120"/>
                  <a:gd name="textAreaTop" fmla="*/ 0 h 990720"/>
                  <a:gd name="textAreaBottom" fmla="*/ 991080 h 990720"/>
                </a:gdLst>
                <a:ahLst/>
                <a:rect l="textAreaLeft" t="textAreaTop" r="textAreaRight" b="textAreaBottom"/>
                <a:pathLst>
                  <a:path w="483" h="1248">
                    <a:moveTo>
                      <a:pt x="187" y="231"/>
                    </a:moveTo>
                    <a:lnTo>
                      <a:pt x="138" y="66"/>
                    </a:lnTo>
                    <a:lnTo>
                      <a:pt x="89" y="5"/>
                    </a:lnTo>
                    <a:lnTo>
                      <a:pt x="36" y="0"/>
                    </a:lnTo>
                    <a:lnTo>
                      <a:pt x="9" y="49"/>
                    </a:lnTo>
                    <a:lnTo>
                      <a:pt x="0" y="93"/>
                    </a:lnTo>
                    <a:lnTo>
                      <a:pt x="27" y="169"/>
                    </a:lnTo>
                    <a:lnTo>
                      <a:pt x="107" y="271"/>
                    </a:lnTo>
                    <a:lnTo>
                      <a:pt x="138" y="369"/>
                    </a:lnTo>
                    <a:lnTo>
                      <a:pt x="152" y="479"/>
                    </a:lnTo>
                    <a:lnTo>
                      <a:pt x="165" y="635"/>
                    </a:lnTo>
                    <a:lnTo>
                      <a:pt x="169" y="782"/>
                    </a:lnTo>
                    <a:lnTo>
                      <a:pt x="134" y="919"/>
                    </a:lnTo>
                    <a:lnTo>
                      <a:pt x="89" y="982"/>
                    </a:lnTo>
                    <a:lnTo>
                      <a:pt x="80" y="1035"/>
                    </a:lnTo>
                    <a:lnTo>
                      <a:pt x="102" y="1057"/>
                    </a:lnTo>
                    <a:lnTo>
                      <a:pt x="195" y="1088"/>
                    </a:lnTo>
                    <a:lnTo>
                      <a:pt x="275" y="1140"/>
                    </a:lnTo>
                    <a:lnTo>
                      <a:pt x="365" y="1220"/>
                    </a:lnTo>
                    <a:lnTo>
                      <a:pt x="435" y="1248"/>
                    </a:lnTo>
                    <a:lnTo>
                      <a:pt x="483" y="1220"/>
                    </a:lnTo>
                    <a:lnTo>
                      <a:pt x="480" y="1195"/>
                    </a:lnTo>
                    <a:lnTo>
                      <a:pt x="386" y="1128"/>
                    </a:lnTo>
                    <a:lnTo>
                      <a:pt x="271" y="1075"/>
                    </a:lnTo>
                    <a:lnTo>
                      <a:pt x="178" y="1039"/>
                    </a:lnTo>
                    <a:lnTo>
                      <a:pt x="165" y="1008"/>
                    </a:lnTo>
                    <a:lnTo>
                      <a:pt x="200" y="887"/>
                    </a:lnTo>
                    <a:lnTo>
                      <a:pt x="227" y="767"/>
                    </a:lnTo>
                    <a:lnTo>
                      <a:pt x="222" y="666"/>
                    </a:lnTo>
                    <a:lnTo>
                      <a:pt x="213" y="493"/>
                    </a:lnTo>
                    <a:lnTo>
                      <a:pt x="192" y="333"/>
                    </a:lnTo>
                    <a:lnTo>
                      <a:pt x="187" y="231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Freeform 17"/>
              <p:cNvSpPr/>
              <p:nvPr/>
            </p:nvSpPr>
            <p:spPr>
              <a:xfrm>
                <a:off x="6462720" y="4984560"/>
                <a:ext cx="936720" cy="61308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0 h 613080"/>
                  <a:gd name="textAreaBottom" fmla="*/ 613440 h 613080"/>
                </a:gdLst>
                <a:ahLst/>
                <a:rect l="textAreaLeft" t="textAreaTop" r="textAreaRight" b="textAreaBottom"/>
                <a:pathLst>
                  <a:path w="1180" h="771">
                    <a:moveTo>
                      <a:pt x="209" y="124"/>
                    </a:moveTo>
                    <a:lnTo>
                      <a:pt x="129" y="35"/>
                    </a:lnTo>
                    <a:lnTo>
                      <a:pt x="62" y="0"/>
                    </a:lnTo>
                    <a:lnTo>
                      <a:pt x="19" y="4"/>
                    </a:lnTo>
                    <a:lnTo>
                      <a:pt x="0" y="70"/>
                    </a:lnTo>
                    <a:lnTo>
                      <a:pt x="36" y="150"/>
                    </a:lnTo>
                    <a:lnTo>
                      <a:pt x="142" y="217"/>
                    </a:lnTo>
                    <a:lnTo>
                      <a:pt x="333" y="328"/>
                    </a:lnTo>
                    <a:lnTo>
                      <a:pt x="538" y="488"/>
                    </a:lnTo>
                    <a:lnTo>
                      <a:pt x="741" y="576"/>
                    </a:lnTo>
                    <a:lnTo>
                      <a:pt x="866" y="643"/>
                    </a:lnTo>
                    <a:lnTo>
                      <a:pt x="954" y="736"/>
                    </a:lnTo>
                    <a:lnTo>
                      <a:pt x="1021" y="771"/>
                    </a:lnTo>
                    <a:lnTo>
                      <a:pt x="1141" y="758"/>
                    </a:lnTo>
                    <a:lnTo>
                      <a:pt x="1167" y="674"/>
                    </a:lnTo>
                    <a:lnTo>
                      <a:pt x="1180" y="568"/>
                    </a:lnTo>
                    <a:lnTo>
                      <a:pt x="1083" y="554"/>
                    </a:lnTo>
                    <a:lnTo>
                      <a:pt x="999" y="608"/>
                    </a:lnTo>
                    <a:lnTo>
                      <a:pt x="909" y="594"/>
                    </a:lnTo>
                    <a:lnTo>
                      <a:pt x="736" y="531"/>
                    </a:lnTo>
                    <a:lnTo>
                      <a:pt x="581" y="421"/>
                    </a:lnTo>
                    <a:lnTo>
                      <a:pt x="475" y="363"/>
                    </a:lnTo>
                    <a:lnTo>
                      <a:pt x="315" y="261"/>
                    </a:lnTo>
                    <a:lnTo>
                      <a:pt x="232" y="163"/>
                    </a:lnTo>
                    <a:lnTo>
                      <a:pt x="209" y="124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Entrevista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écnica dire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de ser usada na análise do problema e na elicitação de requisit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ender os problemas reais e soluções potenciais das perspectivas dos usuários, clientes, e outros stakehold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DCF0-4E32-4B83-8E3E-F1E4568CBE9B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Entrevista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em são o cliente e o usuário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ssuem necessidades diferente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ais são su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pacidad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ckgroun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bientes, et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al é o problema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o é resolvido atualment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C2DB-5CD7-4A33-8F87-044A7E9A4956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Entrevista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al a razão para resolvê-lo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al o valor de uma solução bem-sucedida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de mais uma solução pode ser encontrada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707400" y="5315040"/>
            <a:ext cx="7608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Note que algumas dessas perguntas j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foram feitas no estudo de viabilida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F2C0-10E9-4441-BC6D-D99BCE616F9D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Questionári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licabilidade a mercados específico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de perguntas são bem definid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póte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guntas relevantes podem ser decididas antecipadam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itor ouve da maneira desej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rime o que é bom sobre análi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Úteis após uma entrevista inic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1534-212F-4DD8-A3A3-E6AF2741EF00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5" name="Group 1026"/>
          <p:cNvGrpSpPr/>
          <p:nvPr/>
        </p:nvGrpSpPr>
        <p:grpSpPr>
          <a:xfrm>
            <a:off x="6513480" y="5587920"/>
            <a:ext cx="2522520" cy="1081080"/>
            <a:chOff x="6513480" y="5587920"/>
            <a:chExt cx="2522520" cy="1081080"/>
          </a:xfrm>
        </p:grpSpPr>
        <p:grpSp>
          <p:nvGrpSpPr>
            <p:cNvPr id="316" name="Group 1027"/>
            <p:cNvGrpSpPr/>
            <p:nvPr/>
          </p:nvGrpSpPr>
          <p:grpSpPr>
            <a:xfrm>
              <a:off x="6513480" y="5587920"/>
              <a:ext cx="507960" cy="639360"/>
              <a:chOff x="6513480" y="5587920"/>
              <a:chExt cx="507960" cy="639360"/>
            </a:xfrm>
          </p:grpSpPr>
          <p:sp>
            <p:nvSpPr>
              <p:cNvPr id="317" name="Oval 1028"/>
              <p:cNvSpPr/>
              <p:nvPr/>
            </p:nvSpPr>
            <p:spPr>
              <a:xfrm>
                <a:off x="6651720" y="5587920"/>
                <a:ext cx="231840" cy="2102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Line 1029"/>
              <p:cNvSpPr/>
              <p:nvPr/>
            </p:nvSpPr>
            <p:spPr>
              <a:xfrm>
                <a:off x="6767640" y="5799960"/>
                <a:ext cx="72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Line 1030"/>
              <p:cNvSpPr/>
              <p:nvPr/>
            </p:nvSpPr>
            <p:spPr>
              <a:xfrm>
                <a:off x="6584040" y="5855040"/>
                <a:ext cx="367560" cy="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Freeform 1031"/>
              <p:cNvSpPr/>
              <p:nvPr/>
            </p:nvSpPr>
            <p:spPr>
              <a:xfrm>
                <a:off x="6513480" y="5996520"/>
                <a:ext cx="507960" cy="23076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230760"/>
                  <a:gd name="textAreaBottom" fmla="*/ 231120 h 230760"/>
                </a:gdLst>
                <a:ahLst/>
                <a:rect l="textAreaLeft" t="textAreaTop" r="textAreaRight" b="textAreaBottom"/>
                <a:pathLst>
                  <a:path w="108" h="54">
                    <a:moveTo>
                      <a:pt x="0" y="54"/>
                    </a:moveTo>
                    <a:lnTo>
                      <a:pt x="54" y="0"/>
                    </a:lnTo>
                    <a:lnTo>
                      <a:pt x="108" y="5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21" name="Oval 1032"/>
            <p:cNvSpPr/>
            <p:nvPr/>
          </p:nvSpPr>
          <p:spPr>
            <a:xfrm>
              <a:off x="7678800" y="5724360"/>
              <a:ext cx="792000" cy="365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Oval 1033"/>
            <p:cNvSpPr/>
            <p:nvPr/>
          </p:nvSpPr>
          <p:spPr>
            <a:xfrm>
              <a:off x="7181640" y="6303960"/>
              <a:ext cx="792360" cy="3650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Oval 1034"/>
            <p:cNvSpPr/>
            <p:nvPr/>
          </p:nvSpPr>
          <p:spPr>
            <a:xfrm>
              <a:off x="8243640" y="6303960"/>
              <a:ext cx="792360" cy="3650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Line 1035"/>
            <p:cNvSpPr/>
            <p:nvPr/>
          </p:nvSpPr>
          <p:spPr>
            <a:xfrm>
              <a:off x="6933960" y="5906880"/>
              <a:ext cx="74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Line 1036"/>
            <p:cNvSpPr/>
            <p:nvPr/>
          </p:nvSpPr>
          <p:spPr>
            <a:xfrm flipV="1">
              <a:off x="7745400" y="6089400"/>
              <a:ext cx="228600" cy="21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Line 1037"/>
            <p:cNvSpPr/>
            <p:nvPr/>
          </p:nvSpPr>
          <p:spPr>
            <a:xfrm flipH="1" flipV="1">
              <a:off x="8243280" y="6089400"/>
              <a:ext cx="227160" cy="21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asos de Us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160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cuta com o cliente o que o sistema far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que quem interage com o siste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que que interfaces o sistema ter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0F4A-8A4F-4994-8C13-FECAC7F15AEC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0" name="Group 2"/>
          <p:cNvGrpSpPr/>
          <p:nvPr/>
        </p:nvGrpSpPr>
        <p:grpSpPr>
          <a:xfrm>
            <a:off x="5257800" y="5334120"/>
            <a:ext cx="2522520" cy="1081080"/>
            <a:chOff x="5257800" y="5334120"/>
            <a:chExt cx="2522520" cy="1081080"/>
          </a:xfrm>
        </p:grpSpPr>
        <p:grpSp>
          <p:nvGrpSpPr>
            <p:cNvPr id="331" name="Group 3"/>
            <p:cNvGrpSpPr/>
            <p:nvPr/>
          </p:nvGrpSpPr>
          <p:grpSpPr>
            <a:xfrm>
              <a:off x="5257800" y="5334120"/>
              <a:ext cx="507960" cy="639360"/>
              <a:chOff x="5257800" y="5334120"/>
              <a:chExt cx="507960" cy="639360"/>
            </a:xfrm>
          </p:grpSpPr>
          <p:sp>
            <p:nvSpPr>
              <p:cNvPr id="332" name="Oval 4"/>
              <p:cNvSpPr/>
              <p:nvPr/>
            </p:nvSpPr>
            <p:spPr>
              <a:xfrm>
                <a:off x="5396040" y="5334120"/>
                <a:ext cx="231840" cy="2102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Line 5"/>
              <p:cNvSpPr/>
              <p:nvPr/>
            </p:nvSpPr>
            <p:spPr>
              <a:xfrm>
                <a:off x="5511960" y="5546160"/>
                <a:ext cx="72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Line 6"/>
              <p:cNvSpPr/>
              <p:nvPr/>
            </p:nvSpPr>
            <p:spPr>
              <a:xfrm>
                <a:off x="5328360" y="5601240"/>
                <a:ext cx="367560" cy="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Freeform 7"/>
              <p:cNvSpPr/>
              <p:nvPr/>
            </p:nvSpPr>
            <p:spPr>
              <a:xfrm>
                <a:off x="5257800" y="5742720"/>
                <a:ext cx="507960" cy="23076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230760"/>
                  <a:gd name="textAreaBottom" fmla="*/ 231120 h 230760"/>
                </a:gdLst>
                <a:ahLst/>
                <a:rect l="textAreaLeft" t="textAreaTop" r="textAreaRight" b="textAreaBottom"/>
                <a:pathLst>
                  <a:path w="108" h="54">
                    <a:moveTo>
                      <a:pt x="0" y="54"/>
                    </a:moveTo>
                    <a:lnTo>
                      <a:pt x="54" y="0"/>
                    </a:lnTo>
                    <a:lnTo>
                      <a:pt x="108" y="5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36" name="Oval 8"/>
            <p:cNvSpPr/>
            <p:nvPr/>
          </p:nvSpPr>
          <p:spPr>
            <a:xfrm>
              <a:off x="6423120" y="5470560"/>
              <a:ext cx="792000" cy="365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Oval 9"/>
            <p:cNvSpPr/>
            <p:nvPr/>
          </p:nvSpPr>
          <p:spPr>
            <a:xfrm>
              <a:off x="5925960" y="6050160"/>
              <a:ext cx="792360" cy="3650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Oval 10"/>
            <p:cNvSpPr/>
            <p:nvPr/>
          </p:nvSpPr>
          <p:spPr>
            <a:xfrm>
              <a:off x="6987960" y="6050160"/>
              <a:ext cx="792360" cy="3650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Line 11"/>
            <p:cNvSpPr/>
            <p:nvPr/>
          </p:nvSpPr>
          <p:spPr>
            <a:xfrm>
              <a:off x="5678280" y="5653080"/>
              <a:ext cx="74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Line 12"/>
            <p:cNvSpPr/>
            <p:nvPr/>
          </p:nvSpPr>
          <p:spPr>
            <a:xfrm flipV="1">
              <a:off x="6489720" y="5835600"/>
              <a:ext cx="228600" cy="21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Line 13"/>
            <p:cNvSpPr/>
            <p:nvPr/>
          </p:nvSpPr>
          <p:spPr>
            <a:xfrm flipH="1" flipV="1">
              <a:off x="6987600" y="5835600"/>
              <a:ext cx="227160" cy="21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asos de Us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160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ifique se não há requisitos faltan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ifique que os desenvolvedores entendem os requisit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Vantagem é ter apelo visual dos requisitos mais relevantes do cli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F51E-7A15-4DDD-A50E-1DABA6FC982F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genheiro de requisit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sume a função do usuário ou cli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tender o domínio do proble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sume a função do usuár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tender os problemas que podem pass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46" name="Object 3"/>
          <p:cNvGraphicFramePr/>
          <p:nvPr/>
        </p:nvGraphicFramePr>
        <p:xfrm>
          <a:off x="6732720" y="4600440"/>
          <a:ext cx="2041560" cy="14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720" y="4600440"/>
                    <a:ext cx="2041560" cy="14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Jogo de Funçõ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49AC-4285-4CC9-A104-49F34F096D4E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Brainstorming 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7164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gras para Brainstorm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beleça o objetivo da sess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re quantas idéias for possí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ixe sua imaginação liv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ão admita críticas ou deba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juste e combine as idéi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6197760" y="4591080"/>
            <a:ext cx="2910960" cy="2151000"/>
            <a:chOff x="6197760" y="4591080"/>
            <a:chExt cx="2910960" cy="2151000"/>
          </a:xfrm>
        </p:grpSpPr>
        <p:sp>
          <p:nvSpPr>
            <p:cNvPr id="353" name="Freeform 5"/>
            <p:cNvSpPr/>
            <p:nvPr/>
          </p:nvSpPr>
          <p:spPr>
            <a:xfrm>
              <a:off x="6208560" y="4678560"/>
              <a:ext cx="2900160" cy="2054160"/>
            </a:xfrm>
            <a:custGeom>
              <a:avLst/>
              <a:gdLst>
                <a:gd name="textAreaLeft" fmla="*/ 0 w 2900160"/>
                <a:gd name="textAreaRight" fmla="*/ 2900520 w 2900160"/>
                <a:gd name="textAreaTop" fmla="*/ 0 h 2054160"/>
                <a:gd name="textAreaBottom" fmla="*/ 2054520 h 2054160"/>
              </a:gdLst>
              <a:ahLst/>
              <a:rect l="textAreaLeft" t="textAreaTop" r="textAreaRight" b="textAreaBottom"/>
              <a:pathLst>
                <a:path w="5051" h="3488">
                  <a:moveTo>
                    <a:pt x="211" y="0"/>
                  </a:moveTo>
                  <a:lnTo>
                    <a:pt x="5051" y="241"/>
                  </a:lnTo>
                  <a:lnTo>
                    <a:pt x="4825" y="3488"/>
                  </a:lnTo>
                  <a:lnTo>
                    <a:pt x="0" y="3233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c0c0c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6"/>
            <p:cNvSpPr/>
            <p:nvPr/>
          </p:nvSpPr>
          <p:spPr>
            <a:xfrm>
              <a:off x="6197760" y="4686480"/>
              <a:ext cx="2903400" cy="2055600"/>
            </a:xfrm>
            <a:custGeom>
              <a:avLst/>
              <a:gdLst>
                <a:gd name="textAreaLeft" fmla="*/ 0 w 2903400"/>
                <a:gd name="textAreaRight" fmla="*/ 2903760 w 2903400"/>
                <a:gd name="textAreaTop" fmla="*/ 0 h 2055600"/>
                <a:gd name="textAreaBottom" fmla="*/ 2055960 h 2055600"/>
              </a:gdLst>
              <a:ahLst/>
              <a:rect l="textAreaLeft" t="textAreaTop" r="textAreaRight" b="textAreaBottom"/>
              <a:pathLst>
                <a:path w="5052" h="3488">
                  <a:moveTo>
                    <a:pt x="4841" y="0"/>
                  </a:moveTo>
                  <a:lnTo>
                    <a:pt x="0" y="240"/>
                  </a:lnTo>
                  <a:lnTo>
                    <a:pt x="227" y="3488"/>
                  </a:lnTo>
                  <a:lnTo>
                    <a:pt x="5052" y="3232"/>
                  </a:lnTo>
                  <a:lnTo>
                    <a:pt x="4841" y="0"/>
                  </a:lnTo>
                  <a:close/>
                </a:path>
              </a:pathLst>
            </a:custGeom>
            <a:solidFill>
              <a:srgbClr val="80808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Rectangle 7"/>
            <p:cNvSpPr/>
            <p:nvPr/>
          </p:nvSpPr>
          <p:spPr>
            <a:xfrm>
              <a:off x="6265800" y="4756320"/>
              <a:ext cx="2771280" cy="1914480"/>
            </a:xfrm>
            <a:prstGeom prst="rect">
              <a:avLst/>
            </a:prstGeom>
            <a:solidFill>
              <a:srgbClr val="dddddd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Freeform 8"/>
            <p:cNvSpPr/>
            <p:nvPr/>
          </p:nvSpPr>
          <p:spPr>
            <a:xfrm>
              <a:off x="7410240" y="4616640"/>
              <a:ext cx="234720" cy="26496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407" h="450">
                  <a:moveTo>
                    <a:pt x="0" y="57"/>
                  </a:moveTo>
                  <a:lnTo>
                    <a:pt x="407" y="450"/>
                  </a:lnTo>
                  <a:lnTo>
                    <a:pt x="22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c0c0c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Oval 9"/>
            <p:cNvSpPr/>
            <p:nvPr/>
          </p:nvSpPr>
          <p:spPr>
            <a:xfrm>
              <a:off x="7377120" y="4591080"/>
              <a:ext cx="85320" cy="8892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Rectangle 10"/>
            <p:cNvSpPr/>
            <p:nvPr/>
          </p:nvSpPr>
          <p:spPr>
            <a:xfrm>
              <a:off x="6535800" y="5068800"/>
              <a:ext cx="450360" cy="1270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9" name="Rectangle 11"/>
            <p:cNvSpPr/>
            <p:nvPr/>
          </p:nvSpPr>
          <p:spPr>
            <a:xfrm>
              <a:off x="6338880" y="5592960"/>
              <a:ext cx="452160" cy="1267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Rectangle 12"/>
            <p:cNvSpPr/>
            <p:nvPr/>
          </p:nvSpPr>
          <p:spPr>
            <a:xfrm>
              <a:off x="6865920" y="5408640"/>
              <a:ext cx="452160" cy="1270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Rectangle 13"/>
            <p:cNvSpPr/>
            <p:nvPr/>
          </p:nvSpPr>
          <p:spPr>
            <a:xfrm>
              <a:off x="7394400" y="5878440"/>
              <a:ext cx="450720" cy="1270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Rectangle 14"/>
            <p:cNvSpPr/>
            <p:nvPr/>
          </p:nvSpPr>
          <p:spPr>
            <a:xfrm>
              <a:off x="8077320" y="5748480"/>
              <a:ext cx="450360" cy="1270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Rectangle 15"/>
            <p:cNvSpPr/>
            <p:nvPr/>
          </p:nvSpPr>
          <p:spPr>
            <a:xfrm>
              <a:off x="7018200" y="6289560"/>
              <a:ext cx="450720" cy="1270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16"/>
            <p:cNvSpPr/>
            <p:nvPr/>
          </p:nvSpPr>
          <p:spPr>
            <a:xfrm>
              <a:off x="8286840" y="5308560"/>
              <a:ext cx="451800" cy="128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Rectangle 17"/>
            <p:cNvSpPr/>
            <p:nvPr/>
          </p:nvSpPr>
          <p:spPr>
            <a:xfrm>
              <a:off x="7032600" y="5578560"/>
              <a:ext cx="450360" cy="1270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Rectangle 18"/>
            <p:cNvSpPr/>
            <p:nvPr/>
          </p:nvSpPr>
          <p:spPr>
            <a:xfrm>
              <a:off x="7610400" y="5535720"/>
              <a:ext cx="452160" cy="1270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Rectangle 19"/>
            <p:cNvSpPr/>
            <p:nvPr/>
          </p:nvSpPr>
          <p:spPr>
            <a:xfrm>
              <a:off x="6638760" y="6005520"/>
              <a:ext cx="450720" cy="128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Rectangle 20"/>
            <p:cNvSpPr/>
            <p:nvPr/>
          </p:nvSpPr>
          <p:spPr>
            <a:xfrm>
              <a:off x="8218440" y="6051600"/>
              <a:ext cx="450360" cy="128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Rectangle 21"/>
            <p:cNvSpPr/>
            <p:nvPr/>
          </p:nvSpPr>
          <p:spPr>
            <a:xfrm>
              <a:off x="7694640" y="6257880"/>
              <a:ext cx="450360" cy="1270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Rectangle 22"/>
            <p:cNvSpPr/>
            <p:nvPr/>
          </p:nvSpPr>
          <p:spPr>
            <a:xfrm>
              <a:off x="7583400" y="5135760"/>
              <a:ext cx="452160" cy="1267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6179-2954-4D04-877B-AA61B29DE66B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Estudo de Viabilidad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studo que indica se o esforço em desenvolver a idéia vale a pe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Visa tanto a tomada de decis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mo a sugestão de possíveis alternativas de solu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6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E17E-AA82-4A43-8B85-767E9449999B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2" name="Object 2"/>
          <p:cNvGraphicFramePr/>
          <p:nvPr/>
        </p:nvGraphicFramePr>
        <p:xfrm>
          <a:off x="5145120" y="2608200"/>
          <a:ext cx="3809880" cy="29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5120" y="2608200"/>
                    <a:ext cx="3809880" cy="29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Workshop de Requisit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482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õe todos os stakeholders juntos por um período intensivo (focad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ilitador conduz a reuni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dos têm sua vez de fal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ultados são disponíveis imediatam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vê um ambiente para aplicar  outras técnicas de elicit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A5A4-6BA2-444D-B4C0-D99BE5A1FE1D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Exercíci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Quais técnicas poderiam ser usadas em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1. Sistema da padaria de pequeno porte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2. Sistema inteligente de preenchimento do IRPF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3. Sistema de alocação docen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FAB2-FD09-4E4F-818F-FEDCCCA060FC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Análise de Requisit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81" name="AutoShape 3"/>
          <p:cNvSpPr/>
          <p:nvPr/>
        </p:nvSpPr>
        <p:spPr>
          <a:xfrm>
            <a:off x="2473200" y="40384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2474640" y="4038480"/>
            <a:ext cx="143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ntendimen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 domín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AutoShape 5"/>
          <p:cNvSpPr/>
          <p:nvPr/>
        </p:nvSpPr>
        <p:spPr>
          <a:xfrm>
            <a:off x="2473200" y="53341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2669400" y="5334120"/>
            <a:ext cx="105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eta 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AutoShape 7"/>
          <p:cNvSpPr/>
          <p:nvPr/>
        </p:nvSpPr>
        <p:spPr>
          <a:xfrm>
            <a:off x="4683240" y="6095880"/>
            <a:ext cx="144756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4713840" y="624852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lassificaçã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AutoShape 9"/>
          <p:cNvSpPr/>
          <p:nvPr/>
        </p:nvSpPr>
        <p:spPr>
          <a:xfrm>
            <a:off x="3083040" y="1981080"/>
            <a:ext cx="144756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Text Box 10"/>
          <p:cNvSpPr/>
          <p:nvPr/>
        </p:nvSpPr>
        <p:spPr>
          <a:xfrm>
            <a:off x="3098520" y="1981080"/>
            <a:ext cx="141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finição 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pecificaçã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 requisit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AutoShape 11"/>
          <p:cNvSpPr/>
          <p:nvPr/>
        </p:nvSpPr>
        <p:spPr>
          <a:xfrm>
            <a:off x="6892920" y="53341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Text Box 12"/>
          <p:cNvSpPr/>
          <p:nvPr/>
        </p:nvSpPr>
        <p:spPr>
          <a:xfrm>
            <a:off x="7044120" y="5334120"/>
            <a:ext cx="114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soluçã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 confli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AutoShape 13"/>
          <p:cNvSpPr/>
          <p:nvPr/>
        </p:nvSpPr>
        <p:spPr>
          <a:xfrm>
            <a:off x="6892920" y="4038480"/>
            <a:ext cx="164160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Text Box 14"/>
          <p:cNvSpPr/>
          <p:nvPr/>
        </p:nvSpPr>
        <p:spPr>
          <a:xfrm>
            <a:off x="6896160" y="4159080"/>
            <a:ext cx="163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trib. Priorida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AutoShape 15"/>
          <p:cNvSpPr/>
          <p:nvPr/>
        </p:nvSpPr>
        <p:spPr>
          <a:xfrm>
            <a:off x="4683240" y="3429000"/>
            <a:ext cx="144756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Text Box 16"/>
          <p:cNvSpPr/>
          <p:nvPr/>
        </p:nvSpPr>
        <p:spPr>
          <a:xfrm>
            <a:off x="4688640" y="3429000"/>
            <a:ext cx="143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alidaçã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s requisit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AutoShape 17"/>
          <p:cNvSpPr/>
          <p:nvPr/>
        </p:nvSpPr>
        <p:spPr>
          <a:xfrm>
            <a:off x="1635120" y="419112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AutoShape 18"/>
          <p:cNvSpPr/>
          <p:nvPr/>
        </p:nvSpPr>
        <p:spPr>
          <a:xfrm rot="5343000">
            <a:off x="3155400" y="487656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AutoShape 19"/>
          <p:cNvSpPr/>
          <p:nvPr/>
        </p:nvSpPr>
        <p:spPr>
          <a:xfrm rot="16174800">
            <a:off x="2625480" y="487656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8" name="Group 20"/>
          <p:cNvGrpSpPr/>
          <p:nvPr/>
        </p:nvGrpSpPr>
        <p:grpSpPr>
          <a:xfrm>
            <a:off x="3913560" y="5456880"/>
            <a:ext cx="849240" cy="1037880"/>
            <a:chOff x="3913560" y="5456880"/>
            <a:chExt cx="849240" cy="1037880"/>
          </a:xfrm>
        </p:grpSpPr>
        <p:sp>
          <p:nvSpPr>
            <p:cNvPr id="399" name="AutoShape 21"/>
            <p:cNvSpPr/>
            <p:nvPr/>
          </p:nvSpPr>
          <p:spPr>
            <a:xfrm rot="1736400">
              <a:off x="3921120" y="6095880"/>
              <a:ext cx="761760" cy="228600"/>
            </a:xfrm>
            <a:prstGeom prst="rightArrow">
              <a:avLst>
                <a:gd name="adj1" fmla="val 50000"/>
                <a:gd name="adj2" fmla="val 8330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AutoShape 22"/>
            <p:cNvSpPr/>
            <p:nvPr/>
          </p:nvSpPr>
          <p:spPr>
            <a:xfrm rot="12680400">
              <a:off x="3996720" y="5637960"/>
              <a:ext cx="762120" cy="228600"/>
            </a:xfrm>
            <a:prstGeom prst="rightArrow">
              <a:avLst>
                <a:gd name="adj1" fmla="val 50000"/>
                <a:gd name="adj2" fmla="val 83346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1" name="AutoShape 23"/>
          <p:cNvSpPr/>
          <p:nvPr/>
        </p:nvSpPr>
        <p:spPr>
          <a:xfrm rot="1736400">
            <a:off x="6054840" y="419112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AutoShape 24"/>
          <p:cNvSpPr/>
          <p:nvPr/>
        </p:nvSpPr>
        <p:spPr>
          <a:xfrm rot="12680400">
            <a:off x="6130440" y="373320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AutoShape 25"/>
          <p:cNvSpPr/>
          <p:nvPr/>
        </p:nvSpPr>
        <p:spPr>
          <a:xfrm rot="5343000">
            <a:off x="7578000" y="487656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AutoShape 26"/>
          <p:cNvSpPr/>
          <p:nvPr/>
        </p:nvSpPr>
        <p:spPr>
          <a:xfrm rot="16174800">
            <a:off x="7048440" y="487656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AutoShape 27"/>
          <p:cNvSpPr/>
          <p:nvPr/>
        </p:nvSpPr>
        <p:spPr>
          <a:xfrm rot="19534200">
            <a:off x="3921120" y="403812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AutoShape 28"/>
          <p:cNvSpPr/>
          <p:nvPr/>
        </p:nvSpPr>
        <p:spPr>
          <a:xfrm rot="8877600">
            <a:off x="3844080" y="365688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AutoShape 29"/>
          <p:cNvSpPr/>
          <p:nvPr/>
        </p:nvSpPr>
        <p:spPr>
          <a:xfrm rot="19534200">
            <a:off x="6207120" y="617184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AutoShape 30"/>
          <p:cNvSpPr/>
          <p:nvPr/>
        </p:nvSpPr>
        <p:spPr>
          <a:xfrm rot="8877600">
            <a:off x="6130080" y="579060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AutoShape 31"/>
          <p:cNvSpPr/>
          <p:nvPr/>
        </p:nvSpPr>
        <p:spPr>
          <a:xfrm rot="13593600">
            <a:off x="4552560" y="28188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AutoShape 32"/>
          <p:cNvSpPr/>
          <p:nvPr/>
        </p:nvSpPr>
        <p:spPr>
          <a:xfrm rot="6670800">
            <a:off x="2341800" y="3332160"/>
            <a:ext cx="1218960" cy="193680"/>
          </a:xfrm>
          <a:prstGeom prst="rightArrow">
            <a:avLst>
              <a:gd name="adj1" fmla="val 50000"/>
              <a:gd name="adj2" fmla="val 15734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 Box 33"/>
          <p:cNvSpPr/>
          <p:nvPr/>
        </p:nvSpPr>
        <p:spPr>
          <a:xfrm>
            <a:off x="897840" y="4371840"/>
            <a:ext cx="117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ntrada d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ocess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AutoShape 34"/>
          <p:cNvSpPr/>
          <p:nvPr/>
        </p:nvSpPr>
        <p:spPr>
          <a:xfrm>
            <a:off x="6019920" y="2090880"/>
            <a:ext cx="144756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Text Box 35"/>
          <p:cNvSpPr/>
          <p:nvPr/>
        </p:nvSpPr>
        <p:spPr>
          <a:xfrm>
            <a:off x="6076440" y="2090880"/>
            <a:ext cx="13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cumen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 requisit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AutoShape 36"/>
          <p:cNvSpPr/>
          <p:nvPr/>
        </p:nvSpPr>
        <p:spPr>
          <a:xfrm>
            <a:off x="4648320" y="2286000"/>
            <a:ext cx="1295280" cy="228600"/>
          </a:xfrm>
          <a:prstGeom prst="rightArrow">
            <a:avLst>
              <a:gd name="adj1" fmla="val 50000"/>
              <a:gd name="adj2" fmla="val 14165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Text Box 37"/>
          <p:cNvSpPr/>
          <p:nvPr/>
        </p:nvSpPr>
        <p:spPr>
          <a:xfrm>
            <a:off x="3885480" y="4419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Text Box 38"/>
          <p:cNvSpPr/>
          <p:nvPr/>
        </p:nvSpPr>
        <p:spPr>
          <a:xfrm>
            <a:off x="3885480" y="5149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Text Box 39"/>
          <p:cNvSpPr/>
          <p:nvPr/>
        </p:nvSpPr>
        <p:spPr>
          <a:xfrm>
            <a:off x="5866560" y="5759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Text Box 40"/>
          <p:cNvSpPr/>
          <p:nvPr/>
        </p:nvSpPr>
        <p:spPr>
          <a:xfrm>
            <a:off x="6628680" y="5105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Text Box 41"/>
          <p:cNvSpPr/>
          <p:nvPr/>
        </p:nvSpPr>
        <p:spPr>
          <a:xfrm>
            <a:off x="6638040" y="4572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Text Box 42"/>
          <p:cNvSpPr/>
          <p:nvPr/>
        </p:nvSpPr>
        <p:spPr>
          <a:xfrm>
            <a:off x="5866560" y="40384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Text Box 43"/>
          <p:cNvSpPr/>
          <p:nvPr/>
        </p:nvSpPr>
        <p:spPr>
          <a:xfrm>
            <a:off x="4266360" y="2819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Text Box 44"/>
          <p:cNvSpPr/>
          <p:nvPr/>
        </p:nvSpPr>
        <p:spPr>
          <a:xfrm>
            <a:off x="6095160" y="2819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8AAE-6E54-4FC0-8D03-815A96E56EA5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Entendimento do Domíni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Desenvolver sistemas envolve domínios além de software e hardwa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Podemos ter que entender sob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ntabilid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aú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upermerca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8767-F23B-407A-BCF4-0B4D0E83D3F6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Coleta de Requisit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Como vimos anteriormente, a coleta de requisitos é feita através de técnic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Nesta etapa, os requisitos são simplesmente documentados à medida que são coletad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Resulta em documento preliminar (draft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F091-96C3-4EAE-9D14-92CA10B09812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Classificação dos Requisit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sta etapa consiste basicamente em agrupar os diversos requisitos coletados em categorias (clusters) bem-definid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Por exempl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eve ser possível consultar o preço de uma mercador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62720" indent="-212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 consulta deve retornar uma resposta em no máximo 5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2221-4C8E-467C-8DD3-E5B4DE22F1A1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Problema da Análise de Requisit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Stakeholders em geral não sabem o que quer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Stakeholders expressam requisitos em sua terminolog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Stakeholders diferentes podem gerar requisitos conflitan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98CA-F814-44E5-BD4F-2D01093C3DF4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Problema da Análise de Requisit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Fatores políticos e organizacionais podem influenciar os requisitos do siste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Requisitos mudam durante o processo de análise. Stakeholders novos podem surgir e o ambiente de trabalho mud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B4D1-E005-456A-AE1A-40D06861BE32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Resolução de Conflit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É normal que ocorram requisitos conflitan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Por exempl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-23: O sistema deve 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-45: O sistema não deve 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Cliente/usuário deve ser consultado para resolver conflitos (ambigüidade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A023-57FA-4ED8-85F1-1BB3FF9F180F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Atribuição de Prioridad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lguns requisitos são mais urgentes que outr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É essencial determinar a prioridade dos requisitos junto ao cli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Requisitos de maior prioridade são considerados em primeiro lug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1FEE-AAA5-4121-B875-4941D552AE2A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Estudo de Viabilidad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Deve oferecer informações para ajudar na decis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e o projeto pode ou não ser fei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e o produto final irá ou não beneficiar os usuários interessa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scolha das alternativas entre as possíveis soluçõ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Há uma melhor alternativa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0E46-789F-429F-B684-A3EAEF67F2C3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rioridad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quisitos podem ser vistos em três classes distint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senci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ortan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ejáve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 princípio, sistema deve resolver todos os requisitos de essenciais para desejáve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6BAC-3FC6-4B13-8854-D88788AB022C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Exemplo de Prioridad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[RF001] Consulta X ao B.D. deve retornar dados A, B, 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ioridade: Essenci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[RNF001] Consulta X ao B.D. deve visualizar dados segundo padrão 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ioridade: Importa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[RNF010] Consulta X ao B.D. deve usar cores azuis nos resulta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ioridade: Desejá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6DA0-6F14-4576-97E2-DAA06A86560D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Validação dos Requisit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Será que realmente entendi o que o cliente deseja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Devo me certificar de que não houve falha em nossa interação (comunicação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Há diversas técnicas de valida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F5BD-8BE1-4C93-BBC3-99FD329B6E7C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Validação de Requisit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Demonstrar que os requisitos definem o sistema que o cliente realmente desej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Custos com erros de requisitos são alt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nsertar um erro de requisitos após entrega do sistema pode custar mais de 100 vezes o custo de um erro de implementa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B8B0-EE10-41BB-83D7-B4DD399D2158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Técnicas de Validação de Requisit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evisões de Requisit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nálise manual sistemática dos requisit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rototipa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so de modelo executável do sistema para avaliar requisit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Geração de Casos de Tes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senvolver testes específicos para os requisitos para avaliá-l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nálise de Consistência Automát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valiar uma especificação dos requisit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7DBA-AE41-44A9-97B8-CA7CC25A5A38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Gerenciamento de Requisit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Gerenciamento de requisitos é o processo de controlar as mudanças dos requisitos dura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 processo da engenharia de requisit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 desenvolvimento do siste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2165-5356-4FDC-B95D-A000FB43B8DD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Gerenciamento de Requisit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equisitos são inevitavelmente incompletos e inconsisten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quisitos novos surgem durante o processo de acordo com mudanças nas necessidades do negócio e um entendimento melhor do sistema é desenvolvi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ferentes pontos de vista têm diferentes requisitos e esses geralmente são contraditór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B3A1-602F-41E4-91F9-E9DC7EC6B24B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Rastreament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Responsável por dependências entre requisitos, suas origens e projeto do siste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Rastreamento de Orig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ssociação entre requisitos e stakeholders que propuseram tais requisit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AADA-36B1-45C8-89A9-96D6E4F63AC4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Rastreament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Rastreamento de Requisit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ssociação entre requisitos dependen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Rastreamento de Proje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ssociação dos requisitos com o proje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ar hipertexto ou referência cruz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 matriz de rastreamen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6B25-8F55-462B-BE15-036E4542BE1C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5067360" y="1844640"/>
            <a:ext cx="3968640" cy="32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1.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Rastrear requisitos do usuário nos do siste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2.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Rastrear requisitos no proje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3.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Rastrear requisitos nos procedimentos de tes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4.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Rastrear requisitos do usuário no pla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Rectangle 3"/>
          <p:cNvSpPr/>
          <p:nvPr/>
        </p:nvSpPr>
        <p:spPr>
          <a:xfrm>
            <a:off x="740880" y="5837400"/>
            <a:ext cx="1292760" cy="366840"/>
          </a:xfrm>
          <a:prstGeom prst="rect">
            <a:avLst/>
          </a:prstGeom>
          <a:solidFill>
            <a:srgbClr val="ffcf01"/>
          </a:solidFill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Projeto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4"/>
          <p:cNvSpPr/>
          <p:nvPr/>
        </p:nvSpPr>
        <p:spPr>
          <a:xfrm>
            <a:off x="401760" y="6332400"/>
            <a:ext cx="2011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el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2435400" y="6332400"/>
            <a:ext cx="1485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ítes Tes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2595600" y="5837400"/>
            <a:ext cx="1164960" cy="366840"/>
          </a:xfrm>
          <a:prstGeom prst="rect">
            <a:avLst/>
          </a:prstGeom>
          <a:solidFill>
            <a:srgbClr val="ffcf01"/>
          </a:solidFill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ste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1857240" y="492912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Rectangle 8"/>
          <p:cNvSpPr/>
          <p:nvPr/>
        </p:nvSpPr>
        <p:spPr>
          <a:xfrm>
            <a:off x="2809800" y="492120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2561400" y="2484360"/>
            <a:ext cx="1235160" cy="458280"/>
          </a:xfrm>
          <a:prstGeom prst="rect">
            <a:avLst/>
          </a:prstGeom>
          <a:solidFill>
            <a:srgbClr val="ffcf01"/>
          </a:solidFill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Req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Rectangle 10"/>
          <p:cNvSpPr/>
          <p:nvPr/>
        </p:nvSpPr>
        <p:spPr>
          <a:xfrm>
            <a:off x="2809800" y="33638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Rectangle 11"/>
          <p:cNvSpPr/>
          <p:nvPr/>
        </p:nvSpPr>
        <p:spPr>
          <a:xfrm>
            <a:off x="394200" y="2303640"/>
            <a:ext cx="1971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aracterística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Rectangle 12"/>
          <p:cNvSpPr/>
          <p:nvPr/>
        </p:nvSpPr>
        <p:spPr>
          <a:xfrm>
            <a:off x="85680" y="4049640"/>
            <a:ext cx="18478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alhado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asos de Us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Rectangle 13"/>
          <p:cNvSpPr/>
          <p:nvPr/>
        </p:nvSpPr>
        <p:spPr>
          <a:xfrm>
            <a:off x="2176560" y="4176720"/>
            <a:ext cx="2003040" cy="458280"/>
          </a:xfrm>
          <a:prstGeom prst="rect">
            <a:avLst/>
          </a:prstGeom>
          <a:solidFill>
            <a:srgbClr val="ffcf01"/>
          </a:solidFill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Req B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Rectangle 14"/>
          <p:cNvSpPr/>
          <p:nvPr/>
        </p:nvSpPr>
        <p:spPr>
          <a:xfrm>
            <a:off x="4173480" y="6332400"/>
            <a:ext cx="1851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Rectangle 15"/>
          <p:cNvSpPr/>
          <p:nvPr/>
        </p:nvSpPr>
        <p:spPr>
          <a:xfrm>
            <a:off x="4441320" y="5837400"/>
            <a:ext cx="1594800" cy="366840"/>
          </a:xfrm>
          <a:prstGeom prst="rect">
            <a:avLst/>
          </a:prstGeom>
          <a:solidFill>
            <a:srgbClr val="ffcf01"/>
          </a:solidFill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Doc. Usuá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Rectangle 16"/>
          <p:cNvSpPr/>
          <p:nvPr/>
        </p:nvSpPr>
        <p:spPr>
          <a:xfrm>
            <a:off x="4173480" y="492120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487" name="AutoShape 17"/>
          <p:cNvCxnSpPr>
            <a:stCxn id="479" idx="2"/>
            <a:endCxn id="483" idx="0"/>
          </p:cNvCxnSpPr>
          <p:nvPr/>
        </p:nvCxnSpPr>
        <p:spPr>
          <a:xfrm flipH="1">
            <a:off x="3177360" y="2984400"/>
            <a:ext cx="2520" cy="1178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88" name="AutoShape 18"/>
          <p:cNvCxnSpPr>
            <a:stCxn id="483" idx="2"/>
            <a:endCxn id="473" idx="0"/>
          </p:cNvCxnSpPr>
          <p:nvPr/>
        </p:nvCxnSpPr>
        <p:spPr>
          <a:xfrm flipH="1">
            <a:off x="1387080" y="4676760"/>
            <a:ext cx="1791360" cy="1146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89" name="AutoShape 19"/>
          <p:cNvCxnSpPr>
            <a:stCxn id="483" idx="2"/>
            <a:endCxn id="476" idx="0"/>
          </p:cNvCxnSpPr>
          <p:nvPr/>
        </p:nvCxnSpPr>
        <p:spPr>
          <a:xfrm>
            <a:off x="3177720" y="4676760"/>
            <a:ext cx="1080" cy="1146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0" name="AutoShape 20"/>
          <p:cNvCxnSpPr>
            <a:stCxn id="483" idx="2"/>
            <a:endCxn id="485" idx="0"/>
          </p:cNvCxnSpPr>
          <p:nvPr/>
        </p:nvCxnSpPr>
        <p:spPr>
          <a:xfrm>
            <a:off x="3178080" y="4676760"/>
            <a:ext cx="2061360" cy="1146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1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Rastreament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729F-D686-4686-B721-2CA66FD2F18A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 Que Estudar?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Sistema organizacional apresent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Usuários, políticas, funções, objetivos, et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Problemas com o sistema apresent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Inconsistências, funcionalidades inadequadas, performance, et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Objetivos e outros requisitos para o novo siste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 que precisa muda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4FD7-760E-405C-BCB1-220A8A51FA28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Rectangle 2"/>
          <p:cNvSpPr/>
          <p:nvPr/>
        </p:nvSpPr>
        <p:spPr>
          <a:xfrm>
            <a:off x="476280" y="5072040"/>
            <a:ext cx="789444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s dos requisitos devem ser marcados como “revisar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s “revisar” devem ser analis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4" name="Group 3"/>
          <p:cNvGrpSpPr/>
          <p:nvPr/>
        </p:nvGrpSpPr>
        <p:grpSpPr>
          <a:xfrm>
            <a:off x="6080040" y="2073240"/>
            <a:ext cx="2441520" cy="2163600"/>
            <a:chOff x="6080040" y="2073240"/>
            <a:chExt cx="2441520" cy="2163600"/>
          </a:xfrm>
        </p:grpSpPr>
        <p:sp>
          <p:nvSpPr>
            <p:cNvPr id="495" name="Freeform 4"/>
            <p:cNvSpPr/>
            <p:nvPr/>
          </p:nvSpPr>
          <p:spPr>
            <a:xfrm>
              <a:off x="7364160" y="2073240"/>
              <a:ext cx="299880" cy="41256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379" h="522">
                  <a:moveTo>
                    <a:pt x="119" y="360"/>
                  </a:moveTo>
                  <a:lnTo>
                    <a:pt x="67" y="302"/>
                  </a:lnTo>
                  <a:lnTo>
                    <a:pt x="30" y="242"/>
                  </a:lnTo>
                  <a:lnTo>
                    <a:pt x="8" y="186"/>
                  </a:lnTo>
                  <a:lnTo>
                    <a:pt x="0" y="106"/>
                  </a:lnTo>
                  <a:lnTo>
                    <a:pt x="15" y="61"/>
                  </a:lnTo>
                  <a:lnTo>
                    <a:pt x="40" y="30"/>
                  </a:lnTo>
                  <a:lnTo>
                    <a:pt x="82" y="11"/>
                  </a:lnTo>
                  <a:lnTo>
                    <a:pt x="129" y="0"/>
                  </a:lnTo>
                  <a:lnTo>
                    <a:pt x="196" y="18"/>
                  </a:lnTo>
                  <a:lnTo>
                    <a:pt x="245" y="45"/>
                  </a:lnTo>
                  <a:lnTo>
                    <a:pt x="292" y="84"/>
                  </a:lnTo>
                  <a:lnTo>
                    <a:pt x="330" y="136"/>
                  </a:lnTo>
                  <a:lnTo>
                    <a:pt x="356" y="179"/>
                  </a:lnTo>
                  <a:lnTo>
                    <a:pt x="374" y="235"/>
                  </a:lnTo>
                  <a:lnTo>
                    <a:pt x="379" y="283"/>
                  </a:lnTo>
                  <a:lnTo>
                    <a:pt x="371" y="340"/>
                  </a:lnTo>
                  <a:lnTo>
                    <a:pt x="349" y="378"/>
                  </a:lnTo>
                  <a:lnTo>
                    <a:pt x="322" y="404"/>
                  </a:lnTo>
                  <a:lnTo>
                    <a:pt x="267" y="412"/>
                  </a:lnTo>
                  <a:lnTo>
                    <a:pt x="218" y="412"/>
                  </a:lnTo>
                  <a:lnTo>
                    <a:pt x="166" y="397"/>
                  </a:lnTo>
                  <a:lnTo>
                    <a:pt x="141" y="443"/>
                  </a:lnTo>
                  <a:lnTo>
                    <a:pt x="114" y="507"/>
                  </a:lnTo>
                  <a:lnTo>
                    <a:pt x="92" y="522"/>
                  </a:lnTo>
                  <a:lnTo>
                    <a:pt x="67" y="522"/>
                  </a:lnTo>
                  <a:lnTo>
                    <a:pt x="55" y="487"/>
                  </a:lnTo>
                  <a:lnTo>
                    <a:pt x="67" y="450"/>
                  </a:lnTo>
                  <a:lnTo>
                    <a:pt x="104" y="407"/>
                  </a:lnTo>
                  <a:lnTo>
                    <a:pt x="119" y="36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" name="Freeform 5"/>
            <p:cNvSpPr/>
            <p:nvPr/>
          </p:nvSpPr>
          <p:spPr>
            <a:xfrm>
              <a:off x="7576920" y="2398680"/>
              <a:ext cx="488880" cy="76680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766800"/>
                <a:gd name="textAreaBottom" fmla="*/ 767160 h 766800"/>
              </a:gdLst>
              <a:ahLst/>
              <a:rect l="textAreaLeft" t="textAreaTop" r="textAreaRight" b="textAreaBottom"/>
              <a:pathLst>
                <a:path w="616" h="967">
                  <a:moveTo>
                    <a:pt x="37" y="51"/>
                  </a:moveTo>
                  <a:lnTo>
                    <a:pt x="87" y="11"/>
                  </a:lnTo>
                  <a:lnTo>
                    <a:pt x="144" y="0"/>
                  </a:lnTo>
                  <a:lnTo>
                    <a:pt x="196" y="8"/>
                  </a:lnTo>
                  <a:lnTo>
                    <a:pt x="254" y="23"/>
                  </a:lnTo>
                  <a:lnTo>
                    <a:pt x="313" y="61"/>
                  </a:lnTo>
                  <a:lnTo>
                    <a:pt x="381" y="119"/>
                  </a:lnTo>
                  <a:lnTo>
                    <a:pt x="438" y="177"/>
                  </a:lnTo>
                  <a:lnTo>
                    <a:pt x="481" y="241"/>
                  </a:lnTo>
                  <a:lnTo>
                    <a:pt x="525" y="312"/>
                  </a:lnTo>
                  <a:lnTo>
                    <a:pt x="564" y="392"/>
                  </a:lnTo>
                  <a:lnTo>
                    <a:pt x="586" y="468"/>
                  </a:lnTo>
                  <a:lnTo>
                    <a:pt x="601" y="567"/>
                  </a:lnTo>
                  <a:lnTo>
                    <a:pt x="616" y="664"/>
                  </a:lnTo>
                  <a:lnTo>
                    <a:pt x="616" y="763"/>
                  </a:lnTo>
                  <a:lnTo>
                    <a:pt x="598" y="841"/>
                  </a:lnTo>
                  <a:lnTo>
                    <a:pt x="570" y="899"/>
                  </a:lnTo>
                  <a:lnTo>
                    <a:pt x="535" y="931"/>
                  </a:lnTo>
                  <a:lnTo>
                    <a:pt x="488" y="952"/>
                  </a:lnTo>
                  <a:lnTo>
                    <a:pt x="430" y="964"/>
                  </a:lnTo>
                  <a:lnTo>
                    <a:pt x="374" y="967"/>
                  </a:lnTo>
                  <a:lnTo>
                    <a:pt x="322" y="952"/>
                  </a:lnTo>
                  <a:lnTo>
                    <a:pt x="286" y="928"/>
                  </a:lnTo>
                  <a:lnTo>
                    <a:pt x="256" y="891"/>
                  </a:lnTo>
                  <a:lnTo>
                    <a:pt x="234" y="858"/>
                  </a:lnTo>
                  <a:lnTo>
                    <a:pt x="225" y="787"/>
                  </a:lnTo>
                  <a:lnTo>
                    <a:pt x="225" y="734"/>
                  </a:lnTo>
                  <a:lnTo>
                    <a:pt x="246" y="679"/>
                  </a:lnTo>
                  <a:lnTo>
                    <a:pt x="268" y="633"/>
                  </a:lnTo>
                  <a:lnTo>
                    <a:pt x="276" y="588"/>
                  </a:lnTo>
                  <a:lnTo>
                    <a:pt x="279" y="533"/>
                  </a:lnTo>
                  <a:lnTo>
                    <a:pt x="264" y="483"/>
                  </a:lnTo>
                  <a:lnTo>
                    <a:pt x="256" y="444"/>
                  </a:lnTo>
                  <a:lnTo>
                    <a:pt x="227" y="403"/>
                  </a:lnTo>
                  <a:lnTo>
                    <a:pt x="184" y="371"/>
                  </a:lnTo>
                  <a:lnTo>
                    <a:pt x="124" y="330"/>
                  </a:lnTo>
                  <a:lnTo>
                    <a:pt x="64" y="308"/>
                  </a:lnTo>
                  <a:lnTo>
                    <a:pt x="29" y="272"/>
                  </a:lnTo>
                  <a:lnTo>
                    <a:pt x="7" y="227"/>
                  </a:lnTo>
                  <a:lnTo>
                    <a:pt x="0" y="174"/>
                  </a:lnTo>
                  <a:lnTo>
                    <a:pt x="4" y="112"/>
                  </a:lnTo>
                  <a:lnTo>
                    <a:pt x="37" y="51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7" name="Freeform 6"/>
            <p:cNvSpPr/>
            <p:nvPr/>
          </p:nvSpPr>
          <p:spPr>
            <a:xfrm>
              <a:off x="7513560" y="2450880"/>
              <a:ext cx="145800" cy="770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770040"/>
                <a:gd name="textAreaBottom" fmla="*/ 770400 h 770040"/>
              </a:gdLst>
              <a:ahLst/>
              <a:rect l="textAreaLeft" t="textAreaTop" r="textAreaRight" b="textAreaBottom"/>
              <a:pathLst>
                <a:path w="184" h="970">
                  <a:moveTo>
                    <a:pt x="49" y="168"/>
                  </a:moveTo>
                  <a:lnTo>
                    <a:pt x="70" y="85"/>
                  </a:lnTo>
                  <a:lnTo>
                    <a:pt x="95" y="30"/>
                  </a:lnTo>
                  <a:lnTo>
                    <a:pt x="141" y="0"/>
                  </a:lnTo>
                  <a:lnTo>
                    <a:pt x="163" y="43"/>
                  </a:lnTo>
                  <a:lnTo>
                    <a:pt x="184" y="131"/>
                  </a:lnTo>
                  <a:lnTo>
                    <a:pt x="169" y="189"/>
                  </a:lnTo>
                  <a:lnTo>
                    <a:pt x="125" y="233"/>
                  </a:lnTo>
                  <a:lnTo>
                    <a:pt x="95" y="318"/>
                  </a:lnTo>
                  <a:lnTo>
                    <a:pt x="70" y="429"/>
                  </a:lnTo>
                  <a:lnTo>
                    <a:pt x="57" y="560"/>
                  </a:lnTo>
                  <a:lnTo>
                    <a:pt x="61" y="717"/>
                  </a:lnTo>
                  <a:lnTo>
                    <a:pt x="71" y="827"/>
                  </a:lnTo>
                  <a:lnTo>
                    <a:pt x="92" y="882"/>
                  </a:lnTo>
                  <a:lnTo>
                    <a:pt x="125" y="912"/>
                  </a:lnTo>
                  <a:lnTo>
                    <a:pt x="131" y="940"/>
                  </a:lnTo>
                  <a:lnTo>
                    <a:pt x="92" y="955"/>
                  </a:lnTo>
                  <a:lnTo>
                    <a:pt x="61" y="927"/>
                  </a:lnTo>
                  <a:lnTo>
                    <a:pt x="0" y="970"/>
                  </a:lnTo>
                  <a:lnTo>
                    <a:pt x="3" y="854"/>
                  </a:lnTo>
                  <a:lnTo>
                    <a:pt x="8" y="705"/>
                  </a:lnTo>
                  <a:lnTo>
                    <a:pt x="8" y="538"/>
                  </a:lnTo>
                  <a:lnTo>
                    <a:pt x="11" y="398"/>
                  </a:lnTo>
                  <a:lnTo>
                    <a:pt x="24" y="291"/>
                  </a:lnTo>
                  <a:lnTo>
                    <a:pt x="39" y="218"/>
                  </a:lnTo>
                  <a:lnTo>
                    <a:pt x="49" y="16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8" name="Group 7"/>
            <p:cNvGrpSpPr/>
            <p:nvPr/>
          </p:nvGrpSpPr>
          <p:grpSpPr>
            <a:xfrm>
              <a:off x="7076880" y="2233440"/>
              <a:ext cx="1444680" cy="1505160"/>
              <a:chOff x="7076880" y="2233440"/>
              <a:chExt cx="1444680" cy="1505160"/>
            </a:xfrm>
          </p:grpSpPr>
          <p:sp>
            <p:nvSpPr>
              <p:cNvPr id="499" name="Freeform 8"/>
              <p:cNvSpPr/>
              <p:nvPr/>
            </p:nvSpPr>
            <p:spPr>
              <a:xfrm>
                <a:off x="8267400" y="2243160"/>
                <a:ext cx="241200" cy="2044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204480"/>
                  <a:gd name="textAreaBottom" fmla="*/ 204840 h 204480"/>
                </a:gdLst>
                <a:ahLst/>
                <a:rect l="textAreaLeft" t="textAreaTop" r="textAreaRight" b="textAreaBottom"/>
                <a:pathLst>
                  <a:path w="305" h="257">
                    <a:moveTo>
                      <a:pt x="20" y="111"/>
                    </a:moveTo>
                    <a:lnTo>
                      <a:pt x="165" y="0"/>
                    </a:lnTo>
                    <a:lnTo>
                      <a:pt x="269" y="46"/>
                    </a:lnTo>
                    <a:lnTo>
                      <a:pt x="305" y="105"/>
                    </a:lnTo>
                    <a:lnTo>
                      <a:pt x="250" y="171"/>
                    </a:lnTo>
                    <a:lnTo>
                      <a:pt x="165" y="257"/>
                    </a:lnTo>
                    <a:lnTo>
                      <a:pt x="125" y="171"/>
                    </a:lnTo>
                    <a:lnTo>
                      <a:pt x="55" y="151"/>
                    </a:lnTo>
                    <a:lnTo>
                      <a:pt x="0" y="141"/>
                    </a:lnTo>
                    <a:lnTo>
                      <a:pt x="20" y="111"/>
                    </a:lnTo>
                    <a:close/>
                  </a:path>
                </a:pathLst>
              </a:custGeom>
              <a:solidFill>
                <a:srgbClr val="fda4b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0" name="Freeform 9"/>
              <p:cNvSpPr/>
              <p:nvPr/>
            </p:nvSpPr>
            <p:spPr>
              <a:xfrm>
                <a:off x="7138800" y="3485880"/>
                <a:ext cx="187200" cy="20340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236" h="257">
                    <a:moveTo>
                      <a:pt x="0" y="257"/>
                    </a:moveTo>
                    <a:lnTo>
                      <a:pt x="40" y="151"/>
                    </a:lnTo>
                    <a:lnTo>
                      <a:pt x="110" y="0"/>
                    </a:lnTo>
                    <a:lnTo>
                      <a:pt x="226" y="50"/>
                    </a:lnTo>
                    <a:lnTo>
                      <a:pt x="236" y="145"/>
                    </a:lnTo>
                    <a:lnTo>
                      <a:pt x="160" y="191"/>
                    </a:lnTo>
                    <a:lnTo>
                      <a:pt x="0" y="257"/>
                    </a:lnTo>
                    <a:close/>
                  </a:path>
                </a:pathLst>
              </a:custGeom>
              <a:solidFill>
                <a:srgbClr val="f6bf6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1" name="Freeform 10"/>
              <p:cNvSpPr/>
              <p:nvPr/>
            </p:nvSpPr>
            <p:spPr>
              <a:xfrm>
                <a:off x="7225920" y="2340000"/>
                <a:ext cx="1181160" cy="1284120"/>
              </a:xfrm>
              <a:custGeom>
                <a:avLst/>
                <a:gdLst>
                  <a:gd name="textAreaLeft" fmla="*/ 0 w 1181160"/>
                  <a:gd name="textAreaRight" fmla="*/ 1181160 w 1181160"/>
                  <a:gd name="textAreaTop" fmla="*/ 0 h 1284120"/>
                  <a:gd name="textAreaBottom" fmla="*/ 1284480 h 1284120"/>
                </a:gdLst>
                <a:ahLst/>
                <a:rect l="textAreaLeft" t="textAreaTop" r="textAreaRight" b="textAreaBottom"/>
                <a:pathLst>
                  <a:path w="1489" h="1620">
                    <a:moveTo>
                      <a:pt x="4" y="1451"/>
                    </a:moveTo>
                    <a:lnTo>
                      <a:pt x="140" y="1341"/>
                    </a:lnTo>
                    <a:lnTo>
                      <a:pt x="246" y="1234"/>
                    </a:lnTo>
                    <a:lnTo>
                      <a:pt x="358" y="1114"/>
                    </a:lnTo>
                    <a:lnTo>
                      <a:pt x="508" y="970"/>
                    </a:lnTo>
                    <a:lnTo>
                      <a:pt x="628" y="839"/>
                    </a:lnTo>
                    <a:lnTo>
                      <a:pt x="754" y="685"/>
                    </a:lnTo>
                    <a:lnTo>
                      <a:pt x="831" y="607"/>
                    </a:lnTo>
                    <a:lnTo>
                      <a:pt x="919" y="521"/>
                    </a:lnTo>
                    <a:lnTo>
                      <a:pt x="1030" y="371"/>
                    </a:lnTo>
                    <a:lnTo>
                      <a:pt x="1112" y="251"/>
                    </a:lnTo>
                    <a:lnTo>
                      <a:pt x="1193" y="150"/>
                    </a:lnTo>
                    <a:lnTo>
                      <a:pt x="1281" y="53"/>
                    </a:lnTo>
                    <a:lnTo>
                      <a:pt x="1343" y="0"/>
                    </a:lnTo>
                    <a:lnTo>
                      <a:pt x="1420" y="15"/>
                    </a:lnTo>
                    <a:lnTo>
                      <a:pt x="1454" y="43"/>
                    </a:lnTo>
                    <a:lnTo>
                      <a:pt x="1478" y="86"/>
                    </a:lnTo>
                    <a:lnTo>
                      <a:pt x="1489" y="120"/>
                    </a:lnTo>
                    <a:lnTo>
                      <a:pt x="1373" y="247"/>
                    </a:lnTo>
                    <a:lnTo>
                      <a:pt x="1285" y="337"/>
                    </a:lnTo>
                    <a:lnTo>
                      <a:pt x="1212" y="419"/>
                    </a:lnTo>
                    <a:lnTo>
                      <a:pt x="1135" y="502"/>
                    </a:lnTo>
                    <a:lnTo>
                      <a:pt x="1073" y="579"/>
                    </a:lnTo>
                    <a:lnTo>
                      <a:pt x="985" y="689"/>
                    </a:lnTo>
                    <a:lnTo>
                      <a:pt x="870" y="824"/>
                    </a:lnTo>
                    <a:lnTo>
                      <a:pt x="754" y="955"/>
                    </a:lnTo>
                    <a:lnTo>
                      <a:pt x="643" y="1071"/>
                    </a:lnTo>
                    <a:lnTo>
                      <a:pt x="522" y="1186"/>
                    </a:lnTo>
                    <a:lnTo>
                      <a:pt x="420" y="1287"/>
                    </a:lnTo>
                    <a:lnTo>
                      <a:pt x="295" y="1412"/>
                    </a:lnTo>
                    <a:lnTo>
                      <a:pt x="218" y="1489"/>
                    </a:lnTo>
                    <a:lnTo>
                      <a:pt x="120" y="1581"/>
                    </a:lnTo>
                    <a:lnTo>
                      <a:pt x="77" y="1620"/>
                    </a:lnTo>
                    <a:lnTo>
                      <a:pt x="88" y="1553"/>
                    </a:lnTo>
                    <a:lnTo>
                      <a:pt x="34" y="1562"/>
                    </a:lnTo>
                    <a:lnTo>
                      <a:pt x="53" y="1504"/>
                    </a:lnTo>
                    <a:lnTo>
                      <a:pt x="0" y="1519"/>
                    </a:lnTo>
                    <a:lnTo>
                      <a:pt x="4" y="1451"/>
                    </a:lnTo>
                    <a:close/>
                  </a:path>
                </a:pathLst>
              </a:custGeom>
              <a:solidFill>
                <a:srgbClr val="f0ea8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2" name="Freeform 11"/>
              <p:cNvSpPr/>
              <p:nvPr/>
            </p:nvSpPr>
            <p:spPr>
              <a:xfrm>
                <a:off x="7543440" y="2233440"/>
                <a:ext cx="978120" cy="1089000"/>
              </a:xfrm>
              <a:custGeom>
                <a:avLst/>
                <a:gdLst>
                  <a:gd name="textAreaLeft" fmla="*/ 0 w 978120"/>
                  <a:gd name="textAreaRight" fmla="*/ 978480 w 978120"/>
                  <a:gd name="textAreaTop" fmla="*/ 0 h 1089000"/>
                  <a:gd name="textAreaBottom" fmla="*/ 1089000 h 1089000"/>
                </a:gdLst>
                <a:ahLst/>
                <a:rect l="textAreaLeft" t="textAreaTop" r="textAreaRight" b="textAreaBottom"/>
                <a:pathLst>
                  <a:path w="1233" h="1372">
                    <a:moveTo>
                      <a:pt x="0" y="1179"/>
                    </a:moveTo>
                    <a:lnTo>
                      <a:pt x="188" y="998"/>
                    </a:lnTo>
                    <a:lnTo>
                      <a:pt x="346" y="797"/>
                    </a:lnTo>
                    <a:lnTo>
                      <a:pt x="530" y="606"/>
                    </a:lnTo>
                    <a:lnTo>
                      <a:pt x="665" y="428"/>
                    </a:lnTo>
                    <a:lnTo>
                      <a:pt x="761" y="288"/>
                    </a:lnTo>
                    <a:lnTo>
                      <a:pt x="871" y="174"/>
                    </a:lnTo>
                    <a:lnTo>
                      <a:pt x="991" y="55"/>
                    </a:lnTo>
                    <a:lnTo>
                      <a:pt x="1071" y="0"/>
                    </a:lnTo>
                    <a:lnTo>
                      <a:pt x="1122" y="19"/>
                    </a:lnTo>
                    <a:lnTo>
                      <a:pt x="1203" y="62"/>
                    </a:lnTo>
                    <a:lnTo>
                      <a:pt x="1233" y="99"/>
                    </a:lnTo>
                    <a:lnTo>
                      <a:pt x="1223" y="123"/>
                    </a:lnTo>
                    <a:lnTo>
                      <a:pt x="1132" y="223"/>
                    </a:lnTo>
                    <a:lnTo>
                      <a:pt x="1044" y="312"/>
                    </a:lnTo>
                    <a:lnTo>
                      <a:pt x="957" y="405"/>
                    </a:lnTo>
                    <a:lnTo>
                      <a:pt x="832" y="548"/>
                    </a:lnTo>
                    <a:lnTo>
                      <a:pt x="696" y="689"/>
                    </a:lnTo>
                    <a:lnTo>
                      <a:pt x="587" y="833"/>
                    </a:lnTo>
                    <a:lnTo>
                      <a:pt x="498" y="941"/>
                    </a:lnTo>
                    <a:lnTo>
                      <a:pt x="334" y="1121"/>
                    </a:lnTo>
                    <a:lnTo>
                      <a:pt x="196" y="1259"/>
                    </a:lnTo>
                    <a:lnTo>
                      <a:pt x="77" y="1372"/>
                    </a:lnTo>
                    <a:lnTo>
                      <a:pt x="77" y="1323"/>
                    </a:lnTo>
                    <a:lnTo>
                      <a:pt x="150" y="1263"/>
                    </a:lnTo>
                    <a:lnTo>
                      <a:pt x="253" y="1161"/>
                    </a:lnTo>
                    <a:lnTo>
                      <a:pt x="360" y="1036"/>
                    </a:lnTo>
                    <a:lnTo>
                      <a:pt x="457" y="935"/>
                    </a:lnTo>
                    <a:lnTo>
                      <a:pt x="544" y="833"/>
                    </a:lnTo>
                    <a:lnTo>
                      <a:pt x="623" y="739"/>
                    </a:lnTo>
                    <a:lnTo>
                      <a:pt x="687" y="656"/>
                    </a:lnTo>
                    <a:lnTo>
                      <a:pt x="768" y="573"/>
                    </a:lnTo>
                    <a:lnTo>
                      <a:pt x="846" y="490"/>
                    </a:lnTo>
                    <a:lnTo>
                      <a:pt x="926" y="404"/>
                    </a:lnTo>
                    <a:lnTo>
                      <a:pt x="1001" y="316"/>
                    </a:lnTo>
                    <a:lnTo>
                      <a:pt x="1067" y="239"/>
                    </a:lnTo>
                    <a:lnTo>
                      <a:pt x="1049" y="193"/>
                    </a:lnTo>
                    <a:lnTo>
                      <a:pt x="1001" y="151"/>
                    </a:lnTo>
                    <a:lnTo>
                      <a:pt x="948" y="142"/>
                    </a:lnTo>
                    <a:lnTo>
                      <a:pt x="998" y="128"/>
                    </a:lnTo>
                    <a:lnTo>
                      <a:pt x="1037" y="142"/>
                    </a:lnTo>
                    <a:lnTo>
                      <a:pt x="1067" y="159"/>
                    </a:lnTo>
                    <a:lnTo>
                      <a:pt x="1080" y="188"/>
                    </a:lnTo>
                    <a:lnTo>
                      <a:pt x="1092" y="211"/>
                    </a:lnTo>
                    <a:lnTo>
                      <a:pt x="1144" y="172"/>
                    </a:lnTo>
                    <a:lnTo>
                      <a:pt x="1180" y="123"/>
                    </a:lnTo>
                    <a:lnTo>
                      <a:pt x="1187" y="93"/>
                    </a:lnTo>
                    <a:lnTo>
                      <a:pt x="1160" y="65"/>
                    </a:lnTo>
                    <a:lnTo>
                      <a:pt x="1102" y="36"/>
                    </a:lnTo>
                    <a:lnTo>
                      <a:pt x="1056" y="36"/>
                    </a:lnTo>
                    <a:lnTo>
                      <a:pt x="1013" y="80"/>
                    </a:lnTo>
                    <a:lnTo>
                      <a:pt x="957" y="123"/>
                    </a:lnTo>
                    <a:lnTo>
                      <a:pt x="892" y="188"/>
                    </a:lnTo>
                    <a:lnTo>
                      <a:pt x="819" y="273"/>
                    </a:lnTo>
                    <a:lnTo>
                      <a:pt x="767" y="347"/>
                    </a:lnTo>
                    <a:lnTo>
                      <a:pt x="722" y="413"/>
                    </a:lnTo>
                    <a:lnTo>
                      <a:pt x="650" y="508"/>
                    </a:lnTo>
                    <a:lnTo>
                      <a:pt x="595" y="573"/>
                    </a:lnTo>
                    <a:lnTo>
                      <a:pt x="537" y="644"/>
                    </a:lnTo>
                    <a:lnTo>
                      <a:pt x="500" y="681"/>
                    </a:lnTo>
                    <a:lnTo>
                      <a:pt x="426" y="754"/>
                    </a:lnTo>
                    <a:lnTo>
                      <a:pt x="377" y="817"/>
                    </a:lnTo>
                    <a:lnTo>
                      <a:pt x="310" y="898"/>
                    </a:lnTo>
                    <a:lnTo>
                      <a:pt x="265" y="947"/>
                    </a:lnTo>
                    <a:lnTo>
                      <a:pt x="215" y="1012"/>
                    </a:lnTo>
                    <a:lnTo>
                      <a:pt x="157" y="1078"/>
                    </a:lnTo>
                    <a:lnTo>
                      <a:pt x="77" y="1140"/>
                    </a:lnTo>
                    <a:lnTo>
                      <a:pt x="12" y="1206"/>
                    </a:lnTo>
                    <a:lnTo>
                      <a:pt x="0" y="117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" name="Freeform 12"/>
              <p:cNvSpPr/>
              <p:nvPr/>
            </p:nvSpPr>
            <p:spPr>
              <a:xfrm>
                <a:off x="7076880" y="3147840"/>
                <a:ext cx="547560" cy="590760"/>
              </a:xfrm>
              <a:custGeom>
                <a:avLst/>
                <a:gdLst>
                  <a:gd name="textAreaLeft" fmla="*/ 0 w 547560"/>
                  <a:gd name="textAreaRight" fmla="*/ 547920 w 547560"/>
                  <a:gd name="textAreaTop" fmla="*/ 0 h 590760"/>
                  <a:gd name="textAreaBottom" fmla="*/ 591120 h 590760"/>
                </a:gdLst>
                <a:ahLst/>
                <a:rect l="textAreaLeft" t="textAreaTop" r="textAreaRight" b="textAreaBottom"/>
                <a:pathLst>
                  <a:path w="690" h="745">
                    <a:moveTo>
                      <a:pt x="625" y="0"/>
                    </a:moveTo>
                    <a:lnTo>
                      <a:pt x="611" y="38"/>
                    </a:lnTo>
                    <a:lnTo>
                      <a:pt x="509" y="145"/>
                    </a:lnTo>
                    <a:lnTo>
                      <a:pt x="405" y="262"/>
                    </a:lnTo>
                    <a:lnTo>
                      <a:pt x="239" y="409"/>
                    </a:lnTo>
                    <a:lnTo>
                      <a:pt x="183" y="455"/>
                    </a:lnTo>
                    <a:lnTo>
                      <a:pt x="132" y="585"/>
                    </a:lnTo>
                    <a:lnTo>
                      <a:pt x="107" y="635"/>
                    </a:lnTo>
                    <a:lnTo>
                      <a:pt x="132" y="660"/>
                    </a:lnTo>
                    <a:lnTo>
                      <a:pt x="288" y="565"/>
                    </a:lnTo>
                    <a:lnTo>
                      <a:pt x="353" y="491"/>
                    </a:lnTo>
                    <a:lnTo>
                      <a:pt x="451" y="395"/>
                    </a:lnTo>
                    <a:lnTo>
                      <a:pt x="546" y="301"/>
                    </a:lnTo>
                    <a:lnTo>
                      <a:pt x="632" y="213"/>
                    </a:lnTo>
                    <a:lnTo>
                      <a:pt x="690" y="155"/>
                    </a:lnTo>
                    <a:lnTo>
                      <a:pt x="678" y="206"/>
                    </a:lnTo>
                    <a:lnTo>
                      <a:pt x="588" y="301"/>
                    </a:lnTo>
                    <a:lnTo>
                      <a:pt x="481" y="403"/>
                    </a:lnTo>
                    <a:lnTo>
                      <a:pt x="413" y="478"/>
                    </a:lnTo>
                    <a:lnTo>
                      <a:pt x="325" y="558"/>
                    </a:lnTo>
                    <a:lnTo>
                      <a:pt x="297" y="592"/>
                    </a:lnTo>
                    <a:lnTo>
                      <a:pt x="197" y="650"/>
                    </a:lnTo>
                    <a:lnTo>
                      <a:pt x="114" y="694"/>
                    </a:lnTo>
                    <a:lnTo>
                      <a:pt x="15" y="745"/>
                    </a:lnTo>
                    <a:lnTo>
                      <a:pt x="0" y="733"/>
                    </a:lnTo>
                    <a:lnTo>
                      <a:pt x="7" y="708"/>
                    </a:lnTo>
                    <a:lnTo>
                      <a:pt x="80" y="623"/>
                    </a:lnTo>
                    <a:lnTo>
                      <a:pt x="125" y="543"/>
                    </a:lnTo>
                    <a:lnTo>
                      <a:pt x="166" y="430"/>
                    </a:lnTo>
                    <a:lnTo>
                      <a:pt x="232" y="375"/>
                    </a:lnTo>
                    <a:lnTo>
                      <a:pt x="310" y="314"/>
                    </a:lnTo>
                    <a:lnTo>
                      <a:pt x="405" y="221"/>
                    </a:lnTo>
                    <a:lnTo>
                      <a:pt x="463" y="160"/>
                    </a:lnTo>
                    <a:lnTo>
                      <a:pt x="522" y="87"/>
                    </a:lnTo>
                    <a:lnTo>
                      <a:pt x="576" y="44"/>
                    </a:lnTo>
                    <a:lnTo>
                      <a:pt x="6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" name="Freeform 13"/>
              <p:cNvSpPr/>
              <p:nvPr/>
            </p:nvSpPr>
            <p:spPr>
              <a:xfrm>
                <a:off x="7213320" y="3479760"/>
                <a:ext cx="104760" cy="1411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132" h="178">
                    <a:moveTo>
                      <a:pt x="45" y="8"/>
                    </a:moveTo>
                    <a:lnTo>
                      <a:pt x="37" y="55"/>
                    </a:lnTo>
                    <a:lnTo>
                      <a:pt x="92" y="46"/>
                    </a:lnTo>
                    <a:lnTo>
                      <a:pt x="74" y="106"/>
                    </a:lnTo>
                    <a:lnTo>
                      <a:pt x="132" y="91"/>
                    </a:lnTo>
                    <a:lnTo>
                      <a:pt x="116" y="171"/>
                    </a:lnTo>
                    <a:lnTo>
                      <a:pt x="85" y="178"/>
                    </a:lnTo>
                    <a:lnTo>
                      <a:pt x="109" y="122"/>
                    </a:lnTo>
                    <a:lnTo>
                      <a:pt x="31" y="129"/>
                    </a:lnTo>
                    <a:lnTo>
                      <a:pt x="68" y="63"/>
                    </a:lnTo>
                    <a:lnTo>
                      <a:pt x="0" y="91"/>
                    </a:lnTo>
                    <a:lnTo>
                      <a:pt x="21" y="0"/>
                    </a:lnTo>
                    <a:lnTo>
                      <a:pt x="4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05" name="Freeform 14"/>
            <p:cNvSpPr/>
            <p:nvPr/>
          </p:nvSpPr>
          <p:spPr>
            <a:xfrm>
              <a:off x="6822720" y="2842920"/>
              <a:ext cx="274680" cy="40644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348" h="510">
                  <a:moveTo>
                    <a:pt x="0" y="74"/>
                  </a:moveTo>
                  <a:lnTo>
                    <a:pt x="214" y="0"/>
                  </a:lnTo>
                  <a:lnTo>
                    <a:pt x="233" y="59"/>
                  </a:lnTo>
                  <a:lnTo>
                    <a:pt x="55" y="112"/>
                  </a:lnTo>
                  <a:lnTo>
                    <a:pt x="75" y="250"/>
                  </a:lnTo>
                  <a:lnTo>
                    <a:pt x="159" y="210"/>
                  </a:lnTo>
                  <a:lnTo>
                    <a:pt x="219" y="195"/>
                  </a:lnTo>
                  <a:lnTo>
                    <a:pt x="278" y="210"/>
                  </a:lnTo>
                  <a:lnTo>
                    <a:pt x="314" y="240"/>
                  </a:lnTo>
                  <a:lnTo>
                    <a:pt x="337" y="293"/>
                  </a:lnTo>
                  <a:lnTo>
                    <a:pt x="348" y="348"/>
                  </a:lnTo>
                  <a:lnTo>
                    <a:pt x="337" y="402"/>
                  </a:lnTo>
                  <a:lnTo>
                    <a:pt x="318" y="442"/>
                  </a:lnTo>
                  <a:lnTo>
                    <a:pt x="278" y="481"/>
                  </a:lnTo>
                  <a:lnTo>
                    <a:pt x="208" y="500"/>
                  </a:lnTo>
                  <a:lnTo>
                    <a:pt x="134" y="510"/>
                  </a:lnTo>
                  <a:lnTo>
                    <a:pt x="79" y="472"/>
                  </a:lnTo>
                  <a:lnTo>
                    <a:pt x="55" y="412"/>
                  </a:lnTo>
                  <a:lnTo>
                    <a:pt x="125" y="383"/>
                  </a:lnTo>
                  <a:lnTo>
                    <a:pt x="140" y="412"/>
                  </a:lnTo>
                  <a:lnTo>
                    <a:pt x="164" y="436"/>
                  </a:lnTo>
                  <a:lnTo>
                    <a:pt x="199" y="436"/>
                  </a:lnTo>
                  <a:lnTo>
                    <a:pt x="238" y="427"/>
                  </a:lnTo>
                  <a:lnTo>
                    <a:pt x="263" y="397"/>
                  </a:lnTo>
                  <a:lnTo>
                    <a:pt x="284" y="357"/>
                  </a:lnTo>
                  <a:lnTo>
                    <a:pt x="278" y="319"/>
                  </a:lnTo>
                  <a:lnTo>
                    <a:pt x="263" y="285"/>
                  </a:lnTo>
                  <a:lnTo>
                    <a:pt x="244" y="265"/>
                  </a:lnTo>
                  <a:lnTo>
                    <a:pt x="204" y="255"/>
                  </a:lnTo>
                  <a:lnTo>
                    <a:pt x="159" y="265"/>
                  </a:lnTo>
                  <a:lnTo>
                    <a:pt x="125" y="289"/>
                  </a:lnTo>
                  <a:lnTo>
                    <a:pt x="35" y="33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Freeform 15"/>
            <p:cNvSpPr/>
            <p:nvPr/>
          </p:nvSpPr>
          <p:spPr>
            <a:xfrm>
              <a:off x="6591240" y="2921040"/>
              <a:ext cx="160200" cy="20160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203" h="255">
                  <a:moveTo>
                    <a:pt x="57" y="15"/>
                  </a:moveTo>
                  <a:lnTo>
                    <a:pt x="111" y="0"/>
                  </a:lnTo>
                  <a:lnTo>
                    <a:pt x="147" y="15"/>
                  </a:lnTo>
                  <a:lnTo>
                    <a:pt x="163" y="45"/>
                  </a:lnTo>
                  <a:lnTo>
                    <a:pt x="132" y="65"/>
                  </a:lnTo>
                  <a:lnTo>
                    <a:pt x="111" y="40"/>
                  </a:lnTo>
                  <a:lnTo>
                    <a:pt x="76" y="51"/>
                  </a:lnTo>
                  <a:lnTo>
                    <a:pt x="36" y="70"/>
                  </a:lnTo>
                  <a:lnTo>
                    <a:pt x="36" y="99"/>
                  </a:lnTo>
                  <a:lnTo>
                    <a:pt x="57" y="125"/>
                  </a:lnTo>
                  <a:lnTo>
                    <a:pt x="117" y="120"/>
                  </a:lnTo>
                  <a:lnTo>
                    <a:pt x="178" y="116"/>
                  </a:lnTo>
                  <a:lnTo>
                    <a:pt x="193" y="140"/>
                  </a:lnTo>
                  <a:lnTo>
                    <a:pt x="203" y="200"/>
                  </a:lnTo>
                  <a:lnTo>
                    <a:pt x="189" y="236"/>
                  </a:lnTo>
                  <a:lnTo>
                    <a:pt x="128" y="255"/>
                  </a:lnTo>
                  <a:lnTo>
                    <a:pt x="61" y="255"/>
                  </a:lnTo>
                  <a:lnTo>
                    <a:pt x="36" y="226"/>
                  </a:lnTo>
                  <a:lnTo>
                    <a:pt x="82" y="205"/>
                  </a:lnTo>
                  <a:lnTo>
                    <a:pt x="111" y="226"/>
                  </a:lnTo>
                  <a:lnTo>
                    <a:pt x="137" y="211"/>
                  </a:lnTo>
                  <a:lnTo>
                    <a:pt x="157" y="180"/>
                  </a:lnTo>
                  <a:lnTo>
                    <a:pt x="153" y="150"/>
                  </a:lnTo>
                  <a:lnTo>
                    <a:pt x="103" y="150"/>
                  </a:lnTo>
                  <a:lnTo>
                    <a:pt x="25" y="150"/>
                  </a:lnTo>
                  <a:lnTo>
                    <a:pt x="0" y="135"/>
                  </a:lnTo>
                  <a:lnTo>
                    <a:pt x="0" y="95"/>
                  </a:lnTo>
                  <a:lnTo>
                    <a:pt x="0" y="51"/>
                  </a:lnTo>
                  <a:lnTo>
                    <a:pt x="25" y="30"/>
                  </a:lnTo>
                  <a:lnTo>
                    <a:pt x="57" y="15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Freeform 16"/>
            <p:cNvSpPr/>
            <p:nvPr/>
          </p:nvSpPr>
          <p:spPr>
            <a:xfrm>
              <a:off x="6608520" y="2874960"/>
              <a:ext cx="128520" cy="2966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160" h="376">
                  <a:moveTo>
                    <a:pt x="21" y="64"/>
                  </a:moveTo>
                  <a:lnTo>
                    <a:pt x="0" y="5"/>
                  </a:lnTo>
                  <a:lnTo>
                    <a:pt x="31" y="0"/>
                  </a:lnTo>
                  <a:lnTo>
                    <a:pt x="98" y="208"/>
                  </a:lnTo>
                  <a:lnTo>
                    <a:pt x="160" y="365"/>
                  </a:lnTo>
                  <a:lnTo>
                    <a:pt x="125" y="376"/>
                  </a:lnTo>
                  <a:lnTo>
                    <a:pt x="21" y="64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" name="Freeform 17"/>
            <p:cNvSpPr/>
            <p:nvPr/>
          </p:nvSpPr>
          <p:spPr>
            <a:xfrm>
              <a:off x="6654600" y="2662200"/>
              <a:ext cx="500040" cy="76176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629" h="959">
                  <a:moveTo>
                    <a:pt x="0" y="901"/>
                  </a:moveTo>
                  <a:lnTo>
                    <a:pt x="219" y="586"/>
                  </a:lnTo>
                  <a:lnTo>
                    <a:pt x="448" y="184"/>
                  </a:lnTo>
                  <a:lnTo>
                    <a:pt x="584" y="0"/>
                  </a:lnTo>
                  <a:lnTo>
                    <a:pt x="629" y="73"/>
                  </a:lnTo>
                  <a:lnTo>
                    <a:pt x="424" y="338"/>
                  </a:lnTo>
                  <a:lnTo>
                    <a:pt x="302" y="552"/>
                  </a:lnTo>
                  <a:lnTo>
                    <a:pt x="185" y="751"/>
                  </a:lnTo>
                  <a:lnTo>
                    <a:pt x="49" y="959"/>
                  </a:lnTo>
                  <a:lnTo>
                    <a:pt x="0" y="901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" name="Freeform 18"/>
            <p:cNvSpPr/>
            <p:nvPr/>
          </p:nvSpPr>
          <p:spPr>
            <a:xfrm>
              <a:off x="6730920" y="3483000"/>
              <a:ext cx="420480" cy="39348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530" h="496">
                  <a:moveTo>
                    <a:pt x="10" y="83"/>
                  </a:moveTo>
                  <a:lnTo>
                    <a:pt x="0" y="153"/>
                  </a:lnTo>
                  <a:lnTo>
                    <a:pt x="10" y="202"/>
                  </a:lnTo>
                  <a:lnTo>
                    <a:pt x="29" y="241"/>
                  </a:lnTo>
                  <a:lnTo>
                    <a:pt x="64" y="236"/>
                  </a:lnTo>
                  <a:lnTo>
                    <a:pt x="74" y="207"/>
                  </a:lnTo>
                  <a:lnTo>
                    <a:pt x="53" y="147"/>
                  </a:lnTo>
                  <a:lnTo>
                    <a:pt x="68" y="103"/>
                  </a:lnTo>
                  <a:lnTo>
                    <a:pt x="89" y="64"/>
                  </a:lnTo>
                  <a:lnTo>
                    <a:pt x="117" y="45"/>
                  </a:lnTo>
                  <a:lnTo>
                    <a:pt x="161" y="69"/>
                  </a:lnTo>
                  <a:lnTo>
                    <a:pt x="181" y="109"/>
                  </a:lnTo>
                  <a:lnTo>
                    <a:pt x="187" y="167"/>
                  </a:lnTo>
                  <a:lnTo>
                    <a:pt x="196" y="251"/>
                  </a:lnTo>
                  <a:lnTo>
                    <a:pt x="206" y="319"/>
                  </a:lnTo>
                  <a:lnTo>
                    <a:pt x="230" y="398"/>
                  </a:lnTo>
                  <a:lnTo>
                    <a:pt x="245" y="462"/>
                  </a:lnTo>
                  <a:lnTo>
                    <a:pt x="274" y="496"/>
                  </a:lnTo>
                  <a:lnTo>
                    <a:pt x="319" y="437"/>
                  </a:lnTo>
                  <a:lnTo>
                    <a:pt x="368" y="379"/>
                  </a:lnTo>
                  <a:lnTo>
                    <a:pt x="442" y="309"/>
                  </a:lnTo>
                  <a:lnTo>
                    <a:pt x="519" y="279"/>
                  </a:lnTo>
                  <a:lnTo>
                    <a:pt x="525" y="230"/>
                  </a:lnTo>
                  <a:lnTo>
                    <a:pt x="530" y="211"/>
                  </a:lnTo>
                  <a:lnTo>
                    <a:pt x="432" y="256"/>
                  </a:lnTo>
                  <a:lnTo>
                    <a:pt x="357" y="324"/>
                  </a:lnTo>
                  <a:lnTo>
                    <a:pt x="314" y="379"/>
                  </a:lnTo>
                  <a:lnTo>
                    <a:pt x="274" y="417"/>
                  </a:lnTo>
                  <a:lnTo>
                    <a:pt x="255" y="334"/>
                  </a:lnTo>
                  <a:lnTo>
                    <a:pt x="240" y="241"/>
                  </a:lnTo>
                  <a:lnTo>
                    <a:pt x="236" y="153"/>
                  </a:lnTo>
                  <a:lnTo>
                    <a:pt x="225" y="74"/>
                  </a:lnTo>
                  <a:lnTo>
                    <a:pt x="202" y="30"/>
                  </a:lnTo>
                  <a:lnTo>
                    <a:pt x="157" y="0"/>
                  </a:lnTo>
                  <a:lnTo>
                    <a:pt x="108" y="0"/>
                  </a:lnTo>
                  <a:lnTo>
                    <a:pt x="64" y="20"/>
                  </a:lnTo>
                  <a:lnTo>
                    <a:pt x="38" y="49"/>
                  </a:lnTo>
                  <a:lnTo>
                    <a:pt x="10" y="83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Freeform 19"/>
            <p:cNvSpPr/>
            <p:nvPr/>
          </p:nvSpPr>
          <p:spPr>
            <a:xfrm>
              <a:off x="6584760" y="3581280"/>
              <a:ext cx="152280" cy="2430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191" h="306">
                  <a:moveTo>
                    <a:pt x="124" y="3"/>
                  </a:moveTo>
                  <a:lnTo>
                    <a:pt x="112" y="40"/>
                  </a:lnTo>
                  <a:lnTo>
                    <a:pt x="78" y="49"/>
                  </a:lnTo>
                  <a:lnTo>
                    <a:pt x="50" y="77"/>
                  </a:lnTo>
                  <a:lnTo>
                    <a:pt x="64" y="111"/>
                  </a:lnTo>
                  <a:lnTo>
                    <a:pt x="95" y="137"/>
                  </a:lnTo>
                  <a:lnTo>
                    <a:pt x="141" y="157"/>
                  </a:lnTo>
                  <a:lnTo>
                    <a:pt x="178" y="187"/>
                  </a:lnTo>
                  <a:lnTo>
                    <a:pt x="191" y="233"/>
                  </a:lnTo>
                  <a:lnTo>
                    <a:pt x="178" y="272"/>
                  </a:lnTo>
                  <a:lnTo>
                    <a:pt x="135" y="298"/>
                  </a:lnTo>
                  <a:lnTo>
                    <a:pt x="89" y="306"/>
                  </a:lnTo>
                  <a:lnTo>
                    <a:pt x="84" y="243"/>
                  </a:lnTo>
                  <a:lnTo>
                    <a:pt x="114" y="240"/>
                  </a:lnTo>
                  <a:lnTo>
                    <a:pt x="132" y="229"/>
                  </a:lnTo>
                  <a:lnTo>
                    <a:pt x="132" y="203"/>
                  </a:lnTo>
                  <a:lnTo>
                    <a:pt x="107" y="191"/>
                  </a:lnTo>
                  <a:lnTo>
                    <a:pt x="46" y="162"/>
                  </a:lnTo>
                  <a:lnTo>
                    <a:pt x="13" y="122"/>
                  </a:lnTo>
                  <a:lnTo>
                    <a:pt x="0" y="74"/>
                  </a:lnTo>
                  <a:lnTo>
                    <a:pt x="18" y="47"/>
                  </a:lnTo>
                  <a:lnTo>
                    <a:pt x="35" y="15"/>
                  </a:lnTo>
                  <a:lnTo>
                    <a:pt x="77" y="0"/>
                  </a:lnTo>
                  <a:lnTo>
                    <a:pt x="124" y="3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Freeform 20"/>
            <p:cNvSpPr/>
            <p:nvPr/>
          </p:nvSpPr>
          <p:spPr>
            <a:xfrm>
              <a:off x="6586200" y="3501720"/>
              <a:ext cx="50760" cy="763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65" h="98">
                  <a:moveTo>
                    <a:pt x="18" y="98"/>
                  </a:moveTo>
                  <a:lnTo>
                    <a:pt x="0" y="16"/>
                  </a:lnTo>
                  <a:lnTo>
                    <a:pt x="54" y="0"/>
                  </a:lnTo>
                  <a:lnTo>
                    <a:pt x="65" y="98"/>
                  </a:lnTo>
                  <a:lnTo>
                    <a:pt x="18" y="98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" name="Freeform 21"/>
            <p:cNvSpPr/>
            <p:nvPr/>
          </p:nvSpPr>
          <p:spPr>
            <a:xfrm>
              <a:off x="6689520" y="3824280"/>
              <a:ext cx="58680" cy="745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74" h="93">
                  <a:moveTo>
                    <a:pt x="40" y="0"/>
                  </a:moveTo>
                  <a:lnTo>
                    <a:pt x="0" y="22"/>
                  </a:lnTo>
                  <a:lnTo>
                    <a:pt x="34" y="93"/>
                  </a:lnTo>
                  <a:lnTo>
                    <a:pt x="74" y="65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" name="Freeform 22"/>
            <p:cNvSpPr/>
            <p:nvPr/>
          </p:nvSpPr>
          <p:spPr>
            <a:xfrm>
              <a:off x="7924680" y="3057480"/>
              <a:ext cx="344520" cy="90972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909720"/>
                <a:gd name="textAreaBottom" fmla="*/ 910080 h 909720"/>
              </a:gdLst>
              <a:ahLst/>
              <a:rect l="textAreaLeft" t="textAreaTop" r="textAreaRight" b="textAreaBottom"/>
              <a:pathLst>
                <a:path w="433" h="1146">
                  <a:moveTo>
                    <a:pt x="68" y="0"/>
                  </a:moveTo>
                  <a:lnTo>
                    <a:pt x="138" y="30"/>
                  </a:lnTo>
                  <a:lnTo>
                    <a:pt x="201" y="155"/>
                  </a:lnTo>
                  <a:lnTo>
                    <a:pt x="284" y="334"/>
                  </a:lnTo>
                  <a:lnTo>
                    <a:pt x="305" y="440"/>
                  </a:lnTo>
                  <a:lnTo>
                    <a:pt x="305" y="523"/>
                  </a:lnTo>
                  <a:lnTo>
                    <a:pt x="290" y="654"/>
                  </a:lnTo>
                  <a:lnTo>
                    <a:pt x="246" y="793"/>
                  </a:lnTo>
                  <a:lnTo>
                    <a:pt x="206" y="924"/>
                  </a:lnTo>
                  <a:lnTo>
                    <a:pt x="197" y="988"/>
                  </a:lnTo>
                  <a:lnTo>
                    <a:pt x="201" y="1020"/>
                  </a:lnTo>
                  <a:lnTo>
                    <a:pt x="250" y="1040"/>
                  </a:lnTo>
                  <a:lnTo>
                    <a:pt x="335" y="1050"/>
                  </a:lnTo>
                  <a:lnTo>
                    <a:pt x="393" y="1054"/>
                  </a:lnTo>
                  <a:lnTo>
                    <a:pt x="423" y="1078"/>
                  </a:lnTo>
                  <a:lnTo>
                    <a:pt x="433" y="1123"/>
                  </a:lnTo>
                  <a:lnTo>
                    <a:pt x="418" y="1146"/>
                  </a:lnTo>
                  <a:lnTo>
                    <a:pt x="374" y="1146"/>
                  </a:lnTo>
                  <a:lnTo>
                    <a:pt x="299" y="1117"/>
                  </a:lnTo>
                  <a:lnTo>
                    <a:pt x="221" y="1103"/>
                  </a:lnTo>
                  <a:lnTo>
                    <a:pt x="148" y="1089"/>
                  </a:lnTo>
                  <a:lnTo>
                    <a:pt x="112" y="1065"/>
                  </a:lnTo>
                  <a:lnTo>
                    <a:pt x="97" y="1007"/>
                  </a:lnTo>
                  <a:lnTo>
                    <a:pt x="123" y="967"/>
                  </a:lnTo>
                  <a:lnTo>
                    <a:pt x="157" y="900"/>
                  </a:lnTo>
                  <a:lnTo>
                    <a:pt x="197" y="798"/>
                  </a:lnTo>
                  <a:lnTo>
                    <a:pt x="221" y="668"/>
                  </a:lnTo>
                  <a:lnTo>
                    <a:pt x="231" y="576"/>
                  </a:lnTo>
                  <a:lnTo>
                    <a:pt x="231" y="484"/>
                  </a:lnTo>
                  <a:lnTo>
                    <a:pt x="216" y="392"/>
                  </a:lnTo>
                  <a:lnTo>
                    <a:pt x="163" y="305"/>
                  </a:lnTo>
                  <a:lnTo>
                    <a:pt x="89" y="204"/>
                  </a:lnTo>
                  <a:lnTo>
                    <a:pt x="29" y="135"/>
                  </a:lnTo>
                  <a:lnTo>
                    <a:pt x="0" y="77"/>
                  </a:lnTo>
                  <a:lnTo>
                    <a:pt x="4" y="24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Freeform 23"/>
            <p:cNvSpPr/>
            <p:nvPr/>
          </p:nvSpPr>
          <p:spPr>
            <a:xfrm>
              <a:off x="7754760" y="3079440"/>
              <a:ext cx="198360" cy="97812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978120"/>
                <a:gd name="textAreaBottom" fmla="*/ 978480 h 978120"/>
              </a:gdLst>
              <a:ahLst/>
              <a:rect l="textAreaLeft" t="textAreaTop" r="textAreaRight" b="textAreaBottom"/>
              <a:pathLst>
                <a:path w="251" h="1233">
                  <a:moveTo>
                    <a:pt x="85" y="179"/>
                  </a:moveTo>
                  <a:lnTo>
                    <a:pt x="116" y="44"/>
                  </a:lnTo>
                  <a:lnTo>
                    <a:pt x="190" y="0"/>
                  </a:lnTo>
                  <a:lnTo>
                    <a:pt x="251" y="15"/>
                  </a:lnTo>
                  <a:lnTo>
                    <a:pt x="247" y="73"/>
                  </a:lnTo>
                  <a:lnTo>
                    <a:pt x="196" y="208"/>
                  </a:lnTo>
                  <a:lnTo>
                    <a:pt x="146" y="343"/>
                  </a:lnTo>
                  <a:lnTo>
                    <a:pt x="121" y="498"/>
                  </a:lnTo>
                  <a:lnTo>
                    <a:pt x="106" y="633"/>
                  </a:lnTo>
                  <a:lnTo>
                    <a:pt x="121" y="770"/>
                  </a:lnTo>
                  <a:lnTo>
                    <a:pt x="146" y="879"/>
                  </a:lnTo>
                  <a:lnTo>
                    <a:pt x="181" y="967"/>
                  </a:lnTo>
                  <a:lnTo>
                    <a:pt x="207" y="1006"/>
                  </a:lnTo>
                  <a:lnTo>
                    <a:pt x="236" y="1035"/>
                  </a:lnTo>
                  <a:lnTo>
                    <a:pt x="236" y="1078"/>
                  </a:lnTo>
                  <a:lnTo>
                    <a:pt x="190" y="1121"/>
                  </a:lnTo>
                  <a:lnTo>
                    <a:pt x="127" y="1175"/>
                  </a:lnTo>
                  <a:lnTo>
                    <a:pt x="70" y="1233"/>
                  </a:lnTo>
                  <a:lnTo>
                    <a:pt x="26" y="1233"/>
                  </a:lnTo>
                  <a:lnTo>
                    <a:pt x="0" y="1141"/>
                  </a:lnTo>
                  <a:lnTo>
                    <a:pt x="5" y="1107"/>
                  </a:lnTo>
                  <a:lnTo>
                    <a:pt x="45" y="1087"/>
                  </a:lnTo>
                  <a:lnTo>
                    <a:pt x="131" y="1049"/>
                  </a:lnTo>
                  <a:lnTo>
                    <a:pt x="135" y="1020"/>
                  </a:lnTo>
                  <a:lnTo>
                    <a:pt x="121" y="952"/>
                  </a:lnTo>
                  <a:lnTo>
                    <a:pt x="85" y="836"/>
                  </a:lnTo>
                  <a:lnTo>
                    <a:pt x="51" y="716"/>
                  </a:lnTo>
                  <a:lnTo>
                    <a:pt x="40" y="629"/>
                  </a:lnTo>
                  <a:lnTo>
                    <a:pt x="40" y="523"/>
                  </a:lnTo>
                  <a:lnTo>
                    <a:pt x="45" y="425"/>
                  </a:lnTo>
                  <a:lnTo>
                    <a:pt x="66" y="324"/>
                  </a:lnTo>
                  <a:lnTo>
                    <a:pt x="76" y="232"/>
                  </a:lnTo>
                  <a:lnTo>
                    <a:pt x="85" y="17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5" name="Freeform 24"/>
            <p:cNvSpPr/>
            <p:nvPr/>
          </p:nvSpPr>
          <p:spPr>
            <a:xfrm>
              <a:off x="6136920" y="2782800"/>
              <a:ext cx="497160" cy="145404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1454040"/>
                <a:gd name="textAreaBottom" fmla="*/ 1454040 h 1454040"/>
              </a:gdLst>
              <a:ahLst/>
              <a:rect l="textAreaLeft" t="textAreaTop" r="textAreaRight" b="textAreaBottom"/>
              <a:pathLst>
                <a:path w="626" h="1830">
                  <a:moveTo>
                    <a:pt x="0" y="43"/>
                  </a:moveTo>
                  <a:lnTo>
                    <a:pt x="4" y="4"/>
                  </a:lnTo>
                  <a:lnTo>
                    <a:pt x="23" y="0"/>
                  </a:lnTo>
                  <a:lnTo>
                    <a:pt x="44" y="9"/>
                  </a:lnTo>
                  <a:lnTo>
                    <a:pt x="68" y="67"/>
                  </a:lnTo>
                  <a:lnTo>
                    <a:pt x="102" y="188"/>
                  </a:lnTo>
                  <a:lnTo>
                    <a:pt x="142" y="341"/>
                  </a:lnTo>
                  <a:lnTo>
                    <a:pt x="176" y="525"/>
                  </a:lnTo>
                  <a:lnTo>
                    <a:pt x="219" y="736"/>
                  </a:lnTo>
                  <a:lnTo>
                    <a:pt x="240" y="877"/>
                  </a:lnTo>
                  <a:lnTo>
                    <a:pt x="264" y="1030"/>
                  </a:lnTo>
                  <a:lnTo>
                    <a:pt x="289" y="1150"/>
                  </a:lnTo>
                  <a:lnTo>
                    <a:pt x="328" y="1300"/>
                  </a:lnTo>
                  <a:lnTo>
                    <a:pt x="357" y="1392"/>
                  </a:lnTo>
                  <a:lnTo>
                    <a:pt x="396" y="1513"/>
                  </a:lnTo>
                  <a:lnTo>
                    <a:pt x="426" y="1657"/>
                  </a:lnTo>
                  <a:lnTo>
                    <a:pt x="445" y="1764"/>
                  </a:lnTo>
                  <a:lnTo>
                    <a:pt x="489" y="1777"/>
                  </a:lnTo>
                  <a:lnTo>
                    <a:pt x="626" y="1744"/>
                  </a:lnTo>
                  <a:lnTo>
                    <a:pt x="582" y="1777"/>
                  </a:lnTo>
                  <a:lnTo>
                    <a:pt x="498" y="1802"/>
                  </a:lnTo>
                  <a:lnTo>
                    <a:pt x="411" y="1830"/>
                  </a:lnTo>
                  <a:lnTo>
                    <a:pt x="396" y="1796"/>
                  </a:lnTo>
                  <a:lnTo>
                    <a:pt x="377" y="1706"/>
                  </a:lnTo>
                  <a:lnTo>
                    <a:pt x="362" y="1580"/>
                  </a:lnTo>
                  <a:lnTo>
                    <a:pt x="337" y="1459"/>
                  </a:lnTo>
                  <a:lnTo>
                    <a:pt x="302" y="1339"/>
                  </a:lnTo>
                  <a:lnTo>
                    <a:pt x="268" y="1219"/>
                  </a:lnTo>
                  <a:lnTo>
                    <a:pt x="240" y="1103"/>
                  </a:lnTo>
                  <a:lnTo>
                    <a:pt x="210" y="963"/>
                  </a:lnTo>
                  <a:lnTo>
                    <a:pt x="200" y="882"/>
                  </a:lnTo>
                  <a:lnTo>
                    <a:pt x="185" y="756"/>
                  </a:lnTo>
                  <a:lnTo>
                    <a:pt x="157" y="622"/>
                  </a:lnTo>
                  <a:lnTo>
                    <a:pt x="132" y="500"/>
                  </a:lnTo>
                  <a:lnTo>
                    <a:pt x="108" y="356"/>
                  </a:lnTo>
                  <a:lnTo>
                    <a:pt x="68" y="208"/>
                  </a:lnTo>
                  <a:lnTo>
                    <a:pt x="34" y="9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Freeform 25"/>
            <p:cNvSpPr/>
            <p:nvPr/>
          </p:nvSpPr>
          <p:spPr>
            <a:xfrm>
              <a:off x="6646680" y="2501640"/>
              <a:ext cx="1173240" cy="1650960"/>
            </a:xfrm>
            <a:custGeom>
              <a:avLst/>
              <a:gdLst>
                <a:gd name="textAreaLeft" fmla="*/ 0 w 1173240"/>
                <a:gd name="textAreaRight" fmla="*/ 1173600 w 1173240"/>
                <a:gd name="textAreaTop" fmla="*/ 0 h 1650960"/>
                <a:gd name="textAreaBottom" fmla="*/ 1651320 h 1650960"/>
              </a:gdLst>
              <a:ahLst/>
              <a:rect l="textAreaLeft" t="textAreaTop" r="textAreaRight" b="textAreaBottom"/>
              <a:pathLst>
                <a:path w="1478" h="2080">
                  <a:moveTo>
                    <a:pt x="0" y="2080"/>
                  </a:moveTo>
                  <a:lnTo>
                    <a:pt x="178" y="2003"/>
                  </a:lnTo>
                  <a:lnTo>
                    <a:pt x="354" y="1941"/>
                  </a:lnTo>
                  <a:lnTo>
                    <a:pt x="542" y="1878"/>
                  </a:lnTo>
                  <a:lnTo>
                    <a:pt x="696" y="1844"/>
                  </a:lnTo>
                  <a:lnTo>
                    <a:pt x="860" y="1829"/>
                  </a:lnTo>
                  <a:lnTo>
                    <a:pt x="986" y="1801"/>
                  </a:lnTo>
                  <a:lnTo>
                    <a:pt x="1145" y="1767"/>
                  </a:lnTo>
                  <a:lnTo>
                    <a:pt x="1247" y="1734"/>
                  </a:lnTo>
                  <a:lnTo>
                    <a:pt x="1378" y="1700"/>
                  </a:lnTo>
                  <a:lnTo>
                    <a:pt x="1425" y="1676"/>
                  </a:lnTo>
                  <a:lnTo>
                    <a:pt x="1435" y="1657"/>
                  </a:lnTo>
                  <a:lnTo>
                    <a:pt x="1425" y="1618"/>
                  </a:lnTo>
                  <a:lnTo>
                    <a:pt x="1386" y="1537"/>
                  </a:lnTo>
                  <a:lnTo>
                    <a:pt x="1329" y="1387"/>
                  </a:lnTo>
                  <a:lnTo>
                    <a:pt x="1262" y="1194"/>
                  </a:lnTo>
                  <a:lnTo>
                    <a:pt x="1202" y="1064"/>
                  </a:lnTo>
                  <a:lnTo>
                    <a:pt x="1140" y="900"/>
                  </a:lnTo>
                  <a:lnTo>
                    <a:pt x="1078" y="717"/>
                  </a:lnTo>
                  <a:lnTo>
                    <a:pt x="1024" y="530"/>
                  </a:lnTo>
                  <a:lnTo>
                    <a:pt x="947" y="365"/>
                  </a:lnTo>
                  <a:lnTo>
                    <a:pt x="889" y="154"/>
                  </a:lnTo>
                  <a:lnTo>
                    <a:pt x="817" y="0"/>
                  </a:lnTo>
                  <a:lnTo>
                    <a:pt x="866" y="34"/>
                  </a:lnTo>
                  <a:lnTo>
                    <a:pt x="917" y="163"/>
                  </a:lnTo>
                  <a:lnTo>
                    <a:pt x="962" y="309"/>
                  </a:lnTo>
                  <a:lnTo>
                    <a:pt x="1005" y="410"/>
                  </a:lnTo>
                  <a:lnTo>
                    <a:pt x="1039" y="511"/>
                  </a:lnTo>
                  <a:lnTo>
                    <a:pt x="1078" y="592"/>
                  </a:lnTo>
                  <a:lnTo>
                    <a:pt x="1102" y="698"/>
                  </a:lnTo>
                  <a:lnTo>
                    <a:pt x="1155" y="843"/>
                  </a:lnTo>
                  <a:lnTo>
                    <a:pt x="1208" y="972"/>
                  </a:lnTo>
                  <a:lnTo>
                    <a:pt x="1266" y="1122"/>
                  </a:lnTo>
                  <a:lnTo>
                    <a:pt x="1320" y="1262"/>
                  </a:lnTo>
                  <a:lnTo>
                    <a:pt x="1367" y="1382"/>
                  </a:lnTo>
                  <a:lnTo>
                    <a:pt x="1416" y="1503"/>
                  </a:lnTo>
                  <a:lnTo>
                    <a:pt x="1464" y="1603"/>
                  </a:lnTo>
                  <a:lnTo>
                    <a:pt x="1478" y="1666"/>
                  </a:lnTo>
                  <a:lnTo>
                    <a:pt x="1464" y="1704"/>
                  </a:lnTo>
                  <a:lnTo>
                    <a:pt x="1435" y="1719"/>
                  </a:lnTo>
                  <a:lnTo>
                    <a:pt x="1324" y="1747"/>
                  </a:lnTo>
                  <a:lnTo>
                    <a:pt x="1237" y="1782"/>
                  </a:lnTo>
                  <a:lnTo>
                    <a:pt x="1145" y="1801"/>
                  </a:lnTo>
                  <a:lnTo>
                    <a:pt x="1044" y="1820"/>
                  </a:lnTo>
                  <a:lnTo>
                    <a:pt x="932" y="1844"/>
                  </a:lnTo>
                  <a:lnTo>
                    <a:pt x="846" y="1863"/>
                  </a:lnTo>
                  <a:lnTo>
                    <a:pt x="701" y="1863"/>
                  </a:lnTo>
                  <a:lnTo>
                    <a:pt x="600" y="1893"/>
                  </a:lnTo>
                  <a:lnTo>
                    <a:pt x="469" y="1936"/>
                  </a:lnTo>
                  <a:lnTo>
                    <a:pt x="354" y="1975"/>
                  </a:lnTo>
                  <a:lnTo>
                    <a:pt x="208" y="2022"/>
                  </a:lnTo>
                  <a:lnTo>
                    <a:pt x="78" y="2071"/>
                  </a:lnTo>
                  <a:lnTo>
                    <a:pt x="0" y="208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Freeform 26"/>
            <p:cNvSpPr/>
            <p:nvPr/>
          </p:nvSpPr>
          <p:spPr>
            <a:xfrm>
              <a:off x="6148080" y="2430360"/>
              <a:ext cx="1204920" cy="393840"/>
            </a:xfrm>
            <a:custGeom>
              <a:avLst/>
              <a:gdLst>
                <a:gd name="textAreaLeft" fmla="*/ 0 w 1204920"/>
                <a:gd name="textAreaRight" fmla="*/ 1205280 w 120492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1516" h="496">
                  <a:moveTo>
                    <a:pt x="0" y="462"/>
                  </a:moveTo>
                  <a:lnTo>
                    <a:pt x="145" y="428"/>
                  </a:lnTo>
                  <a:lnTo>
                    <a:pt x="276" y="398"/>
                  </a:lnTo>
                  <a:lnTo>
                    <a:pt x="458" y="339"/>
                  </a:lnTo>
                  <a:lnTo>
                    <a:pt x="681" y="271"/>
                  </a:lnTo>
                  <a:lnTo>
                    <a:pt x="865" y="211"/>
                  </a:lnTo>
                  <a:lnTo>
                    <a:pt x="1024" y="162"/>
                  </a:lnTo>
                  <a:lnTo>
                    <a:pt x="1154" y="109"/>
                  </a:lnTo>
                  <a:lnTo>
                    <a:pt x="1289" y="49"/>
                  </a:lnTo>
                  <a:lnTo>
                    <a:pt x="1396" y="15"/>
                  </a:lnTo>
                  <a:lnTo>
                    <a:pt x="1454" y="0"/>
                  </a:lnTo>
                  <a:lnTo>
                    <a:pt x="1478" y="30"/>
                  </a:lnTo>
                  <a:lnTo>
                    <a:pt x="1497" y="89"/>
                  </a:lnTo>
                  <a:lnTo>
                    <a:pt x="1516" y="196"/>
                  </a:lnTo>
                  <a:lnTo>
                    <a:pt x="1458" y="113"/>
                  </a:lnTo>
                  <a:lnTo>
                    <a:pt x="1429" y="54"/>
                  </a:lnTo>
                  <a:lnTo>
                    <a:pt x="1396" y="45"/>
                  </a:lnTo>
                  <a:lnTo>
                    <a:pt x="1347" y="69"/>
                  </a:lnTo>
                  <a:lnTo>
                    <a:pt x="1240" y="103"/>
                  </a:lnTo>
                  <a:lnTo>
                    <a:pt x="1154" y="143"/>
                  </a:lnTo>
                  <a:lnTo>
                    <a:pt x="1053" y="182"/>
                  </a:lnTo>
                  <a:lnTo>
                    <a:pt x="946" y="222"/>
                  </a:lnTo>
                  <a:lnTo>
                    <a:pt x="826" y="266"/>
                  </a:lnTo>
                  <a:lnTo>
                    <a:pt x="681" y="309"/>
                  </a:lnTo>
                  <a:lnTo>
                    <a:pt x="546" y="343"/>
                  </a:lnTo>
                  <a:lnTo>
                    <a:pt x="411" y="379"/>
                  </a:lnTo>
                  <a:lnTo>
                    <a:pt x="304" y="418"/>
                  </a:lnTo>
                  <a:lnTo>
                    <a:pt x="188" y="452"/>
                  </a:lnTo>
                  <a:lnTo>
                    <a:pt x="81" y="481"/>
                  </a:lnTo>
                  <a:lnTo>
                    <a:pt x="10" y="496"/>
                  </a:lnTo>
                  <a:lnTo>
                    <a:pt x="0" y="462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Freeform 27"/>
            <p:cNvSpPr/>
            <p:nvPr/>
          </p:nvSpPr>
          <p:spPr>
            <a:xfrm>
              <a:off x="6080040" y="3093840"/>
              <a:ext cx="223560" cy="76680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766800"/>
                <a:gd name="textAreaBottom" fmla="*/ 767160 h 766800"/>
              </a:gdLst>
              <a:ahLst/>
              <a:rect l="textAreaLeft" t="textAreaTop" r="textAreaRight" b="textAreaBottom"/>
              <a:pathLst>
                <a:path w="280" h="965">
                  <a:moveTo>
                    <a:pt x="195" y="0"/>
                  </a:moveTo>
                  <a:lnTo>
                    <a:pt x="149" y="267"/>
                  </a:lnTo>
                  <a:lnTo>
                    <a:pt x="109" y="485"/>
                  </a:lnTo>
                  <a:lnTo>
                    <a:pt x="75" y="640"/>
                  </a:lnTo>
                  <a:lnTo>
                    <a:pt x="35" y="781"/>
                  </a:lnTo>
                  <a:lnTo>
                    <a:pt x="0" y="888"/>
                  </a:lnTo>
                  <a:lnTo>
                    <a:pt x="20" y="935"/>
                  </a:lnTo>
                  <a:lnTo>
                    <a:pt x="50" y="960"/>
                  </a:lnTo>
                  <a:lnTo>
                    <a:pt x="84" y="965"/>
                  </a:lnTo>
                  <a:lnTo>
                    <a:pt x="120" y="954"/>
                  </a:lnTo>
                  <a:lnTo>
                    <a:pt x="145" y="800"/>
                  </a:lnTo>
                  <a:lnTo>
                    <a:pt x="189" y="625"/>
                  </a:lnTo>
                  <a:lnTo>
                    <a:pt x="235" y="466"/>
                  </a:lnTo>
                  <a:lnTo>
                    <a:pt x="280" y="359"/>
                  </a:lnTo>
                  <a:lnTo>
                    <a:pt x="261" y="286"/>
                  </a:lnTo>
                  <a:lnTo>
                    <a:pt x="215" y="432"/>
                  </a:lnTo>
                  <a:lnTo>
                    <a:pt x="164" y="606"/>
                  </a:lnTo>
                  <a:lnTo>
                    <a:pt x="130" y="747"/>
                  </a:lnTo>
                  <a:lnTo>
                    <a:pt x="100" y="868"/>
                  </a:lnTo>
                  <a:lnTo>
                    <a:pt x="80" y="911"/>
                  </a:lnTo>
                  <a:lnTo>
                    <a:pt x="50" y="916"/>
                  </a:lnTo>
                  <a:lnTo>
                    <a:pt x="29" y="888"/>
                  </a:lnTo>
                  <a:lnTo>
                    <a:pt x="54" y="796"/>
                  </a:lnTo>
                  <a:lnTo>
                    <a:pt x="94" y="674"/>
                  </a:lnTo>
                  <a:lnTo>
                    <a:pt x="135" y="524"/>
                  </a:lnTo>
                  <a:lnTo>
                    <a:pt x="164" y="364"/>
                  </a:lnTo>
                  <a:lnTo>
                    <a:pt x="200" y="203"/>
                  </a:lnTo>
                  <a:lnTo>
                    <a:pt x="225" y="83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Freeform 28"/>
            <p:cNvSpPr/>
            <p:nvPr/>
          </p:nvSpPr>
          <p:spPr>
            <a:xfrm>
              <a:off x="7708680" y="2404800"/>
              <a:ext cx="544680" cy="500040"/>
            </a:xfrm>
            <a:custGeom>
              <a:avLst/>
              <a:gdLst>
                <a:gd name="textAreaLeft" fmla="*/ 0 w 544680"/>
                <a:gd name="textAreaRight" fmla="*/ 545040 w 54468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688" h="630">
                  <a:moveTo>
                    <a:pt x="42" y="0"/>
                  </a:moveTo>
                  <a:lnTo>
                    <a:pt x="144" y="8"/>
                  </a:lnTo>
                  <a:lnTo>
                    <a:pt x="256" y="27"/>
                  </a:lnTo>
                  <a:lnTo>
                    <a:pt x="400" y="86"/>
                  </a:lnTo>
                  <a:lnTo>
                    <a:pt x="502" y="152"/>
                  </a:lnTo>
                  <a:lnTo>
                    <a:pt x="575" y="202"/>
                  </a:lnTo>
                  <a:lnTo>
                    <a:pt x="627" y="269"/>
                  </a:lnTo>
                  <a:lnTo>
                    <a:pt x="665" y="330"/>
                  </a:lnTo>
                  <a:lnTo>
                    <a:pt x="688" y="401"/>
                  </a:lnTo>
                  <a:lnTo>
                    <a:pt x="688" y="469"/>
                  </a:lnTo>
                  <a:lnTo>
                    <a:pt x="677" y="520"/>
                  </a:lnTo>
                  <a:lnTo>
                    <a:pt x="643" y="557"/>
                  </a:lnTo>
                  <a:lnTo>
                    <a:pt x="569" y="578"/>
                  </a:lnTo>
                  <a:lnTo>
                    <a:pt x="487" y="585"/>
                  </a:lnTo>
                  <a:lnTo>
                    <a:pt x="452" y="612"/>
                  </a:lnTo>
                  <a:lnTo>
                    <a:pt x="410" y="630"/>
                  </a:lnTo>
                  <a:lnTo>
                    <a:pt x="380" y="630"/>
                  </a:lnTo>
                  <a:lnTo>
                    <a:pt x="358" y="612"/>
                  </a:lnTo>
                  <a:lnTo>
                    <a:pt x="357" y="557"/>
                  </a:lnTo>
                  <a:lnTo>
                    <a:pt x="373" y="489"/>
                  </a:lnTo>
                  <a:lnTo>
                    <a:pt x="407" y="455"/>
                  </a:lnTo>
                  <a:lnTo>
                    <a:pt x="453" y="462"/>
                  </a:lnTo>
                  <a:lnTo>
                    <a:pt x="483" y="496"/>
                  </a:lnTo>
                  <a:lnTo>
                    <a:pt x="532" y="504"/>
                  </a:lnTo>
                  <a:lnTo>
                    <a:pt x="585" y="504"/>
                  </a:lnTo>
                  <a:lnTo>
                    <a:pt x="607" y="490"/>
                  </a:lnTo>
                  <a:lnTo>
                    <a:pt x="630" y="469"/>
                  </a:lnTo>
                  <a:lnTo>
                    <a:pt x="634" y="425"/>
                  </a:lnTo>
                  <a:lnTo>
                    <a:pt x="619" y="386"/>
                  </a:lnTo>
                  <a:lnTo>
                    <a:pt x="597" y="337"/>
                  </a:lnTo>
                  <a:lnTo>
                    <a:pt x="569" y="291"/>
                  </a:lnTo>
                  <a:lnTo>
                    <a:pt x="532" y="262"/>
                  </a:lnTo>
                  <a:lnTo>
                    <a:pt x="480" y="224"/>
                  </a:lnTo>
                  <a:lnTo>
                    <a:pt x="410" y="190"/>
                  </a:lnTo>
                  <a:lnTo>
                    <a:pt x="351" y="166"/>
                  </a:lnTo>
                  <a:lnTo>
                    <a:pt x="263" y="144"/>
                  </a:lnTo>
                  <a:lnTo>
                    <a:pt x="202" y="129"/>
                  </a:lnTo>
                  <a:lnTo>
                    <a:pt x="107" y="129"/>
                  </a:lnTo>
                  <a:lnTo>
                    <a:pt x="64" y="125"/>
                  </a:lnTo>
                  <a:lnTo>
                    <a:pt x="23" y="92"/>
                  </a:lnTo>
                  <a:lnTo>
                    <a:pt x="0" y="49"/>
                  </a:lnTo>
                  <a:lnTo>
                    <a:pt x="12" y="5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" name="Freeform 29"/>
            <p:cNvSpPr/>
            <p:nvPr/>
          </p:nvSpPr>
          <p:spPr>
            <a:xfrm>
              <a:off x="7565760" y="3193920"/>
              <a:ext cx="111240" cy="1476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141" h="188">
                  <a:moveTo>
                    <a:pt x="0" y="164"/>
                  </a:moveTo>
                  <a:lnTo>
                    <a:pt x="16" y="110"/>
                  </a:lnTo>
                  <a:lnTo>
                    <a:pt x="16" y="61"/>
                  </a:lnTo>
                  <a:lnTo>
                    <a:pt x="55" y="33"/>
                  </a:lnTo>
                  <a:lnTo>
                    <a:pt x="123" y="0"/>
                  </a:lnTo>
                  <a:lnTo>
                    <a:pt x="141" y="42"/>
                  </a:lnTo>
                  <a:lnTo>
                    <a:pt x="138" y="107"/>
                  </a:lnTo>
                  <a:lnTo>
                    <a:pt x="86" y="164"/>
                  </a:lnTo>
                  <a:lnTo>
                    <a:pt x="6" y="188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1" name="Group 30"/>
          <p:cNvGrpSpPr/>
          <p:nvPr/>
        </p:nvGrpSpPr>
        <p:grpSpPr>
          <a:xfrm>
            <a:off x="277920" y="1951200"/>
            <a:ext cx="5412960" cy="2639880"/>
            <a:chOff x="277920" y="1951200"/>
            <a:chExt cx="5412960" cy="2639880"/>
          </a:xfrm>
        </p:grpSpPr>
        <p:sp>
          <p:nvSpPr>
            <p:cNvPr id="522" name="Rectangle 31"/>
            <p:cNvSpPr/>
            <p:nvPr/>
          </p:nvSpPr>
          <p:spPr>
            <a:xfrm>
              <a:off x="277920" y="1951200"/>
              <a:ext cx="1861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q A ante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Rectangle 32"/>
            <p:cNvSpPr/>
            <p:nvPr/>
          </p:nvSpPr>
          <p:spPr>
            <a:xfrm>
              <a:off x="281160" y="2494080"/>
              <a:ext cx="2471040" cy="397440"/>
            </a:xfrm>
            <a:prstGeom prst="rect">
              <a:avLst/>
            </a:prstGeom>
            <a:solidFill>
              <a:srgbClr val="ffcf01"/>
            </a:solidFill>
            <a:ln w="1908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c1c1c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1c1c1c"/>
                  </a:solidFill>
                  <a:latin typeface="Arial"/>
                </a:rPr>
                <a:t>if return value &gt; $5”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4" name="Group 33"/>
            <p:cNvGrpSpPr/>
            <p:nvPr/>
          </p:nvGrpSpPr>
          <p:grpSpPr>
            <a:xfrm>
              <a:off x="345960" y="3043440"/>
              <a:ext cx="1719720" cy="714960"/>
              <a:chOff x="345960" y="3043440"/>
              <a:chExt cx="1719720" cy="714960"/>
            </a:xfrm>
          </p:grpSpPr>
          <p:sp>
            <p:nvSpPr>
              <p:cNvPr id="525" name="Rectangle 34"/>
              <p:cNvSpPr/>
              <p:nvPr/>
            </p:nvSpPr>
            <p:spPr>
              <a:xfrm>
                <a:off x="1173600" y="3360960"/>
                <a:ext cx="892080" cy="397440"/>
              </a:xfrm>
              <a:prstGeom prst="rect">
                <a:avLst/>
              </a:prstGeom>
              <a:solidFill>
                <a:srgbClr val="ffcf01"/>
              </a:solidFill>
              <a:ln w="1908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c1c1c"/>
                    </a:solidFill>
                    <a:latin typeface="Arial"/>
                  </a:rPr>
                  <a:t>Req B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AutoShape 35"/>
              <p:cNvSpPr/>
              <p:nvPr/>
            </p:nvSpPr>
            <p:spPr>
              <a:xfrm flipV="1">
                <a:off x="345960" y="3043440"/>
                <a:ext cx="525600" cy="630000"/>
              </a:xfrm>
              <a:custGeom>
                <a:avLst/>
                <a:gdLst>
                  <a:gd name="textAreaLeft" fmla="*/ 301680 w 525600"/>
                  <a:gd name="textAreaRight" fmla="*/ 443160 w 525600"/>
                  <a:gd name="textAreaTop" fmla="*/ 86040 h 630000"/>
                  <a:gd name="textAreaBottom" fmla="*/ 270000 h 63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5126" y="0"/>
                    </a:lnTo>
                    <a:lnTo>
                      <a:pt x="15126" y="2912"/>
                    </a:lnTo>
                    <a:lnTo>
                      <a:pt x="12427" y="2912"/>
                    </a:lnTo>
                    <a:cubicBezTo>
                      <a:pt x="5564" y="2912"/>
                      <a:pt x="0" y="7052"/>
                      <a:pt x="0" y="12158"/>
                    </a:cubicBezTo>
                    <a:lnTo>
                      <a:pt x="0" y="21600"/>
                    </a:lnTo>
                    <a:lnTo>
                      <a:pt x="6474" y="21600"/>
                    </a:lnTo>
                    <a:lnTo>
                      <a:pt x="6474" y="12158"/>
                    </a:lnTo>
                    <a:cubicBezTo>
                      <a:pt x="6474" y="10550"/>
                      <a:pt x="9139" y="9246"/>
                      <a:pt x="12427" y="9246"/>
                    </a:cubicBezTo>
                    <a:lnTo>
                      <a:pt x="15126" y="9246"/>
                    </a:lnTo>
                    <a:lnTo>
                      <a:pt x="15126" y="12158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7" name="Group 36"/>
            <p:cNvGrpSpPr/>
            <p:nvPr/>
          </p:nvGrpSpPr>
          <p:grpSpPr>
            <a:xfrm>
              <a:off x="803160" y="3961080"/>
              <a:ext cx="1734840" cy="630000"/>
              <a:chOff x="803160" y="3961080"/>
              <a:chExt cx="1734840" cy="630000"/>
            </a:xfrm>
          </p:grpSpPr>
          <p:sp>
            <p:nvSpPr>
              <p:cNvPr id="528" name="AutoShape 37"/>
              <p:cNvSpPr/>
              <p:nvPr/>
            </p:nvSpPr>
            <p:spPr>
              <a:xfrm flipV="1">
                <a:off x="803160" y="3961080"/>
                <a:ext cx="525240" cy="630000"/>
              </a:xfrm>
              <a:custGeom>
                <a:avLst/>
                <a:gdLst>
                  <a:gd name="textAreaLeft" fmla="*/ 301680 w 525240"/>
                  <a:gd name="textAreaRight" fmla="*/ 442800 w 525240"/>
                  <a:gd name="textAreaTop" fmla="*/ 86040 h 630000"/>
                  <a:gd name="textAreaBottom" fmla="*/ 270000 h 63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5126" y="0"/>
                    </a:lnTo>
                    <a:lnTo>
                      <a:pt x="15126" y="2912"/>
                    </a:lnTo>
                    <a:lnTo>
                      <a:pt x="12427" y="2912"/>
                    </a:lnTo>
                    <a:cubicBezTo>
                      <a:pt x="5564" y="2912"/>
                      <a:pt x="0" y="7052"/>
                      <a:pt x="0" y="12158"/>
                    </a:cubicBezTo>
                    <a:lnTo>
                      <a:pt x="0" y="21600"/>
                    </a:lnTo>
                    <a:lnTo>
                      <a:pt x="6474" y="21600"/>
                    </a:lnTo>
                    <a:lnTo>
                      <a:pt x="6474" y="12158"/>
                    </a:lnTo>
                    <a:cubicBezTo>
                      <a:pt x="6474" y="10550"/>
                      <a:pt x="9139" y="9246"/>
                      <a:pt x="12427" y="9246"/>
                    </a:cubicBezTo>
                    <a:lnTo>
                      <a:pt x="15126" y="9246"/>
                    </a:lnTo>
                    <a:lnTo>
                      <a:pt x="15126" y="12158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9" name="Rectangle 38"/>
              <p:cNvSpPr/>
              <p:nvPr/>
            </p:nvSpPr>
            <p:spPr>
              <a:xfrm>
                <a:off x="1630440" y="4140360"/>
                <a:ext cx="907560" cy="397440"/>
              </a:xfrm>
              <a:prstGeom prst="rect">
                <a:avLst/>
              </a:prstGeom>
              <a:solidFill>
                <a:srgbClr val="ffcf01"/>
              </a:solidFill>
              <a:ln w="1908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c1c1c"/>
                    </a:solidFill>
                    <a:latin typeface="Arial"/>
                  </a:rPr>
                  <a:t>Req C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30" name="Rectangle 39"/>
            <p:cNvSpPr/>
            <p:nvPr/>
          </p:nvSpPr>
          <p:spPr>
            <a:xfrm>
              <a:off x="3219840" y="2482920"/>
              <a:ext cx="2471040" cy="397440"/>
            </a:xfrm>
            <a:prstGeom prst="rect">
              <a:avLst/>
            </a:prstGeom>
            <a:solidFill>
              <a:srgbClr val="ffcf01"/>
            </a:solidFill>
            <a:ln w="1908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c1c1c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1c1c1c"/>
                  </a:solidFill>
                  <a:latin typeface="Arial"/>
                </a:rPr>
                <a:t>if return value &gt; $2”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Rectangle 40"/>
            <p:cNvSpPr/>
            <p:nvPr/>
          </p:nvSpPr>
          <p:spPr>
            <a:xfrm>
              <a:off x="3218040" y="1951200"/>
              <a:ext cx="2012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q A depoi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32" name="Group 41"/>
            <p:cNvGrpSpPr/>
            <p:nvPr/>
          </p:nvGrpSpPr>
          <p:grpSpPr>
            <a:xfrm>
              <a:off x="3749760" y="3949920"/>
              <a:ext cx="1709280" cy="630000"/>
              <a:chOff x="3749760" y="3949920"/>
              <a:chExt cx="1709280" cy="630000"/>
            </a:xfrm>
          </p:grpSpPr>
          <p:sp>
            <p:nvSpPr>
              <p:cNvPr id="533" name="AutoShape 42"/>
              <p:cNvSpPr/>
              <p:nvPr/>
            </p:nvSpPr>
            <p:spPr>
              <a:xfrm flipV="1">
                <a:off x="3749760" y="3949920"/>
                <a:ext cx="525600" cy="630000"/>
              </a:xfrm>
              <a:custGeom>
                <a:avLst/>
                <a:gdLst>
                  <a:gd name="textAreaLeft" fmla="*/ 301680 w 525600"/>
                  <a:gd name="textAreaRight" fmla="*/ 443160 w 525600"/>
                  <a:gd name="textAreaTop" fmla="*/ 86040 h 630000"/>
                  <a:gd name="textAreaBottom" fmla="*/ 270000 h 63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5126" y="0"/>
                    </a:lnTo>
                    <a:lnTo>
                      <a:pt x="15126" y="2912"/>
                    </a:lnTo>
                    <a:lnTo>
                      <a:pt x="12427" y="2912"/>
                    </a:lnTo>
                    <a:cubicBezTo>
                      <a:pt x="5564" y="2912"/>
                      <a:pt x="0" y="7052"/>
                      <a:pt x="0" y="12158"/>
                    </a:cubicBezTo>
                    <a:lnTo>
                      <a:pt x="0" y="21600"/>
                    </a:lnTo>
                    <a:lnTo>
                      <a:pt x="6474" y="21600"/>
                    </a:lnTo>
                    <a:lnTo>
                      <a:pt x="6474" y="12158"/>
                    </a:lnTo>
                    <a:cubicBezTo>
                      <a:pt x="6474" y="10550"/>
                      <a:pt x="9139" y="9246"/>
                      <a:pt x="12427" y="9246"/>
                    </a:cubicBezTo>
                    <a:lnTo>
                      <a:pt x="15126" y="9246"/>
                    </a:lnTo>
                    <a:lnTo>
                      <a:pt x="15126" y="12158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4" name="Rectangle 43"/>
              <p:cNvSpPr/>
              <p:nvPr/>
            </p:nvSpPr>
            <p:spPr>
              <a:xfrm>
                <a:off x="4551480" y="4162680"/>
                <a:ext cx="907560" cy="397440"/>
              </a:xfrm>
              <a:prstGeom prst="rect">
                <a:avLst/>
              </a:prstGeom>
              <a:solidFill>
                <a:srgbClr val="ffcf01"/>
              </a:solidFill>
              <a:ln w="1908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c1c1c"/>
                    </a:solidFill>
                    <a:latin typeface="Arial"/>
                  </a:rPr>
                  <a:t>Req C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5" name="Group 44"/>
            <p:cNvGrpSpPr/>
            <p:nvPr/>
          </p:nvGrpSpPr>
          <p:grpSpPr>
            <a:xfrm>
              <a:off x="3108240" y="3044880"/>
              <a:ext cx="1861200" cy="714960"/>
              <a:chOff x="3108240" y="3044880"/>
              <a:chExt cx="1861200" cy="714960"/>
            </a:xfrm>
          </p:grpSpPr>
          <p:sp>
            <p:nvSpPr>
              <p:cNvPr id="536" name="Rectangle 45"/>
              <p:cNvSpPr/>
              <p:nvPr/>
            </p:nvSpPr>
            <p:spPr>
              <a:xfrm>
                <a:off x="4077360" y="3362400"/>
                <a:ext cx="892080" cy="397440"/>
              </a:xfrm>
              <a:prstGeom prst="rect">
                <a:avLst/>
              </a:prstGeom>
              <a:solidFill>
                <a:srgbClr val="ffcf01"/>
              </a:solidFill>
              <a:ln w="1908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c1c1c"/>
                    </a:solidFill>
                    <a:latin typeface="Arial"/>
                  </a:rPr>
                  <a:t>Req B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AutoShape 46"/>
              <p:cNvSpPr/>
              <p:nvPr/>
            </p:nvSpPr>
            <p:spPr>
              <a:xfrm flipV="1">
                <a:off x="3274920" y="3044880"/>
                <a:ext cx="525600" cy="630000"/>
              </a:xfrm>
              <a:custGeom>
                <a:avLst/>
                <a:gdLst>
                  <a:gd name="textAreaLeft" fmla="*/ 301680 w 525600"/>
                  <a:gd name="textAreaRight" fmla="*/ 443160 w 525600"/>
                  <a:gd name="textAreaTop" fmla="*/ 86040 h 630000"/>
                  <a:gd name="textAreaBottom" fmla="*/ 270000 h 63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5126" y="0"/>
                    </a:lnTo>
                    <a:lnTo>
                      <a:pt x="15126" y="2912"/>
                    </a:lnTo>
                    <a:lnTo>
                      <a:pt x="12427" y="2912"/>
                    </a:lnTo>
                    <a:cubicBezTo>
                      <a:pt x="5564" y="2912"/>
                      <a:pt x="0" y="7052"/>
                      <a:pt x="0" y="12158"/>
                    </a:cubicBezTo>
                    <a:lnTo>
                      <a:pt x="0" y="21600"/>
                    </a:lnTo>
                    <a:lnTo>
                      <a:pt x="6474" y="21600"/>
                    </a:lnTo>
                    <a:lnTo>
                      <a:pt x="6474" y="12158"/>
                    </a:lnTo>
                    <a:cubicBezTo>
                      <a:pt x="6474" y="10550"/>
                      <a:pt x="9139" y="9246"/>
                      <a:pt x="12427" y="9246"/>
                    </a:cubicBezTo>
                    <a:lnTo>
                      <a:pt x="15126" y="9246"/>
                    </a:lnTo>
                    <a:lnTo>
                      <a:pt x="15126" y="12158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Line 47"/>
              <p:cNvSpPr/>
              <p:nvPr/>
            </p:nvSpPr>
            <p:spPr>
              <a:xfrm flipV="1">
                <a:off x="3108240" y="3044880"/>
                <a:ext cx="692280" cy="63000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Rastreamento: Análise de Impact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4E32-2311-4B09-9E49-6A310924E848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Documento de Requisit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nte: IEEE/ANSI (830-1998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. Introdu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1 Propósito do documen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2 Escopo do siste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3 Definições, acrônimos e abreviatur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4 Referênci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5 Descrição do resto do documen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0B16-1545-4B22-B73C-52D0F0B24951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Documento de Requisit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nte: IEEE/ANSI (830-1998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. Descrição ger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1 Perspectiva do produt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2 Funções do produ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3 Características dos usuári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4 Restrições ger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5 Assertivas e dependênci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820F-0CFC-48C8-BDE1-C13ADFCACDF5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Documento de Requisit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nte: IEEE/ANSI (830-1998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. Requisitos específic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quisitos funcionais, não-funcionais, GUI com o usuário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17000" indent="-2034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uncionalidade, interfaces externas, desempenho, restrições, atributos do sistema, caract. qualidade, 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pêndi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Índ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58BC-28F2-42F4-8C76-55A2A92872EE}" type="slidenum">
              <a:rPr b="0" lang="pt-BR" sz="1400" spc="-1" strike="noStrike">
                <a:solidFill>
                  <a:srgbClr val="1c1c1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Diagramas de Casos de Us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lexandre Vasconcel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(amlv@cin.ufpe.br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DB52-C77D-4DDA-B1E2-AAC2FDD2BF3E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Objetiv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Introduzir conceitos de </a:t>
            </a:r>
            <a:r>
              <a:rPr b="0" i="1" lang="pt-BR" sz="3200" spc="-1" strike="noStrike">
                <a:solidFill>
                  <a:srgbClr val="000000"/>
                </a:solidFill>
                <a:latin typeface="Comic Sans MS"/>
              </a:rPr>
              <a:t>use case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, ator e fluxo de event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presentar sub-fluxos de event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Discutir sobre identificação, evolução e organização de </a:t>
            </a:r>
            <a:r>
              <a:rPr b="0" i="1" lang="pt-BR" sz="3200" spc="-1" strike="noStrike">
                <a:solidFill>
                  <a:srgbClr val="000000"/>
                </a:solidFill>
                <a:latin typeface="Comic Sans MS"/>
              </a:rPr>
              <a:t>use ca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presentar notação UML para reusar atores e </a:t>
            </a:r>
            <a:r>
              <a:rPr b="0" i="1" lang="pt-BR" sz="3200" spc="-1" strike="noStrike">
                <a:solidFill>
                  <a:srgbClr val="000000"/>
                </a:solidFill>
                <a:latin typeface="Comic Sans MS"/>
              </a:rPr>
              <a:t>use ca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Slide Number Placeholder 6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58C7-ECB1-408F-8E79-9150E758CE18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333399"/>
                </a:solidFill>
                <a:latin typeface="Comic Sans MS"/>
              </a:rPr>
              <a:t>Use Cas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eqüência de ações, executada pelo sistema, que gera um resulta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 valor observá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 para ator particul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Oval 4"/>
          <p:cNvSpPr/>
          <p:nvPr/>
        </p:nvSpPr>
        <p:spPr>
          <a:xfrm>
            <a:off x="1042920" y="3014640"/>
            <a:ext cx="2362320" cy="106668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1636920" y="4267080"/>
            <a:ext cx="121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Fun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0" name="Group 6"/>
          <p:cNvGrpSpPr/>
          <p:nvPr/>
        </p:nvGrpSpPr>
        <p:grpSpPr>
          <a:xfrm>
            <a:off x="1008360" y="1883520"/>
            <a:ext cx="7386120" cy="4427640"/>
            <a:chOff x="1008360" y="1883520"/>
            <a:chExt cx="7386120" cy="4427640"/>
          </a:xfrm>
        </p:grpSpPr>
        <p:sp>
          <p:nvSpPr>
            <p:cNvPr id="561" name="Text Box 7"/>
            <p:cNvSpPr/>
            <p:nvPr/>
          </p:nvSpPr>
          <p:spPr>
            <a:xfrm>
              <a:off x="1008360" y="5851440"/>
              <a:ext cx="738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Procedimento computacional/algorítmico atômic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562" name="AutoShape 8"/>
            <p:cNvCxnSpPr>
              <a:endCxn id="561" idx="0"/>
            </p:cNvCxnSpPr>
            <p:nvPr/>
          </p:nvCxnSpPr>
          <p:spPr>
            <a:xfrm rot="5400000">
              <a:off x="4397760" y="2436840"/>
              <a:ext cx="3718440" cy="3110400"/>
            </a:xfrm>
            <a:prstGeom prst="curvedConnector5">
              <a:avLst>
                <a:gd name="adj1" fmla="val -6700"/>
                <a:gd name="adj2" fmla="val 49994"/>
                <a:gd name="adj3" fmla="val -6700"/>
              </a:avLst>
            </a:prstGeom>
            <a:ln w="2844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6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E19B-EF8E-41F8-B298-75AF300AB0E3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333399"/>
                </a:solidFill>
                <a:latin typeface="Comic Sans MS"/>
              </a:rPr>
              <a:t>Use Case</a:t>
            </a: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 e Ator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lguém ou alguma coisa (</a:t>
            </a:r>
            <a:r>
              <a:rPr b="1" lang="pt-BR" sz="2800" spc="-1" strike="noStrike">
                <a:solidFill>
                  <a:srgbClr val="333399"/>
                </a:solidFill>
                <a:latin typeface="Comic Sans MS"/>
              </a:rPr>
              <a:t>fora do sistema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) que interage com o siste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6" name="Group 4"/>
          <p:cNvGrpSpPr/>
          <p:nvPr/>
        </p:nvGrpSpPr>
        <p:grpSpPr>
          <a:xfrm>
            <a:off x="1663560" y="3146400"/>
            <a:ext cx="457200" cy="1371600"/>
            <a:chOff x="1663560" y="3146400"/>
            <a:chExt cx="457200" cy="1371600"/>
          </a:xfrm>
        </p:grpSpPr>
        <p:sp>
          <p:nvSpPr>
            <p:cNvPr id="567" name="Oval 5"/>
            <p:cNvSpPr/>
            <p:nvPr/>
          </p:nvSpPr>
          <p:spPr>
            <a:xfrm>
              <a:off x="1739880" y="3146400"/>
              <a:ext cx="304920" cy="304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Line 6"/>
            <p:cNvSpPr/>
            <p:nvPr/>
          </p:nvSpPr>
          <p:spPr>
            <a:xfrm flipV="1">
              <a:off x="1892160" y="3450960"/>
              <a:ext cx="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" name="Line 7"/>
            <p:cNvSpPr/>
            <p:nvPr/>
          </p:nvSpPr>
          <p:spPr>
            <a:xfrm flipV="1">
              <a:off x="1663560" y="3984480"/>
              <a:ext cx="22860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Line 8"/>
            <p:cNvSpPr/>
            <p:nvPr/>
          </p:nvSpPr>
          <p:spPr>
            <a:xfrm flipH="1" flipV="1">
              <a:off x="1891800" y="3984480"/>
              <a:ext cx="22860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Line 9"/>
            <p:cNvSpPr/>
            <p:nvPr/>
          </p:nvSpPr>
          <p:spPr>
            <a:xfrm>
              <a:off x="1663560" y="36799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2" name="Text Box 10"/>
          <p:cNvSpPr/>
          <p:nvPr/>
        </p:nvSpPr>
        <p:spPr>
          <a:xfrm>
            <a:off x="522000" y="4700520"/>
            <a:ext cx="27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missor/Recep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1C29-DD8F-49DE-A2B4-31D8F7DFC2C5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333399"/>
                </a:solidFill>
                <a:latin typeface="Comic Sans MS"/>
              </a:rPr>
              <a:t>Use Case </a:t>
            </a: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e Ator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Oval 4"/>
          <p:cNvSpPr/>
          <p:nvPr/>
        </p:nvSpPr>
        <p:spPr>
          <a:xfrm>
            <a:off x="5796000" y="2349360"/>
            <a:ext cx="2362320" cy="106704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6390000" y="3602160"/>
            <a:ext cx="121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Fun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8" name="Group 6"/>
          <p:cNvGrpSpPr/>
          <p:nvPr/>
        </p:nvGrpSpPr>
        <p:grpSpPr>
          <a:xfrm>
            <a:off x="1879560" y="2205000"/>
            <a:ext cx="457200" cy="1371600"/>
            <a:chOff x="1879560" y="2205000"/>
            <a:chExt cx="457200" cy="1371600"/>
          </a:xfrm>
        </p:grpSpPr>
        <p:sp>
          <p:nvSpPr>
            <p:cNvPr id="579" name="Oval 7"/>
            <p:cNvSpPr/>
            <p:nvPr/>
          </p:nvSpPr>
          <p:spPr>
            <a:xfrm>
              <a:off x="1955880" y="2205000"/>
              <a:ext cx="304920" cy="304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0" name="Line 8"/>
            <p:cNvSpPr/>
            <p:nvPr/>
          </p:nvSpPr>
          <p:spPr>
            <a:xfrm flipV="1">
              <a:off x="2108160" y="2509560"/>
              <a:ext cx="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Line 9"/>
            <p:cNvSpPr/>
            <p:nvPr/>
          </p:nvSpPr>
          <p:spPr>
            <a:xfrm flipV="1">
              <a:off x="1879560" y="3043080"/>
              <a:ext cx="22860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10"/>
            <p:cNvSpPr/>
            <p:nvPr/>
          </p:nvSpPr>
          <p:spPr>
            <a:xfrm flipH="1" flipV="1">
              <a:off x="2107800" y="3043080"/>
              <a:ext cx="22860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11"/>
            <p:cNvSpPr/>
            <p:nvPr/>
          </p:nvSpPr>
          <p:spPr>
            <a:xfrm>
              <a:off x="1879560" y="27385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Text Box 12"/>
          <p:cNvSpPr/>
          <p:nvPr/>
        </p:nvSpPr>
        <p:spPr>
          <a:xfrm>
            <a:off x="1432080" y="375912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mi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Line 13"/>
          <p:cNvSpPr/>
          <p:nvPr/>
        </p:nvSpPr>
        <p:spPr>
          <a:xfrm>
            <a:off x="2916360" y="2852640"/>
            <a:ext cx="26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Oval 14"/>
          <p:cNvSpPr/>
          <p:nvPr/>
        </p:nvSpPr>
        <p:spPr>
          <a:xfrm>
            <a:off x="5796000" y="4657680"/>
            <a:ext cx="2362320" cy="106668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Text Box 15"/>
          <p:cNvSpPr/>
          <p:nvPr/>
        </p:nvSpPr>
        <p:spPr>
          <a:xfrm>
            <a:off x="6390000" y="5910120"/>
            <a:ext cx="121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Fun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8" name="Group 16"/>
          <p:cNvGrpSpPr/>
          <p:nvPr/>
        </p:nvGrpSpPr>
        <p:grpSpPr>
          <a:xfrm>
            <a:off x="1879560" y="4513320"/>
            <a:ext cx="457200" cy="1371600"/>
            <a:chOff x="1879560" y="4513320"/>
            <a:chExt cx="457200" cy="1371600"/>
          </a:xfrm>
        </p:grpSpPr>
        <p:sp>
          <p:nvSpPr>
            <p:cNvPr id="589" name="Oval 17"/>
            <p:cNvSpPr/>
            <p:nvPr/>
          </p:nvSpPr>
          <p:spPr>
            <a:xfrm>
              <a:off x="1955880" y="4513320"/>
              <a:ext cx="304920" cy="304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" name="Line 18"/>
            <p:cNvSpPr/>
            <p:nvPr/>
          </p:nvSpPr>
          <p:spPr>
            <a:xfrm flipV="1">
              <a:off x="2108160" y="4817880"/>
              <a:ext cx="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1" name="Line 19"/>
            <p:cNvSpPr/>
            <p:nvPr/>
          </p:nvSpPr>
          <p:spPr>
            <a:xfrm flipV="1">
              <a:off x="1879560" y="5351400"/>
              <a:ext cx="22860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" name="Line 20"/>
            <p:cNvSpPr/>
            <p:nvPr/>
          </p:nvSpPr>
          <p:spPr>
            <a:xfrm flipH="1" flipV="1">
              <a:off x="2107800" y="5351400"/>
              <a:ext cx="22860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Line 21"/>
            <p:cNvSpPr/>
            <p:nvPr/>
          </p:nvSpPr>
          <p:spPr>
            <a:xfrm>
              <a:off x="1879560" y="504684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4" name="Text Box 22"/>
          <p:cNvSpPr/>
          <p:nvPr/>
        </p:nvSpPr>
        <p:spPr>
          <a:xfrm>
            <a:off x="1359000" y="606744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cep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Line 23"/>
          <p:cNvSpPr/>
          <p:nvPr/>
        </p:nvSpPr>
        <p:spPr>
          <a:xfrm>
            <a:off x="2916360" y="5160960"/>
            <a:ext cx="2663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6" name="Group 24"/>
          <p:cNvGrpSpPr/>
          <p:nvPr/>
        </p:nvGrpSpPr>
        <p:grpSpPr>
          <a:xfrm>
            <a:off x="539640" y="1885680"/>
            <a:ext cx="8355960" cy="4972320"/>
            <a:chOff x="539640" y="1885680"/>
            <a:chExt cx="8355960" cy="4972320"/>
          </a:xfrm>
        </p:grpSpPr>
        <p:sp>
          <p:nvSpPr>
            <p:cNvPr id="597" name="Text Box 25"/>
            <p:cNvSpPr/>
            <p:nvPr/>
          </p:nvSpPr>
          <p:spPr>
            <a:xfrm rot="16200000">
              <a:off x="-359280" y="3733920"/>
              <a:ext cx="22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Ator Particula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8" name="Text Box 26"/>
            <p:cNvSpPr/>
            <p:nvPr/>
          </p:nvSpPr>
          <p:spPr>
            <a:xfrm rot="16200000">
              <a:off x="6389280" y="3932280"/>
              <a:ext cx="455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Resultado de Valor Observáve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" name="Line 27"/>
            <p:cNvSpPr/>
            <p:nvPr/>
          </p:nvSpPr>
          <p:spPr>
            <a:xfrm>
              <a:off x="4427640" y="1916280"/>
              <a:ext cx="0" cy="494172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EC0D-42F6-4590-AAC0-F08F89C777CE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333399"/>
                </a:solidFill>
                <a:latin typeface="Comic Sans MS"/>
              </a:rPr>
              <a:t>Use Case</a:t>
            </a: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 e Ator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 descrição de um </a:t>
            </a:r>
            <a:r>
              <a:rPr b="0" i="1" lang="pt-BR" sz="3200" spc="-1" strike="noStrike">
                <a:solidFill>
                  <a:srgbClr val="000000"/>
                </a:solidFill>
                <a:latin typeface="Comic Sans MS"/>
              </a:rPr>
              <a:t>use case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 define o que o sistema faz quando o </a:t>
            </a:r>
            <a:r>
              <a:rPr b="0" i="1" lang="pt-BR" sz="3200" spc="-1" strike="noStrike">
                <a:solidFill>
                  <a:srgbClr val="000000"/>
                </a:solidFill>
                <a:latin typeface="Comic Sans MS"/>
              </a:rPr>
              <a:t>use case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 é realiz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 funcionalidade do sistema é definida por um conjunto de </a:t>
            </a:r>
            <a:r>
              <a:rPr b="0" i="1" lang="pt-BR" sz="3200" spc="-1" strike="noStrike">
                <a:solidFill>
                  <a:srgbClr val="000000"/>
                </a:solidFill>
                <a:latin typeface="Comic Sans MS"/>
              </a:rPr>
              <a:t>use cases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, cada um representando um fluxo de eventos específi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8EAE-35E7-49DB-9F94-05884663219A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O Que Estudar?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Restriçõ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Incluindo requisitos não-funcionais do sistema (superficialment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lternativas possíve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istema atual é geralmente uma das alternati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Vantagens e desvantagens das alternativ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9EB6-559C-4666-9E00-FD7629DEECBC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Comic Sans MS"/>
              </a:rPr>
              <a:t>Use Cas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 e Ator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05" name="Oval 3"/>
          <p:cNvSpPr/>
          <p:nvPr/>
        </p:nvSpPr>
        <p:spPr>
          <a:xfrm>
            <a:off x="5003640" y="3139920"/>
            <a:ext cx="3530880" cy="230508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6125040" y="5780160"/>
            <a:ext cx="121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Fun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7" name="Group 5"/>
          <p:cNvGrpSpPr/>
          <p:nvPr/>
        </p:nvGrpSpPr>
        <p:grpSpPr>
          <a:xfrm>
            <a:off x="1087560" y="3649680"/>
            <a:ext cx="457200" cy="1371600"/>
            <a:chOff x="1087560" y="3649680"/>
            <a:chExt cx="457200" cy="1371600"/>
          </a:xfrm>
        </p:grpSpPr>
        <p:sp>
          <p:nvSpPr>
            <p:cNvPr id="608" name="Oval 6"/>
            <p:cNvSpPr/>
            <p:nvPr/>
          </p:nvSpPr>
          <p:spPr>
            <a:xfrm>
              <a:off x="1163880" y="3649680"/>
              <a:ext cx="304920" cy="304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9" name="Line 7"/>
            <p:cNvSpPr/>
            <p:nvPr/>
          </p:nvSpPr>
          <p:spPr>
            <a:xfrm flipV="1">
              <a:off x="1316160" y="3954240"/>
              <a:ext cx="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0" name="Line 8"/>
            <p:cNvSpPr/>
            <p:nvPr/>
          </p:nvSpPr>
          <p:spPr>
            <a:xfrm flipV="1">
              <a:off x="1087560" y="4487760"/>
              <a:ext cx="22860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1" name="Line 9"/>
            <p:cNvSpPr/>
            <p:nvPr/>
          </p:nvSpPr>
          <p:spPr>
            <a:xfrm flipH="1" flipV="1">
              <a:off x="1315800" y="4487760"/>
              <a:ext cx="22860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2" name="Line 10"/>
            <p:cNvSpPr/>
            <p:nvPr/>
          </p:nvSpPr>
          <p:spPr>
            <a:xfrm>
              <a:off x="1087560" y="41832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3" name="Text Box 11"/>
          <p:cNvSpPr/>
          <p:nvPr/>
        </p:nvSpPr>
        <p:spPr>
          <a:xfrm>
            <a:off x="640080" y="520380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mi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Line 12"/>
          <p:cNvSpPr/>
          <p:nvPr/>
        </p:nvSpPr>
        <p:spPr>
          <a:xfrm>
            <a:off x="2124000" y="4297320"/>
            <a:ext cx="266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Text Box 13"/>
          <p:cNvSpPr/>
          <p:nvPr/>
        </p:nvSpPr>
        <p:spPr>
          <a:xfrm>
            <a:off x="6166800" y="3459240"/>
            <a:ext cx="132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ass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asso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asso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6" name="Group 14"/>
          <p:cNvGrpSpPr/>
          <p:nvPr/>
        </p:nvGrpSpPr>
        <p:grpSpPr>
          <a:xfrm>
            <a:off x="2615400" y="2073240"/>
            <a:ext cx="4214520" cy="1385640"/>
            <a:chOff x="2615400" y="2073240"/>
            <a:chExt cx="4214520" cy="1385640"/>
          </a:xfrm>
        </p:grpSpPr>
        <p:sp>
          <p:nvSpPr>
            <p:cNvPr id="617" name="Text Box 15"/>
            <p:cNvSpPr/>
            <p:nvPr/>
          </p:nvSpPr>
          <p:spPr>
            <a:xfrm>
              <a:off x="2615400" y="2073240"/>
              <a:ext cx="157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Descriçã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618" name="AutoShape 16"/>
            <p:cNvCxnSpPr>
              <a:stCxn id="617" idx="3"/>
              <a:endCxn id="615" idx="0"/>
            </p:cNvCxnSpPr>
            <p:nvPr/>
          </p:nvCxnSpPr>
          <p:spPr>
            <a:xfrm>
              <a:off x="4140360" y="2301480"/>
              <a:ext cx="2689920" cy="1157760"/>
            </a:xfrm>
            <a:prstGeom prst="curvedConnector2">
              <a:avLst/>
            </a:prstGeom>
            <a:ln w="2844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</p:grp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9926-141B-4DD4-A90A-E8678642AA2D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Exemplo de </a:t>
            </a:r>
            <a:r>
              <a:rPr b="0" i="1" lang="pt-BR" sz="4400" spc="-1" strike="noStrike">
                <a:solidFill>
                  <a:srgbClr val="333399"/>
                </a:solidFill>
                <a:latin typeface="Comic Sans MS"/>
              </a:rPr>
              <a:t>Use Case</a:t>
            </a: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 e Ator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Cliente de banco pode usar um caixa automático par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acar dinheiro, transferir dinheiro ou consultar o saldo da con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tor: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Cli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omic Sans MS"/>
              </a:rPr>
              <a:t>Use cases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Sacar dinheiro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transferir dinheiro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consultar sal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C17D-2E25-4D55-B082-ED53858324F9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Exemplo de </a:t>
            </a:r>
            <a:r>
              <a:rPr b="0" i="1" lang="pt-BR" sz="4400" spc="-1" strike="noStrike">
                <a:solidFill>
                  <a:srgbClr val="333399"/>
                </a:solidFill>
                <a:latin typeface="Comic Sans MS"/>
              </a:rPr>
              <a:t>Use Case</a:t>
            </a: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 e Ator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24" name="Oval 3"/>
          <p:cNvSpPr/>
          <p:nvPr/>
        </p:nvSpPr>
        <p:spPr>
          <a:xfrm>
            <a:off x="3352680" y="1981080"/>
            <a:ext cx="2362320" cy="106704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Oval 4"/>
          <p:cNvSpPr/>
          <p:nvPr/>
        </p:nvSpPr>
        <p:spPr>
          <a:xfrm>
            <a:off x="228600" y="4267080"/>
            <a:ext cx="2362320" cy="106704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Oval 5"/>
          <p:cNvSpPr/>
          <p:nvPr/>
        </p:nvSpPr>
        <p:spPr>
          <a:xfrm>
            <a:off x="6553080" y="4267080"/>
            <a:ext cx="2362320" cy="106704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7" name="Group 6"/>
          <p:cNvGrpSpPr/>
          <p:nvPr/>
        </p:nvGrpSpPr>
        <p:grpSpPr>
          <a:xfrm>
            <a:off x="4267080" y="4800600"/>
            <a:ext cx="457200" cy="1371600"/>
            <a:chOff x="4267080" y="4800600"/>
            <a:chExt cx="457200" cy="1371600"/>
          </a:xfrm>
        </p:grpSpPr>
        <p:sp>
          <p:nvSpPr>
            <p:cNvPr id="628" name="Oval 7"/>
            <p:cNvSpPr/>
            <p:nvPr/>
          </p:nvSpPr>
          <p:spPr>
            <a:xfrm>
              <a:off x="4343400" y="4800600"/>
              <a:ext cx="304920" cy="304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Line 8"/>
            <p:cNvSpPr/>
            <p:nvPr/>
          </p:nvSpPr>
          <p:spPr>
            <a:xfrm flipV="1">
              <a:off x="4495680" y="5105160"/>
              <a:ext cx="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0" name="Line 9"/>
            <p:cNvSpPr/>
            <p:nvPr/>
          </p:nvSpPr>
          <p:spPr>
            <a:xfrm flipV="1">
              <a:off x="4267080" y="5638680"/>
              <a:ext cx="22860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1" name="Line 10"/>
            <p:cNvSpPr/>
            <p:nvPr/>
          </p:nvSpPr>
          <p:spPr>
            <a:xfrm flipH="1" flipV="1">
              <a:off x="4495320" y="5638680"/>
              <a:ext cx="22860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2" name="Line 11"/>
            <p:cNvSpPr/>
            <p:nvPr/>
          </p:nvSpPr>
          <p:spPr>
            <a:xfrm>
              <a:off x="4267080" y="53341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33" name="Text Box 12"/>
          <p:cNvSpPr/>
          <p:nvPr/>
        </p:nvSpPr>
        <p:spPr>
          <a:xfrm>
            <a:off x="3969000" y="628164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Text Box 13"/>
          <p:cNvSpPr/>
          <p:nvPr/>
        </p:nvSpPr>
        <p:spPr>
          <a:xfrm>
            <a:off x="3756240" y="3048120"/>
            <a:ext cx="159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ransfer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inhei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4"/>
          <p:cNvSpPr/>
          <p:nvPr/>
        </p:nvSpPr>
        <p:spPr>
          <a:xfrm>
            <a:off x="657000" y="5273640"/>
            <a:ext cx="13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ac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inhei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5"/>
          <p:cNvSpPr/>
          <p:nvPr/>
        </p:nvSpPr>
        <p:spPr>
          <a:xfrm>
            <a:off x="6967440" y="5273640"/>
            <a:ext cx="15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sult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al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Line 16"/>
          <p:cNvSpPr/>
          <p:nvPr/>
        </p:nvSpPr>
        <p:spPr>
          <a:xfrm flipV="1">
            <a:off x="4495680" y="3885840"/>
            <a:ext cx="0" cy="76212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Line 17"/>
          <p:cNvSpPr/>
          <p:nvPr/>
        </p:nvSpPr>
        <p:spPr>
          <a:xfrm flipH="1" flipV="1">
            <a:off x="2666880" y="5028840"/>
            <a:ext cx="1447920" cy="30492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Line 18"/>
          <p:cNvSpPr/>
          <p:nvPr/>
        </p:nvSpPr>
        <p:spPr>
          <a:xfrm flipV="1">
            <a:off x="4952880" y="4952520"/>
            <a:ext cx="1371600" cy="3812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Rectangle 19"/>
          <p:cNvSpPr/>
          <p:nvPr/>
        </p:nvSpPr>
        <p:spPr>
          <a:xfrm>
            <a:off x="3733920" y="3076560"/>
            <a:ext cx="1600200" cy="762120"/>
          </a:xfrm>
          <a:prstGeom prst="rect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Text Box 20"/>
          <p:cNvSpPr/>
          <p:nvPr/>
        </p:nvSpPr>
        <p:spPr>
          <a:xfrm>
            <a:off x="396720" y="2335320"/>
            <a:ext cx="1149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Tahoma"/>
              </a:rPr>
              <a:t>Valor 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Tahoma"/>
              </a:rPr>
              <a:t>resultad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Tahoma"/>
              </a:rPr>
              <a:t>observá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Line 21"/>
          <p:cNvSpPr/>
          <p:nvPr/>
        </p:nvSpPr>
        <p:spPr>
          <a:xfrm>
            <a:off x="1600200" y="2743200"/>
            <a:ext cx="2057400" cy="685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A6CD-B03E-4211-AA88-8A2332C92F53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Identificando </a:t>
            </a:r>
            <a:r>
              <a:rPr b="0" i="1" lang="pt-BR" sz="4400" spc="-1" strike="noStrike">
                <a:solidFill>
                  <a:srgbClr val="333399"/>
                </a:solidFill>
                <a:latin typeface="Comic Sans MS"/>
              </a:rPr>
              <a:t>Use Cas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m geral, difícil decidir entre um ou vários use ca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Por exemplo, seriam use ca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Inserir cartão em um Caixa Automático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ntrar com a senha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eceber o cartão de volta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8EE7-C239-49D2-97BA-68FF8B6F1FB2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Identificando </a:t>
            </a:r>
            <a:r>
              <a:rPr b="0" i="1" lang="pt-BR" sz="4400" spc="-1" strike="noStrike">
                <a:solidFill>
                  <a:srgbClr val="333399"/>
                </a:solidFill>
                <a:latin typeface="Comic Sans MS"/>
              </a:rPr>
              <a:t>Use Cas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Representar valor observável para a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Pode-se determin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e interações (seqüência de ações) com o sistema que resultam valores para ato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atisfaz um objetivo particular de um ator que o sistema deve pro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62A3-1ABA-40F2-B3D2-1E98E25C2B9D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Identificando </a:t>
            </a:r>
            <a:r>
              <a:rPr b="0" i="1" lang="pt-BR" sz="4400" spc="-1" strike="noStrike">
                <a:solidFill>
                  <a:srgbClr val="333399"/>
                </a:solidFill>
                <a:latin typeface="Comic Sans MS"/>
              </a:rPr>
              <a:t>Use Cas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Facilitar gerenciamento durante ciclo de desenvolvimen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 razão para agrupar funcionalidades e chamá-las de </a:t>
            </a:r>
            <a:r>
              <a:rPr b="0" i="1" lang="pt-BR" sz="2800" spc="-1" strike="noStrike">
                <a:solidFill>
                  <a:srgbClr val="000000"/>
                </a:solidFill>
                <a:latin typeface="Comic Sans M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616E-34F9-4829-8E4A-09A38A90C40B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Exercíci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nho um sistema que é acionado 2 vezes por dia (às 10:20hs e 17:20hs), enviando-me um SMS. Também tenho como obter resultado semelhante acessando tal funcionalidade a partir de meu celular (web browser). Crie os casos de uso correspondent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E293-F2BC-40A6-997C-6C89BB028C7B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Evolução de </a:t>
            </a:r>
            <a:r>
              <a:rPr b="0" i="1" lang="pt-BR" sz="4400" spc="-1" strike="noStrike">
                <a:solidFill>
                  <a:srgbClr val="333399"/>
                </a:solidFill>
                <a:latin typeface="Comic Sans MS"/>
              </a:rPr>
              <a:t>Use Cas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Inicialmente </a:t>
            </a:r>
            <a:r>
              <a:rPr b="0" i="1" lang="pt-BR" sz="2800" spc="-1" strike="noStrike">
                <a:solidFill>
                  <a:srgbClr val="000000"/>
                </a:solidFill>
                <a:latin typeface="Comic Sans MS"/>
              </a:rPr>
              <a:t>use cases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ão simpl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enas esboço sobre funcionamento é sufici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Mas com a sedimentação da modelag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scrição mais detalhada do fluxo de eventos faz-se necessár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Fluxo de eventos deve ser refina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odos os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stakeholder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envolvidos devem estar de acordo com a descri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17A5-570E-4260-9C2A-9C644BB2FD8C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Organizando </a:t>
            </a:r>
            <a:r>
              <a:rPr b="0" i="1" lang="pt-BR" sz="4400" spc="-1" strike="noStrike">
                <a:solidFill>
                  <a:srgbClr val="333399"/>
                </a:solidFill>
                <a:latin typeface="Comic Sans MS"/>
              </a:rPr>
              <a:t>Use Cas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Sistema pequeno não demanda estrutura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xemplo, seis </a:t>
            </a:r>
            <a:r>
              <a:rPr b="0" i="1" lang="pt-BR" sz="2800" spc="-1" strike="noStrike">
                <a:solidFill>
                  <a:srgbClr val="000000"/>
                </a:solidFill>
                <a:latin typeface="Comic Sans MS"/>
              </a:rPr>
              <a:t>use cases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, com dois/três ato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Já sistemas maiores requerem princípios de estruturação e organiza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aso contrário, planejamento, atribuição de prioridades, etc., podem se tornar difíce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158C-33C8-46E5-B8E2-68E909C4B65C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Pacote de </a:t>
            </a:r>
            <a:r>
              <a:rPr b="0" i="1" lang="pt-BR" sz="4400" spc="-1" strike="noStrike">
                <a:solidFill>
                  <a:srgbClr val="333399"/>
                </a:solidFill>
                <a:latin typeface="Comic Sans MS"/>
              </a:rPr>
              <a:t>Use Cas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Primeiro esforço de estrutura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grupam-se use cases relacionados em único </a:t>
            </a:r>
            <a:r>
              <a:rPr b="0" i="1" lang="pt-BR" sz="3200" spc="-1" strike="noStrike">
                <a:solidFill>
                  <a:srgbClr val="000000"/>
                </a:solidFill>
                <a:latin typeface="Comic Sans MS"/>
              </a:rPr>
              <a:t>contain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415E-9834-4DF1-8128-8159CC27258D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estes de Viabilidad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cion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dida do grau de adequação da solução para a organiza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aliação de como as pessoas se sentem sobre o sistema/proje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écni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aliação da praticidade de uma solução técnica específica e a disponibilidade dos recursos técnicos e dos especialist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6E15-E094-45EA-9FF5-DB7C3F375ADB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Pacote de </a:t>
            </a:r>
            <a:r>
              <a:rPr b="0" i="1" lang="pt-BR" sz="4400" spc="-1" strike="noStrike">
                <a:solidFill>
                  <a:srgbClr val="333399"/>
                </a:solidFill>
                <a:latin typeface="Comic Sans MS"/>
              </a:rPr>
              <a:t>Use Cas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66" name="Rectangle 3"/>
          <p:cNvSpPr/>
          <p:nvPr/>
        </p:nvSpPr>
        <p:spPr>
          <a:xfrm>
            <a:off x="533520" y="3200400"/>
            <a:ext cx="28191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533520" y="28195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Text Box 5"/>
          <p:cNvSpPr/>
          <p:nvPr/>
        </p:nvSpPr>
        <p:spPr>
          <a:xfrm>
            <a:off x="1276200" y="3809880"/>
            <a:ext cx="13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li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Oval 6"/>
          <p:cNvSpPr/>
          <p:nvPr/>
        </p:nvSpPr>
        <p:spPr>
          <a:xfrm>
            <a:off x="5638680" y="3184560"/>
            <a:ext cx="2362320" cy="106668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Text Box 7"/>
          <p:cNvSpPr/>
          <p:nvPr/>
        </p:nvSpPr>
        <p:spPr>
          <a:xfrm>
            <a:off x="5085360" y="4191120"/>
            <a:ext cx="35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lientes :: Atendi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E4C0-0392-4B85-8E0D-FD5DEE8275C6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Reuso em </a:t>
            </a:r>
            <a:r>
              <a:rPr b="0" i="1" lang="pt-BR" sz="4400" spc="-1" strike="noStrike">
                <a:solidFill>
                  <a:srgbClr val="333399"/>
                </a:solidFill>
                <a:latin typeface="Comic Sans MS"/>
              </a:rPr>
              <a:t>Use Cas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Comportamento comum a mais de dois </a:t>
            </a:r>
            <a:r>
              <a:rPr b="0" i="1" lang="pt-BR" sz="3200" spc="-1" strike="noStrike">
                <a:solidFill>
                  <a:srgbClr val="000000"/>
                </a:solidFill>
                <a:latin typeface="Comic Sans MS"/>
              </a:rPr>
              <a:t>use cases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 (ou forma parte independent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ode-se modelar como </a:t>
            </a:r>
            <a:r>
              <a:rPr b="0" i="1" lang="pt-BR" sz="2800" spc="-1" strike="noStrike">
                <a:solidFill>
                  <a:srgbClr val="000000"/>
                </a:solidFill>
                <a:latin typeface="Comic Sans MS"/>
              </a:rPr>
              <a:t>use case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ara ser reusa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Há três possibilidad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Inclus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xtens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Generalização/Especializa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068D-AE34-4675-A92D-6A88B1B1368C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Inclusã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Vários use cases possuem texto de fluxo de event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mum/idênti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mpre usa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quivalente a fatoração feita em programação através de sub-program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include da linguagem 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E097-BB9F-452C-8E58-C0ED7BBD927B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Inclusã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mo exemplo, tanto “Sacar dinheiro” quanto “Consultar saldo” necessitam da senh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ode-se criar novo use case “Autenticar usuário” e incluí-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99"/>
                </a:solidFill>
                <a:latin typeface="Comic Sans MS"/>
              </a:rPr>
              <a:t>Mas aten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Comic Sans MS"/>
              </a:rPr>
              <a:t>NÃO SE DEVE CRIAR USE CASES MÍNIM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Deve haver ganho no reu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A70D-099B-48EF-95AF-D7DB58CEC92A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Inclusã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82" name="Oval 3"/>
          <p:cNvSpPr/>
          <p:nvPr/>
        </p:nvSpPr>
        <p:spPr>
          <a:xfrm>
            <a:off x="685800" y="4267080"/>
            <a:ext cx="2362320" cy="106704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Text Box 4"/>
          <p:cNvSpPr/>
          <p:nvPr/>
        </p:nvSpPr>
        <p:spPr>
          <a:xfrm>
            <a:off x="1114200" y="5273640"/>
            <a:ext cx="13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ac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inhei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Oval 5"/>
          <p:cNvSpPr/>
          <p:nvPr/>
        </p:nvSpPr>
        <p:spPr>
          <a:xfrm>
            <a:off x="6172200" y="4267080"/>
            <a:ext cx="2362320" cy="106704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586200" y="5273640"/>
            <a:ext cx="15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sult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al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Oval 7"/>
          <p:cNvSpPr/>
          <p:nvPr/>
        </p:nvSpPr>
        <p:spPr>
          <a:xfrm>
            <a:off x="3429000" y="1981080"/>
            <a:ext cx="2362320" cy="106704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Text Box 8"/>
          <p:cNvSpPr/>
          <p:nvPr/>
        </p:nvSpPr>
        <p:spPr>
          <a:xfrm>
            <a:off x="3721320" y="2987640"/>
            <a:ext cx="166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utentic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usuá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Line 9"/>
          <p:cNvSpPr/>
          <p:nvPr/>
        </p:nvSpPr>
        <p:spPr>
          <a:xfrm flipH="1">
            <a:off x="2437920" y="2971800"/>
            <a:ext cx="1219320" cy="12193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Text Box 10"/>
          <p:cNvSpPr/>
          <p:nvPr/>
        </p:nvSpPr>
        <p:spPr>
          <a:xfrm>
            <a:off x="1557720" y="3244680"/>
            <a:ext cx="149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&lt;&lt; include &gt;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Line 11"/>
          <p:cNvSpPr/>
          <p:nvPr/>
        </p:nvSpPr>
        <p:spPr>
          <a:xfrm>
            <a:off x="5638680" y="2971800"/>
            <a:ext cx="1143000" cy="12193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Text Box 12"/>
          <p:cNvSpPr/>
          <p:nvPr/>
        </p:nvSpPr>
        <p:spPr>
          <a:xfrm>
            <a:off x="6282000" y="3244680"/>
            <a:ext cx="149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&lt;&lt; include &gt;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933A-FD28-40DB-BEA0-5E2AB641266C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Inclusã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Descrição de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Consultar sal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Fluxo de Eventos Principal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include (Autenticar usuário)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. Sistema pede a Cliente que selecione tipo de conta (corrente, etc). 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FF37-7E42-4FD5-9BA9-CC9B33960ACA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Extensã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Use case pode ser estendido por outr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xtensão de funcionalidade/Caso excepcio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xtensão ocorre em pontos específic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ontos de extens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5AEC-AB2B-4166-9F93-B08C9B0E6AB7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Extensã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Há também inclusão de texto (fluxo de evento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orém sob condições particula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Pode ser usada par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implificar fluxos de eventos complex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epresentar comportamentos opcion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Lidar com exceçõ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3968-16C6-4BF8-8827-257212CF29B0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Extensã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03" name="Oval 3"/>
          <p:cNvSpPr/>
          <p:nvPr/>
        </p:nvSpPr>
        <p:spPr>
          <a:xfrm>
            <a:off x="5996160" y="2895480"/>
            <a:ext cx="2361960" cy="106704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Text Box 4"/>
          <p:cNvSpPr/>
          <p:nvPr/>
        </p:nvSpPr>
        <p:spPr>
          <a:xfrm>
            <a:off x="5697000" y="3902040"/>
            <a:ext cx="300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tendi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ontos de extens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urg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Oval 5"/>
          <p:cNvSpPr/>
          <p:nvPr/>
        </p:nvSpPr>
        <p:spPr>
          <a:xfrm>
            <a:off x="304920" y="2895480"/>
            <a:ext cx="2361960" cy="106704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Text Box 6"/>
          <p:cNvSpPr/>
          <p:nvPr/>
        </p:nvSpPr>
        <p:spPr>
          <a:xfrm>
            <a:off x="408240" y="3902040"/>
            <a:ext cx="205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tendi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e urgê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Line 7"/>
          <p:cNvSpPr/>
          <p:nvPr/>
        </p:nvSpPr>
        <p:spPr>
          <a:xfrm>
            <a:off x="2666880" y="3429000"/>
            <a:ext cx="33530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Text Box 8"/>
          <p:cNvSpPr/>
          <p:nvPr/>
        </p:nvSpPr>
        <p:spPr>
          <a:xfrm>
            <a:off x="3537360" y="2743200"/>
            <a:ext cx="14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&lt;&lt; extend &gt;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(urgent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9AD7-F0F6-46C6-9C66-AAC6DFCB0A9D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Extensã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Descrição de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Atendimen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Fluxo de Eventos Principal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lete os itens do pedido. </a:t>
            </a: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(urgente)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. Submeta pedido para processament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13:07:07Z</dcterms:created>
  <dc:creator>acm</dc:creator>
  <dc:description/>
  <dc:language>en-US</dc:language>
  <cp:lastModifiedBy>Alexandre Vasconcelos</cp:lastModifiedBy>
  <dcterms:modified xsi:type="dcterms:W3CDTF">2010-04-06T14:35:40Z</dcterms:modified>
  <cp:revision>270</cp:revision>
  <dc:subject/>
  <dc:title>Processos da Engenharia de Requisitos</dc:title>
</cp:coreProperties>
</file>