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002960" y="694800"/>
            <a:ext cx="484812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dt" idx="19"/>
          </p:nvPr>
        </p:nvSpPr>
        <p:spPr>
          <a:xfrm>
            <a:off x="3881520" y="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0"/>
          </p:nvPr>
        </p:nvSpPr>
        <p:spPr>
          <a:xfrm>
            <a:off x="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21"/>
          </p:nvPr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10001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6F1820-48BF-4EBA-9FEE-7D05C09B4C51}" type="slidenum">
              <a:rPr b="0" lang="en-GB" sz="1400" spc="-1" strike="noStrike">
                <a:solidFill>
                  <a:srgbClr val="01000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0836AC-005D-48E5-915B-5F1742544DE7}" type="slidenum">
              <a:rPr b="0" lang="en-GB" sz="1400" spc="-1" strike="noStrike">
                <a:solidFill>
                  <a:srgbClr val="01000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D77E-651E-427D-8507-68CF05725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E92F-B507-4505-A08C-0E0ED858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78C3-69F3-42BB-A8E8-441F1B61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E97B-DC2E-4434-B415-2E00552DE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2E44-1225-461E-9552-77FB2A63E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A9FB-7F76-4680-A56A-A4D1C2F5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2671-67FD-4C0A-9EBD-B4047879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4C33-5598-4AAC-B2A7-54B513BB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81DE-3457-4B20-A039-68B22966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9871-CAA3-4859-9E75-7DF4A324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2279-EF6E-4277-98B0-D773B41E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0D02-3014-4FE8-9FC1-BFED9C73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4519-9BAD-4FC5-8C8C-BA9E04C0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F8D4-5799-4F66-8041-4D8C61C8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7601-2EC8-447A-985B-43E8047F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7EC2-D0F1-47E6-A694-9E3A4CA0F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97A7-97E0-42D2-BE9F-68BAD0D2C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2A67F-21AF-40C6-8F26-D01DAAFBC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01F28-F447-41D8-9152-60B28EC5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CA46A-F0DE-4866-88F1-39DE2E9A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0B38C-E596-4047-B832-DE1F825D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30D96-0765-4C4D-ACD6-AC787654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3149-FABE-4BEE-94E4-3C21FC59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63066-98EF-4E2E-A211-26326294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94951-FF81-45C1-9C26-5179BF14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4663D-0363-4FF1-9AF9-07DACAB6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2D195-A6ED-40E7-B7B9-15BB0FF8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36818-63CA-4D59-BF4B-2B7D1882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466DC-7974-43B7-9E06-9987CFC1D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84CB7-360F-4625-9200-FFD1FBC20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F5C4BE-982D-4E28-923D-700EAEEE7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D7DFE2-FDB2-4EE0-B75A-EB681F51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6F9052-2A32-4D82-A27D-D7545D91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A982-375B-4D41-B478-E2063151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5B5CA3-38F0-4A10-96B6-337C85E4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3D2448-F822-4DE3-918C-3984BB92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3867A1-E770-4DBE-9141-2562FC5C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F7983E-6689-43BF-97BD-D23E4A92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9D075B-D156-4FEB-86B4-45BD0AE7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97918B-443D-4D1F-897F-0C8FEC5A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EA4370-957E-45AB-9D70-30F134C5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01A5A0-4CCD-43E0-8C87-921CCA5BD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4DB18E-70B4-41ED-948E-1B7F36189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BEE99C-21E7-45CF-9E3E-B1C9EC493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4172-72F7-4596-9E1A-1ECFB848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F003EC-F1B6-4BD1-B2FF-0EF673EE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13F7AD-CEA1-4EF5-B038-8E9C6D1F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44B02A-3627-4CFE-8F02-D1731205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74C2BE-BF18-4562-8CEA-83055238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5549B9-D241-4802-8452-B88F1BDA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DB4D47-8118-499D-9F65-062AC784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C6F053-92A6-4EA3-A2D7-2BE7CCC3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D03B5D-B9C3-45D1-9E07-DD0BD47E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F00DCB-5B97-4F83-BDEA-8B670288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E94F70-2A2A-40A5-993B-6C074BE3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9E01-9E8A-451A-AD3C-33FA4AE3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4855B9-3DB9-4575-828E-776303877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9DAEE7-8CBC-413D-95C7-21921BD3E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AC15ED-953E-4F55-9E3B-D8219981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EE2B1D-71BB-41C0-89D4-CE8EAB4C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D2AF19-7027-4EC7-A6F9-0D4387F8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FA653F-13C5-4602-9EBD-0C9D1EC6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03E0C1-2267-4DE9-9E54-0BB5ADDE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83C3E7-6088-4971-89E0-66FF8A6D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44F28C-E247-4127-8002-BBAC08CC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51A2A0-7566-4E5D-ADA8-2A2544E5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6CF2-0A2D-424A-8B4D-547DDBB8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2E9E91-C3B2-4429-A510-58E7F692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6FEE86-E93C-4426-88BC-7B6EBE919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CA39DF-596E-4729-A9F6-F5B33ED3B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615D-245C-4349-995F-3E54EEF1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E84D-79E2-42D3-AE7C-2AF5EADE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39307CA-22B4-4D5A-8A6D-1D36DFD44433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ângulo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tângulo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tângulo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tângulo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Conector reto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Conector reto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Conector reto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Conector reto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Conector reto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Conector reto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tângulo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Elipse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Elipse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Elipse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Elipse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Elipse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86FEB2D-A056-42C2-966D-AC92B820B02B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tângulo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tângulo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tângulo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tângulo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Conector reto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Conector reto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Conector reto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Conector reto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Conector reto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tângulo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E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Elipse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E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Elipse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Elipse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Conector reto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6E8D6E9-F296-4212-8763-002E553F57E5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B070E46-8341-4E15-83E8-788DB0FA9641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ector reto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Conector reto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Conector reto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Conector reto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tângulo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Conector reto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Elipse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AAB71F2-8725-47A1-8BA1-F9D93084B05A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Conector reto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Elipse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Conector reto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tângulo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Conector reto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Conector reto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Conector reto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A2809D4-DC11-46FD-8F74-3F576C12D0FA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575f6d"/>
                </a:solidFill>
                <a:latin typeface="Century Schoolbook"/>
              </a:rPr>
              <a:t>Planejamento e Gerenciamento de Projetos com o MS Project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entury Schoolbook"/>
              </a:rPr>
              <a:t>Victor Aciol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entury Schoolbook"/>
              </a:rPr>
              <a:t>Antônio Carlo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entury Schoolbook"/>
              </a:rPr>
              <a:t>http://www.cin.ufpe.br/~if682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575f6d"/>
                </a:solidFill>
                <a:latin typeface="Century Schoolbook"/>
              </a:rPr>
              <a:t>REQUISITOS ESCOLHIDO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entury Schoolbook"/>
              </a:rPr>
              <a:t>Consultar (Saldo e Extrato CC e Poupança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entury Schoolbook"/>
              </a:rPr>
              <a:t>Compra e Venda de açõ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entury Schoolbook"/>
              </a:rPr>
              <a:t>Realizar transferência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entury Schoolbook"/>
              </a:rPr>
              <a:t>Consultar cotaçõ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575f6d"/>
                </a:solidFill>
                <a:latin typeface="Century Schoolbook"/>
              </a:rPr>
              <a:t>RECURSO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entury Schoolbook"/>
              </a:rPr>
              <a:t>Todo recurso possui um custo associado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entury Schoolbook"/>
              </a:rPr>
              <a:t>Dois tipo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Trabalh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Custo por hor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Hora extr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% de dedicaçã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Materia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Custo por unidad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Custo por us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575f6d"/>
                </a:solidFill>
                <a:latin typeface="Century Schoolbook"/>
              </a:rPr>
              <a:t>CUSTO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entury Schoolbook"/>
              </a:rPr>
              <a:t>Normalmente é uma função do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Tamanho do produt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Ad ho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Linhas de Códig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Número de class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Habilidades da equip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Ambiente (ferramentas e técnicas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Complexidade do produt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Qualidade do Produt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575f6d"/>
                </a:solidFill>
                <a:latin typeface="Century Schoolbook"/>
              </a:rPr>
              <a:t>ESTIMANDO CUSTOS...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entury Schoolbook"/>
              </a:rPr>
              <a:t>Inúmeras maneira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Por Analogia (Top-down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Bottom-up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Paramétric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Algoritmos matemát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Julgamento de Especialista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Análise de três pontos (PERT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575f6d"/>
                </a:solidFill>
                <a:latin typeface="Century Schoolbook"/>
              </a:rPr>
              <a:t>MS PROJEC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39" name="Imagem 2" descr="project2007.gif"/>
          <p:cNvPicPr/>
          <p:nvPr/>
        </p:nvPicPr>
        <p:blipFill>
          <a:blip r:embed="rId1"/>
          <a:stretch/>
        </p:blipFill>
        <p:spPr>
          <a:xfrm>
            <a:off x="2714760" y="2214720"/>
            <a:ext cx="326232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575f6d"/>
                </a:solidFill>
                <a:latin typeface="Century Schoolbook"/>
              </a:rPr>
              <a:t>DOTPROJECT - OPENSOURCE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41" name="Picture 2" descr="logo"/>
          <p:cNvPicPr/>
          <p:nvPr/>
        </p:nvPicPr>
        <p:blipFill>
          <a:blip r:embed="rId1"/>
          <a:stretch/>
        </p:blipFill>
        <p:spPr>
          <a:xfrm>
            <a:off x="1214280" y="2643120"/>
            <a:ext cx="62532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75f6d"/>
                </a:solidFill>
                <a:latin typeface="Century Schoolbook"/>
              </a:rPr>
              <a:t>MS PROJEC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59984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Schoolbook"/>
              </a:rPr>
              <a:t>Ferramenta de Gestão de Projetos que disponibiliza gestão das seguintes área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Cust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Temp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Recurs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Human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Materia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575f6d"/>
                </a:solidFill>
                <a:latin typeface="Century Schoolbook"/>
              </a:rPr>
              <a:t>Planilha de Recurso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45" name="Imagem 4" descr="recursos2.jpg"/>
          <p:cNvPicPr/>
          <p:nvPr/>
        </p:nvPicPr>
        <p:blipFill>
          <a:blip r:embed="rId1"/>
          <a:stretch/>
        </p:blipFill>
        <p:spPr>
          <a:xfrm>
            <a:off x="123840" y="2881440"/>
            <a:ext cx="859140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575f6d"/>
                </a:solidFill>
                <a:latin typeface="Century Schoolbook"/>
              </a:rPr>
              <a:t>Planilha de Dado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47" name="Imagem 3" descr="atividades.jpg"/>
          <p:cNvPicPr/>
          <p:nvPr/>
        </p:nvPicPr>
        <p:blipFill>
          <a:blip r:embed="rId1"/>
          <a:stretch/>
        </p:blipFill>
        <p:spPr>
          <a:xfrm>
            <a:off x="642960" y="1785960"/>
            <a:ext cx="76867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575f6d"/>
                </a:solidFill>
                <a:latin typeface="Century Schoolbook"/>
              </a:rPr>
              <a:t>GRÁFICO DE GANTT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entury Schoolbook"/>
              </a:rPr>
              <a:t>Criado por Henry Gant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entury Schoolbook"/>
              </a:rPr>
              <a:t>Ilustra as datas de início e fim e as atividades que compõe o cronogram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entury Schoolbook"/>
              </a:rPr>
              <a:t>Podem mostrar as dependências entre atividad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entury Schoolbook"/>
              </a:rPr>
              <a:t>É fácil de ser entendido, no entanto pode ser inviável para grandes projeto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entury Schoolbook"/>
              </a:rPr>
              <a:t>Pouca informação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575f6d"/>
                </a:solidFill>
                <a:latin typeface="Century Schoolbook"/>
              </a:rPr>
              <a:t>O que é um projeto?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entury Schoolbook"/>
              </a:rPr>
              <a:t>Um empreendimento </a:t>
            </a:r>
            <a:r>
              <a:rPr b="1" lang="pt-BR" sz="3200" spc="-1" strike="noStrike">
                <a:solidFill>
                  <a:srgbClr val="000000"/>
                </a:solidFill>
                <a:latin typeface="Century Schoolbook"/>
              </a:rPr>
              <a:t>temporário</a:t>
            </a:r>
            <a:r>
              <a:rPr b="0" lang="pt-BR" sz="3200" spc="-1" strike="noStrike">
                <a:solidFill>
                  <a:srgbClr val="000000"/>
                </a:solidFill>
                <a:latin typeface="Century Schoolbook"/>
              </a:rPr>
              <a:t> realizado para criar um produto ou serviço </a:t>
            </a:r>
            <a:r>
              <a:rPr b="1" lang="pt-BR" sz="3200" spc="-1" strike="noStrike">
                <a:solidFill>
                  <a:srgbClr val="000000"/>
                </a:solidFill>
                <a:latin typeface="Century Schoolbook"/>
              </a:rPr>
              <a:t>único</a:t>
            </a:r>
            <a:r>
              <a:rPr b="0" lang="pt-BR" sz="3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575f6d"/>
                </a:solidFill>
                <a:latin typeface="Century Schoolbook"/>
              </a:rPr>
              <a:t>Gráfico de Gant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1" name="Imagem 3" descr="chartt.jpg"/>
          <p:cNvPicPr/>
          <p:nvPr/>
        </p:nvPicPr>
        <p:blipFill>
          <a:blip r:embed="rId1"/>
          <a:stretch/>
        </p:blipFill>
        <p:spPr>
          <a:xfrm>
            <a:off x="1000080" y="1571760"/>
            <a:ext cx="65721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575f6d"/>
                </a:solidFill>
                <a:latin typeface="Century Schoolbook"/>
              </a:rPr>
              <a:t>Diagrama de Rede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3" name="Imagem 4" descr="grafico.jpg"/>
          <p:cNvPicPr/>
          <p:nvPr/>
        </p:nvPicPr>
        <p:blipFill>
          <a:blip r:embed="rId1"/>
          <a:stretch/>
        </p:blipFill>
        <p:spPr>
          <a:xfrm>
            <a:off x="285840" y="1643040"/>
            <a:ext cx="814392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575f6d"/>
                </a:solidFill>
                <a:latin typeface="Century Schoolbook"/>
              </a:rPr>
              <a:t>DÚVIDAS...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575f6d"/>
                </a:solidFill>
                <a:latin typeface="Century Schoolbook"/>
              </a:rPr>
              <a:t>Características do projeto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Temporário</a:t>
            </a:r>
            <a:r>
              <a:rPr b="0" lang="pt-BR" sz="3200" spc="-1" strike="noStrike">
                <a:solidFill>
                  <a:srgbClr val="000000"/>
                </a:solidFill>
                <a:latin typeface="Century Schoolbook"/>
              </a:rPr>
              <a:t>: Início e fim bem definido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Específico</a:t>
            </a:r>
            <a:r>
              <a:rPr b="0" lang="pt-BR" sz="3200" spc="-1" strike="noStrike">
                <a:solidFill>
                  <a:srgbClr val="000000"/>
                </a:solidFill>
                <a:latin typeface="Century Schoolbook"/>
              </a:rPr>
              <a:t>: Determina um único objetivo fina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Mensurável</a:t>
            </a:r>
            <a:r>
              <a:rPr b="0" lang="pt-BR" sz="3200" spc="-1" strike="noStrike">
                <a:solidFill>
                  <a:srgbClr val="000000"/>
                </a:solidFill>
                <a:latin typeface="Century Schoolbook"/>
              </a:rPr>
              <a:t>: Permite análises baseadas em medições (tempo, custo, quantidade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Mutável</a:t>
            </a:r>
            <a:r>
              <a:rPr b="0" lang="pt-BR" sz="3200" spc="-1" strike="noStrike">
                <a:solidFill>
                  <a:srgbClr val="000000"/>
                </a:solidFill>
                <a:latin typeface="Century Schoolbook"/>
              </a:rPr>
              <a:t>: Sujeita-se a contratempos de performance, de custos e de recurso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-21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575f6d"/>
                </a:solidFill>
                <a:latin typeface="Century Schoolbook"/>
              </a:rPr>
              <a:t>Gerência de Projetos PMBOK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028520"/>
            <a:ext cx="7427880" cy="54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9 áreas de conhecimento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5480" indent="-31176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entury Schoolbook"/>
              </a:rPr>
              <a:t>Cus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5320" indent="-3117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Estimativas, orçamentos e controle de custo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5320" indent="-3117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Terminar o projeto dentro do orçamento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5480" indent="-31176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entury Schoolbook"/>
              </a:rPr>
              <a:t>T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5320" indent="-3117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Gerenciar o término pontual do projeto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5480" indent="-31176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entury Schoolbook"/>
              </a:rPr>
              <a:t>Esco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5320" indent="-3117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Assegurar que o projeto inclui todo o trabalho necessário para terminar o projeto com sucesso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5480" indent="-31176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entury Schoolbook"/>
              </a:rPr>
              <a:t>R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5320" indent="-3117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Organizar e gerenciar a equipe do projet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5480" indent="-31176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entury Schoolbook"/>
              </a:rPr>
              <a:t>Qualidad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5320" indent="-3117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Atividades que determinam as políticas de qualidade e os objetivos que satisfaçam o projeto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5320" indent="-3117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Melhoria contínua dos processo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-21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575f6d"/>
                </a:solidFill>
                <a:latin typeface="Century Schoolbook"/>
              </a:rPr>
              <a:t>Gerência de Projetos PMBOK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028520"/>
            <a:ext cx="7427880" cy="54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842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09560" indent="-34272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entury Schoolbook"/>
              </a:rPr>
              <a:t>Integraçã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84240" indent="-3427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Atividades necessárias para combinar, unificar e coordenar todas as atividades do projeto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09560" indent="-34272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entury Schoolbook"/>
              </a:rPr>
              <a:t>Comunicaçã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84240" indent="-3427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Assegurar que as informações do projeto sejam geradas, coletadas, distribuídas e armazenada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09560" indent="-34272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entury Schoolbook"/>
              </a:rPr>
              <a:t>Ris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84240" indent="-3427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Planejar, identificar, analisar, monitorar e controlar os riscos do projeto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09560" indent="-34272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entury Schoolbook"/>
              </a:rPr>
              <a:t>Aquisiçã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84240" indent="-3427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Comprar ou adquirir produtos e serviços externos à equipe do projeto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575f6d"/>
                </a:solidFill>
                <a:latin typeface="Century Schoolbook"/>
              </a:rPr>
              <a:t>Gerência de Projeto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entury Schoolbook"/>
              </a:rPr>
              <a:t>É a aplicação de princípios de administração para planificar tarefas, organizar pessoal, controlar execução e re-escalonar recursos a fim de obter sucesso em um objetivo maior, o projeto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575f6d"/>
                </a:solidFill>
                <a:latin typeface="Century Schoolbook"/>
              </a:rPr>
              <a:t>Gerenciamento de Projeto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24" name="Object 3"/>
          <p:cNvGraphicFramePr/>
          <p:nvPr/>
        </p:nvGraphicFramePr>
        <p:xfrm>
          <a:off x="826920" y="1306440"/>
          <a:ext cx="7561440" cy="506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306440"/>
                    <a:ext cx="7561440" cy="506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575f6d"/>
                </a:solidFill>
                <a:latin typeface="Century Schoolbook"/>
              </a:rPr>
              <a:t>Milestones e Deliverable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entury Schoolbook"/>
              </a:rPr>
              <a:t>Milestones: Ponto final de uma atividade do processo de software (um marco no cronograma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entury Schoolbook"/>
              </a:rPr>
              <a:t>Deliverables: Resultado a ser entregue ao cliente. Usualmente entregue ao final de uma fase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entury Schoolbook"/>
              </a:rPr>
              <a:t>Estes pontos servem de balizadores do acompanhamento ou controle para identificação de alteraçõ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575f6d"/>
                </a:solidFill>
                <a:latin typeface="Century Schoolbook"/>
              </a:rPr>
              <a:t>O QIB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entury Schoolbook"/>
              </a:rPr>
              <a:t>Qualiti Internet Banking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Schoolbook"/>
              </a:rPr>
              <a:t>Sistema bancário acessado via Internet que oferece aos clientes maior comodidade para realizar uma série de operaçõ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liente</dc:creator>
  <dc:description/>
  <dc:language>en-US</dc:language>
  <cp:lastModifiedBy>Alexandre Vasconcelos</cp:lastModifiedBy>
  <dcterms:modified xsi:type="dcterms:W3CDTF">2010-03-29T12:08:02Z</dcterms:modified>
  <cp:revision>51</cp:revision>
  <dc:subject/>
  <dc:title>Como iniciar um projeto</dc:title>
</cp:coreProperties>
</file>