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2F4-877A-4E8B-A8C4-521FCBBDA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B5E2-5E0E-487A-9B14-6114BAA7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1E2-C768-4A43-B8A1-A1A853BF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A20-6337-41CE-976B-390D7F69E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D00-2012-4F41-8466-AA1346CB0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F96-AFF6-4FD9-B9A2-72081A83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3922560" y="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92256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pt-PT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672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78200" cy="35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90D-319B-48E6-BC56-CD93CAA1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73DF-41E9-4F2B-86F3-5AB425EC8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D1F-ACFE-4C2E-B61D-23DAAF8D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05F-154B-408C-BBF3-A6E25A44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BF-4162-41BA-BA68-A37C57E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471-6EA0-494E-A5FE-51EB9E0F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21B-241D-424F-B7B3-17B2B7FD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BD8-C199-4FE5-97EA-46C21E5F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8530-0AB4-4574-A32E-056C5987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5D6B-A539-469F-9EF3-55C4B97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B46-6A4F-4F78-8A0F-CAB1575D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B5B7-A705-425D-9DB8-BC549BD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3682-FA26-4916-9929-E287F981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6D9-4D54-4FFC-991B-932F955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CD5-46BE-48F9-B33E-A1B39360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E5C-711E-4724-834B-2260437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7BB-F2B5-4A6B-BFA0-2B2DF34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6754-6DAD-44EF-B142-C2D231C9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E5FC-A838-48FB-934D-499C6853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FBCE-A42F-4014-8C2C-E9DE3978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218-2952-48F5-A533-13F95E5C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A55-3A54-47F5-B04F-64A953C4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E72-4E9A-47DB-9826-F3E5A707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AAD-6099-4D0F-A2ED-690624A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B07-FE8B-4811-B515-6D4CE57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8FB-1BFD-4F17-AD1C-E1905377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D92-C6D2-409D-B34E-856DC50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16A5-5D16-4C2A-881C-EECEF4726B2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58E7-0DEA-438C-A13A-DF885A373486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3395-C8B7-4131-A592-1FA8F76138E6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ão Geral sobre Ciclo de Vida de Software, Processos e R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exandre Vasconce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7C6-DA1F-4168-8126-F4C83BEDF0D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Programação Exploratór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Tem sido mais usada no desenvolvimento de sistemas especialistas - geralmente sistemas que tentam emular capacidades human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A maioria dos sistemas desenvolvidos com sucesso usando a programação exploratória foi implementada usando pequenos grupos de profissionais altamente qualificados e motiv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C524-312F-47C3-A4E0-9A71FDF66C9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Prototipagem Descartá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Como na programação exploratória, a primeira fase prevê o desenvolvimento de um programa para o usuário experimenta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No entanto, o objetivo aqui é estabelecer os requisitos do sistem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O software deve ser reimplementado na fase segui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A construção de protótipos com os quais os usuários possam brincar é uma idéia bastante atrat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Para sistemas grandes e complic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Quando não existe um sistema anterior ou um sistema manual que ajude a especificar os requisit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CE2E-6F2C-4405-B6A4-FCFAD2E09CC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Prototipagem Descartá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Os objetivos do protótipo devem estar bem claros </a:t>
            </a:r>
            <a:r>
              <a:rPr b="0" i="1" lang="pt-PT" sz="2400" spc="-1" strike="noStrike">
                <a:solidFill>
                  <a:srgbClr val="000000"/>
                </a:solidFill>
                <a:latin typeface="Comic Sans MS"/>
              </a:rPr>
              <a:t>antes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do início da codificação.  Possíveis objetiv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Entender os requisitos d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Definir a interface com 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Demonstrar a viabilidade do sistemas para os gerent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Uma decisão importante a ser tomada é escolher o que será e o que não será parte do protóti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Não é economicamente viável implementar todo o sistema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Os objetivos do protótipo são o ponto de par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72A1-8FE3-46AA-807F-9CD2CA9D4A7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Transformação Form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Idéia ger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Uma especificação formal (definição matemática, não ambígua) do software é desenvolvida e posteriormente “transformada” em um programa através de regras que preservam a corretude da especific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1371600" y="5562720"/>
            <a:ext cx="6688080" cy="588960"/>
            <a:chOff x="1371600" y="5562720"/>
            <a:chExt cx="6688080" cy="588960"/>
          </a:xfrm>
        </p:grpSpPr>
        <p:sp>
          <p:nvSpPr>
            <p:cNvPr id="202" name="Rectangle 8"/>
            <p:cNvSpPr/>
            <p:nvPr/>
          </p:nvSpPr>
          <p:spPr>
            <a:xfrm>
              <a:off x="1371600" y="5573880"/>
              <a:ext cx="1298520" cy="56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3427200" y="5586480"/>
              <a:ext cx="1298520" cy="56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800" spc="-1" strike="noStrike">
                  <a:solidFill>
                    <a:srgbClr val="1c1c1c"/>
                  </a:solidFill>
                  <a:latin typeface="Times New Roman"/>
                </a:rPr>
                <a:t>esp. 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6761160" y="5562720"/>
              <a:ext cx="1298520" cy="56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1632240" y="5643720"/>
              <a:ext cx="720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800" spc="-1" strike="noStrike">
                  <a:solidFill>
                    <a:srgbClr val="1c1c1c"/>
                  </a:solidFill>
                  <a:latin typeface="Times New Roman"/>
                </a:rPr>
                <a:t>esp. 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245640" y="5675400"/>
              <a:ext cx="1796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571680"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PT" sz="1800" spc="-1" strike="noStrike">
                  <a:solidFill>
                    <a:srgbClr val="1c1c1c"/>
                  </a:solidFill>
                  <a:latin typeface="Times New Roman"/>
                </a:rPr>
                <a:t>implement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2660400" y="58644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4722840" y="5848560"/>
              <a:ext cx="40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>
              <a:off x="5111640" y="584856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5846760" y="5848560"/>
              <a:ext cx="92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F74-FA84-4F31-B88A-0467C2C3BC2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Transformação Form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A grande motivação por trás da idéia de refinamento formal é a possibilidade de gerar automaticamente programas que são corretos por constr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O próprio processo de desenvolvimento deve grantir que o programa faz exatamente o que foi especifi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modelo tem sido aplicado ao desenvolvimento de sistemas críticos, especialmente naqueles onde a segurança é um fator crítico (ex: sistema de controle de tráfego aére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506-2859-4803-8F84-367EA22B74F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  <a:ea typeface="Arial"/>
              </a:rPr>
              <a:t>Modelo de Desenvolvimento </a:t>
            </a:r>
            <a:br>
              <a:rPr sz="4400"/>
            </a:br>
            <a:r>
              <a:rPr b="0" lang="pt-BR" sz="4400" spc="-1" strike="noStrike">
                <a:solidFill>
                  <a:srgbClr val="333399"/>
                </a:solidFill>
                <a:latin typeface="Comic Sans MS"/>
                <a:ea typeface="Arial"/>
              </a:rPr>
              <a:t>Baseado em Re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seado no reuso sistemático de componentes existentes ou sistemas COTS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Commercial-off-the-shel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tapas do proc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ção dos requisi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nálise de compon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ificação dos requisi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jeto de sistema com reu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nvolvimento e integr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lid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 abordagem está se tornando mais importante, mas há ainda pouca experiência com e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D20C-84EC-4A02-915B-B003B1B9156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  <a:ea typeface="Arial"/>
              </a:rPr>
              <a:t>Modelo de Desenvolvimento </a:t>
            </a:r>
            <a:br>
              <a:rPr sz="4400"/>
            </a:br>
            <a:r>
              <a:rPr b="0" lang="pt-BR" sz="4400" spc="-1" strike="noStrike">
                <a:solidFill>
                  <a:srgbClr val="333399"/>
                </a:solidFill>
                <a:latin typeface="Comic Sans MS"/>
                <a:ea typeface="Arial"/>
              </a:rPr>
              <a:t>Baseado em Re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720" y="2362320"/>
            <a:ext cx="7522560" cy="2132640"/>
            <a:chOff x="990720" y="2362320"/>
            <a:chExt cx="7522560" cy="2132640"/>
          </a:xfrm>
        </p:grpSpPr>
        <p:sp>
          <p:nvSpPr>
            <p:cNvPr id="220" name="Text Box 4"/>
            <p:cNvSpPr/>
            <p:nvPr/>
          </p:nvSpPr>
          <p:spPr>
            <a:xfrm>
              <a:off x="990720" y="2362320"/>
              <a:ext cx="136764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pecificação de Requisit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3042360" y="2362320"/>
              <a:ext cx="136764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álise de Componen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5094000" y="2362320"/>
              <a:ext cx="150768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ificação de Requisit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7145640" y="2362320"/>
              <a:ext cx="136764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jeto de Sistema com Reus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2358360" y="285300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4410000" y="2853000"/>
              <a:ext cx="6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6633000" y="2853000"/>
              <a:ext cx="51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5094000" y="3710160"/>
              <a:ext cx="170964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envolvimento e Integraçã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316640" y="3710160"/>
              <a:ext cx="1196280" cy="7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ção do Sis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6803640" y="4216320"/>
              <a:ext cx="51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29280" y="3219480"/>
              <a:ext cx="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 flipH="1">
              <a:off x="5948640" y="3552840"/>
              <a:ext cx="188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5949000" y="355284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63A-000C-4C4F-AAF2-5DCF2C0780B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s Iterativ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 de sistema SEMPRE evoluem durante curso de um projeto. Assim a iteração do processo sempre faz parte do desenvolvimento de grandes 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terações podem ser aplicadas a quaisquer dos modelos de ciclo de vid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uas abordagens (relacionad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nvolvimento espir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nvolvimento increme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51A4-E565-40E1-8205-B7CD28AE755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esenvolvimento Espir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crescenta aspectos gerenciais ao processo de desenvolvimento de software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nálise de riscos em intervalos regulares do processo de desenvolvimento de soft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mada de deci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O processo é representado como uma espiral em vez de uma seqüência de ativida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volta na espiral representa uma fase no process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ão há fases fixas como especificação ou projeto - voltas na espiral são escolhidas dependendo do que é requeri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iscos são avaliados explicitamente e resolvidos ao longo do process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FCB-4607-496D-A3D7-34D6AB5D81B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esenvolvimento Espir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3075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1371600" y="1905120"/>
            <a:ext cx="6613560" cy="4572000"/>
            <a:chOff x="1371600" y="1905120"/>
            <a:chExt cx="6613560" cy="4572000"/>
          </a:xfrm>
        </p:grpSpPr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1371600" y="1905120"/>
              <a:ext cx="66135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6"/>
            <p:cNvSpPr/>
            <p:nvPr/>
          </p:nvSpPr>
          <p:spPr>
            <a:xfrm>
              <a:off x="1512000" y="2057760"/>
              <a:ext cx="1618200" cy="380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terminação dos objetivos, alternativas e restriçõ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6975000" y="2972160"/>
              <a:ext cx="939600" cy="668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álise de Risco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5522400" y="2133720"/>
              <a:ext cx="1911240" cy="252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5733360" y="2057760"/>
              <a:ext cx="2050560" cy="380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</a:t>
              </a: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álise das alternativas e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</a:t>
              </a: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entificação e/ou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</a:t>
              </a: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olução de risco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6296400" y="5867640"/>
              <a:ext cx="1617840" cy="55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senvolvimento e validação da versão corrente do produt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6858000" y="4986720"/>
              <a:ext cx="1028520" cy="5889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mulações,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os e benchmark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1864080" y="5639040"/>
              <a:ext cx="1125360" cy="303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nejamento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3060000" y="1981440"/>
              <a:ext cx="126612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14"/>
            <p:cNvSpPr/>
            <p:nvPr/>
          </p:nvSpPr>
          <p:spPr>
            <a:xfrm>
              <a:off x="4466880" y="1981440"/>
              <a:ext cx="126612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7F1B-C9DC-41D3-8896-D42DE5F8DE13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iclo de Vida e Processo de Desenvolvimento de 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3219-6DC1-4196-AAEF-004766E63F6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esenvolvimento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m vez de entregar o sistema como um todo, o desenvolvimento e a entrega são divididos em incrementos, com cada incremento entregando parte da funcionalidade requerid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Requisitos dos usuários são priorizados e os requisitos de mais alta prioridade são incluídos nas iterações iniciai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Uma vez que o desenvolvimento de um incremento é iniciado, os requisitos são "congelados". Embora os requisitos possam continuar a evoluir para incrementos posterior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m certos aspectos é similar à programação exploratória. No entanto, o escopo do sistema deve ser claramente entendido antes de se iniciar o desenvolviment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93C-0A6A-4488-9614-B667BA754AA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380880" y="2286000"/>
          <a:ext cx="856152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5615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Desenvolvimento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8D52-C6DD-4E91-847D-EFA8A092C55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junto de atividad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em definid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responsá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artefatos de entrada e saí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dependências entre as mesmas e ordem de exec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modelo de ciclo de vi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1D4C-B734-426F-BA24-7153BD2DDD6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uma ação regular e contínua (ou sucessão de ações) realizada de forma bem definida, levando a um resultad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um conjunto parcialmente ordenado de atividades (ou passos) para se atingir um 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fine quem está fazendo o que, quando e como para atingir um certo 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122-4E2C-4820-9FC5-E42F03F148F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ocesso versus Metodolog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lguns autores consideram que processos inclu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a metodolog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sso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cnologia (suporte de ferrament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utros consideram que uma metodologia é a especialização de um processo com um conjunto de método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E6D-F3AA-45D1-BF4C-D4B234B7695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étod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crição sistemática de como deve-se realizar uma determinada atividade ou taref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descrição é normalmente feita através de padrões e gu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xemplos: Método para descoberta de atores e casos de uso no RUP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5A2-B621-45FE-98A7-26D10F71FD1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de 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é uma representação de um processo, usualmente envolven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ividades a serem realiza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gentes que realizam as ativ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rtefatos (produtos) ger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cursos necessários (consumid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E148-8F4E-492D-A402-39F03295112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de 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 modelo é usado para entendimento e comunicação do processo, e como base para análise, execução, gerência e melhoria do process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dealmente a descrição deve ser formal e completa para permitir, por exemplo, autom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descrição deve ser apresentada em diferentes níveis de abstraçã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73AE-E733-48D2-99FF-AF323EA6913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de Proces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formalismo utilizado para representar o processo é o ingrediente mais importante da modelage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ão parece haver consenso sobre um formalismo ide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rminologias distint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se, workflow, domínio, disciplina, Ativida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s há esforço de padronização (SPEM e BPMN – OM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ECBE-4C29-48BA-9364-EC02B85205B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s de process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cessos tradicionais (pesad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UP, OPEN, Catalysi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cessos ágeis (lev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P, Agile modeling, Crystal, pragmatic programming, Internet Speed, Scrum,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C7F9-978B-4263-9D2C-6E55B350219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3399"/>
                </a:solidFill>
                <a:latin typeface="Comic Sans MS"/>
              </a:rPr>
              <a:t>O que é um modelo de ciclo de vida de processo de software?</a:t>
            </a:r>
            <a:endParaRPr b="0" lang="en-US" sz="4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Uma representação abstrata e simplificada do processo de desenvolvimento software, tipicamente mostrando as principais atividades e dados usados na produção e manutenção de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8EFB-20CB-4B34-ABD6-B6C9D945B72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s de process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nsenso em torno 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terativ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ticipação de usuário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lexibilidade de configuração para projetos específ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unicação entre membros da equi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EDF-470A-44BD-99BE-24D6BAD974C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xemplos de process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vergências em torno 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alhamento de atividades a serem segui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tério de conclusão da execução das ativ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 robusta (RU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 para o contexto da iteração atual (agile model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igor na atribuição de tarefas a responsáve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orkers (RUP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ção sob demanda e interesse (X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tefatos (documentação) ge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ível de Autom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ível de (im)pessoa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92D-5438-4926-B70F-71D3C46D296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olêmic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a tendência é processos leves, afinal o desenvolvimento de software é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te+Sociologia+Psicologia+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ógica+Modelos+Engenharia+...?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 todo o esforço de consolidação da Engenharia de Software como uma ciência exata??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ompromi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Balancing agility and discip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847C-4C8B-4166-88EE-F31C0FAF1C45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Visão Geral do R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FD39-7674-4AEB-9488-D6EFE2761DA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é o RUP?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nome é uma abreviação de Rational Unified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s na verdade 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+ Métodos + Linguagem (UM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 os autores argumentam que 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Framework para gerar proces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E01-4549-41EC-8F5C-23579711CEB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é o RUP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junto de ativ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em definid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responsáve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artefatos de entrada e sa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dependências entre as mesmas e ordem de exec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modelo de ciclo de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rição sistemática de como devem ser realiz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uias (de ferramentas ou não)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empl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tilizando diagramas de U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7681-F707-435D-BBAC-F3C7214010F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aracterísticas Principais do RUP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O desenvolvimento de sistemas seguindo o RUP 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terativo e incremen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uiado por casos de uso (use cas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entrado na arquitetura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894-A577-4C1D-A266-8EEDB49E822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iterativo e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ciclo de vida de um sistema consiste de quatro f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990720" y="43434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epção (define o escopo do proje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laboração (detalha os requisitos e a arquitetu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strução (desenvolve o sistem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ansição (implanta o sistem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Group 5"/>
          <p:cNvGrpSpPr/>
          <p:nvPr/>
        </p:nvGrpSpPr>
        <p:grpSpPr>
          <a:xfrm>
            <a:off x="838080" y="3048120"/>
            <a:ext cx="7924680" cy="977760"/>
            <a:chOff x="838080" y="3048120"/>
            <a:chExt cx="7924680" cy="977760"/>
          </a:xfrm>
        </p:grpSpPr>
        <p:sp>
          <p:nvSpPr>
            <p:cNvPr id="309" name="Line 6"/>
            <p:cNvSpPr/>
            <p:nvPr/>
          </p:nvSpPr>
          <p:spPr>
            <a:xfrm>
              <a:off x="838080" y="37339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Text Box 7"/>
            <p:cNvSpPr/>
            <p:nvPr/>
          </p:nvSpPr>
          <p:spPr>
            <a:xfrm>
              <a:off x="1448280" y="36576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914400" y="3048120"/>
              <a:ext cx="7696080" cy="533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9"/>
            <p:cNvSpPr/>
            <p:nvPr/>
          </p:nvSpPr>
          <p:spPr>
            <a:xfrm>
              <a:off x="2743200" y="3048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10"/>
            <p:cNvSpPr/>
            <p:nvPr/>
          </p:nvSpPr>
          <p:spPr>
            <a:xfrm>
              <a:off x="4800600" y="3048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6705360" y="3048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12"/>
            <p:cNvSpPr/>
            <p:nvPr/>
          </p:nvSpPr>
          <p:spPr>
            <a:xfrm>
              <a:off x="1127520" y="316260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pçã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>
              <a:off x="3124080" y="312444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elaboraçã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5029920" y="312444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struçã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6934680" y="31244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transiçã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57EA-0BC7-4068-9475-A90FAC4BB72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iterativo e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da fase é dividida em iteraçõ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2895120" y="56386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or Milestones: Rele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5"/>
          <p:cNvGrpSpPr/>
          <p:nvPr/>
        </p:nvGrpSpPr>
        <p:grpSpPr>
          <a:xfrm>
            <a:off x="1143000" y="2742840"/>
            <a:ext cx="7620120" cy="1784520"/>
            <a:chOff x="1143000" y="2742840"/>
            <a:chExt cx="7620120" cy="1784520"/>
          </a:xfrm>
        </p:grpSpPr>
        <p:sp>
          <p:nvSpPr>
            <p:cNvPr id="324" name="Rectangle 6"/>
            <p:cNvSpPr/>
            <p:nvPr/>
          </p:nvSpPr>
          <p:spPr>
            <a:xfrm>
              <a:off x="1143000" y="2743200"/>
              <a:ext cx="7620120" cy="639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1143000" y="2743200"/>
              <a:ext cx="76201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8"/>
            <p:cNvSpPr/>
            <p:nvPr/>
          </p:nvSpPr>
          <p:spPr>
            <a:xfrm flipV="1">
              <a:off x="2495880" y="27432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9"/>
            <p:cNvSpPr/>
            <p:nvPr/>
          </p:nvSpPr>
          <p:spPr>
            <a:xfrm flipV="1">
              <a:off x="4205160" y="27428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10"/>
            <p:cNvSpPr/>
            <p:nvPr/>
          </p:nvSpPr>
          <p:spPr>
            <a:xfrm flipV="1">
              <a:off x="6768720" y="27428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1331640" y="2828880"/>
              <a:ext cx="1029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 Narrow"/>
                </a:rPr>
                <a:t>Incep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2746080" y="2828880"/>
              <a:ext cx="123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 Narrow"/>
                </a:rPr>
                <a:t>Elabo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4819320" y="2828880"/>
              <a:ext cx="135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 Narrow"/>
                </a:rPr>
                <a:t>Construc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35200" y="284472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 Narrow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1143000" y="3873600"/>
              <a:ext cx="7620120" cy="639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1143000" y="3873600"/>
              <a:ext cx="7620120" cy="63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17"/>
            <p:cNvSpPr/>
            <p:nvPr/>
          </p:nvSpPr>
          <p:spPr>
            <a:xfrm flipV="1">
              <a:off x="2495880" y="38736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18"/>
            <p:cNvSpPr/>
            <p:nvPr/>
          </p:nvSpPr>
          <p:spPr>
            <a:xfrm flipV="1">
              <a:off x="420516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19"/>
            <p:cNvSpPr/>
            <p:nvPr/>
          </p:nvSpPr>
          <p:spPr>
            <a:xfrm flipV="1">
              <a:off x="676872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 flipV="1">
              <a:off x="591444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 flipV="1">
              <a:off x="498852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 flipV="1">
              <a:off x="776592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 flipV="1">
              <a:off x="3350520" y="387324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838920" y="3917880"/>
              <a:ext cx="91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Tran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1355040" y="3917880"/>
              <a:ext cx="102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3350520" y="3917880"/>
              <a:ext cx="89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Architect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2495520" y="3917880"/>
              <a:ext cx="89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Architect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5983920" y="39178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Devel.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5058000" y="39178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Devel.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30"/>
            <p:cNvSpPr/>
            <p:nvPr/>
          </p:nvSpPr>
          <p:spPr>
            <a:xfrm>
              <a:off x="4203360" y="391788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Devel.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31"/>
            <p:cNvSpPr/>
            <p:nvPr/>
          </p:nvSpPr>
          <p:spPr>
            <a:xfrm>
              <a:off x="7835760" y="3917880"/>
              <a:ext cx="91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Tran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Times New Roman"/>
                </a:rPr>
                <a:t>iter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 flipV="1">
              <a:off x="2495880" y="33084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 flipV="1">
              <a:off x="5914440" y="338472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Line 34"/>
            <p:cNvSpPr/>
            <p:nvPr/>
          </p:nvSpPr>
          <p:spPr>
            <a:xfrm flipV="1">
              <a:off x="4988520" y="338472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Line 35"/>
            <p:cNvSpPr/>
            <p:nvPr/>
          </p:nvSpPr>
          <p:spPr>
            <a:xfrm flipV="1">
              <a:off x="3350520" y="338472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Line 36"/>
            <p:cNvSpPr/>
            <p:nvPr/>
          </p:nvSpPr>
          <p:spPr>
            <a:xfrm flipV="1">
              <a:off x="4205160" y="33084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Line 37"/>
            <p:cNvSpPr/>
            <p:nvPr/>
          </p:nvSpPr>
          <p:spPr>
            <a:xfrm flipV="1">
              <a:off x="6768720" y="33084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V="1">
              <a:off x="7765920" y="338472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39"/>
            <p:cNvSpPr/>
            <p:nvPr/>
          </p:nvSpPr>
          <p:spPr>
            <a:xfrm flipV="1">
              <a:off x="8763120" y="3308400"/>
              <a:ext cx="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Line 40"/>
          <p:cNvSpPr/>
          <p:nvPr/>
        </p:nvSpPr>
        <p:spPr>
          <a:xfrm flipH="1" flipV="1">
            <a:off x="2209680" y="4647960"/>
            <a:ext cx="9907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41"/>
          <p:cNvSpPr/>
          <p:nvPr/>
        </p:nvSpPr>
        <p:spPr>
          <a:xfrm flipH="1" flipV="1">
            <a:off x="3123720" y="4572000"/>
            <a:ext cx="2286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2"/>
          <p:cNvSpPr/>
          <p:nvPr/>
        </p:nvSpPr>
        <p:spPr>
          <a:xfrm flipV="1">
            <a:off x="3505320" y="4572000"/>
            <a:ext cx="4572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43"/>
          <p:cNvSpPr/>
          <p:nvPr/>
        </p:nvSpPr>
        <p:spPr>
          <a:xfrm flipV="1">
            <a:off x="4114800" y="457200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44"/>
          <p:cNvSpPr/>
          <p:nvPr/>
        </p:nvSpPr>
        <p:spPr>
          <a:xfrm flipV="1">
            <a:off x="4724280" y="457200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45"/>
          <p:cNvSpPr/>
          <p:nvPr/>
        </p:nvSpPr>
        <p:spPr>
          <a:xfrm flipV="1">
            <a:off x="5300640" y="4510080"/>
            <a:ext cx="1362240" cy="10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46"/>
          <p:cNvSpPr/>
          <p:nvPr/>
        </p:nvSpPr>
        <p:spPr>
          <a:xfrm flipV="1">
            <a:off x="5715000" y="4571640"/>
            <a:ext cx="2057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FBA-7939-45A2-AF6B-D74960715EA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iterativo e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da iteraçã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planej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aliza uma seqüência de atividades (de elicitação de requisitos, análise e projeto, implementação, etc.) distin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eralmente resulta em uma versão executável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avaliada segundo critérios de sucesso previamente defin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42A-0ECD-4CB8-A7E9-B05A3E65069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Principais Modelos do Ciclo de Vida de 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sc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delo de Desenvolvimento Evolucionár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ção Explorató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tipagem descart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delo de Transformação F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delos Iterativ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9E29-1280-4BC8-BC68-AB81E416F64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iterativo e incrementa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70" name="Picture 3" descr="G:\Treinamento\OOAD\tmp\humpchar.gif"/>
          <p:cNvPicPr/>
          <p:nvPr/>
        </p:nvPicPr>
        <p:blipFill>
          <a:blip r:embed="rId1"/>
          <a:stretch/>
        </p:blipFill>
        <p:spPr>
          <a:xfrm>
            <a:off x="914400" y="1828800"/>
            <a:ext cx="792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2EBD-F812-487A-BCE5-24F7A578293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guiado por casos de us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s casos de uso não servem apenas para definir os requisitos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árias atividades do RUP são guiadas pelos casos de us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lanejamento das iteraçõe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criação e validação do modelo de proje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lanejamento da integração do siste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definição dos casos de tes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C8FA-056B-41FD-9EBF-89B7AA59381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RUP é centrado na arquitetura do sistem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são geral do sistema em termos dos seus subsistemas e como estes se relacion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arquitetura é prototipada, definida e validada nas primeiras iterações da fase de elabo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desenvolvimento consiste em complementar a arquitet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arquitetura serve para definir a organização da equipe de desenvolvimento e identificar oportunidades de reus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0D2F-9D8B-4BB2-B115-D9624271F65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rganização do RUP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Fluxos de ativ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tividad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radas e saí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guias (de ferramentas ou não), templ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Responsáveis (papel e perfil, não pesso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rtefa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89E8-526A-4615-B72F-9A3EFB507024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3399"/>
                </a:solidFill>
                <a:latin typeface="Comic Sans MS"/>
              </a:rPr>
              <a:t>Exemplo de Fluxo: Planejamento e Gerenciamento</a:t>
            </a:r>
            <a:endParaRPr b="0" lang="en-US" sz="42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382" name="Group 71"/>
          <p:cNvGrpSpPr/>
          <p:nvPr/>
        </p:nvGrpSpPr>
        <p:grpSpPr>
          <a:xfrm>
            <a:off x="990720" y="1905120"/>
            <a:ext cx="7848360" cy="4572000"/>
            <a:chOff x="990720" y="1905120"/>
            <a:chExt cx="7848360" cy="4572000"/>
          </a:xfrm>
        </p:grpSpPr>
        <p:sp>
          <p:nvSpPr>
            <p:cNvPr id="383" name="Freeform 4"/>
            <p:cNvSpPr/>
            <p:nvPr/>
          </p:nvSpPr>
          <p:spPr>
            <a:xfrm>
              <a:off x="990720" y="1905120"/>
              <a:ext cx="7848360" cy="1038240"/>
            </a:xfrm>
            <a:prstGeom prst="pie">
              <a:avLst/>
            </a:prstGeom>
            <a:solidFill>
              <a:srgbClr val="ccffcc"/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Freeform 5"/>
            <p:cNvSpPr/>
            <p:nvPr/>
          </p:nvSpPr>
          <p:spPr>
            <a:xfrm>
              <a:off x="990720" y="5438880"/>
              <a:ext cx="7848360" cy="1038240"/>
            </a:xfrm>
            <a:prstGeom prst="pie">
              <a:avLst/>
            </a:prstGeom>
            <a:solidFill>
              <a:srgbClr val="ccffcc"/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>
              <a:off x="990720" y="3013200"/>
              <a:ext cx="7848360" cy="2355840"/>
            </a:xfrm>
            <a:prstGeom prst="pie">
              <a:avLst/>
            </a:prstGeom>
            <a:solidFill>
              <a:srgbClr val="ccffcc"/>
            </a:solidFill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" name="Group 7"/>
            <p:cNvGrpSpPr/>
            <p:nvPr/>
          </p:nvGrpSpPr>
          <p:grpSpPr>
            <a:xfrm>
              <a:off x="990720" y="4351320"/>
              <a:ext cx="1001520" cy="984600"/>
              <a:chOff x="990720" y="4351320"/>
              <a:chExt cx="1001520" cy="984600"/>
            </a:xfrm>
          </p:grpSpPr>
          <p:sp>
            <p:nvSpPr>
              <p:cNvPr id="387" name="Text Box 8"/>
              <p:cNvSpPr/>
              <p:nvPr/>
            </p:nvSpPr>
            <p:spPr>
              <a:xfrm>
                <a:off x="990720" y="4937400"/>
                <a:ext cx="1001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Gerente de proj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88" name="Group 9"/>
              <p:cNvGrpSpPr/>
              <p:nvPr/>
            </p:nvGrpSpPr>
            <p:grpSpPr>
              <a:xfrm>
                <a:off x="1303920" y="4351320"/>
                <a:ext cx="366480" cy="524880"/>
                <a:chOff x="1303920" y="4351320"/>
                <a:chExt cx="366480" cy="524880"/>
              </a:xfrm>
            </p:grpSpPr>
            <p:sp>
              <p:nvSpPr>
                <p:cNvPr id="389" name="Freeform 10"/>
                <p:cNvSpPr/>
                <p:nvPr/>
              </p:nvSpPr>
              <p:spPr>
                <a:xfrm>
                  <a:off x="1303920" y="4564440"/>
                  <a:ext cx="366480" cy="31176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0" name="Freeform 11"/>
                <p:cNvSpPr/>
                <p:nvPr/>
              </p:nvSpPr>
              <p:spPr>
                <a:xfrm>
                  <a:off x="1473840" y="4351320"/>
                  <a:ext cx="147960" cy="17424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91" name="Group 12"/>
            <p:cNvGrpSpPr/>
            <p:nvPr/>
          </p:nvGrpSpPr>
          <p:grpSpPr>
            <a:xfrm>
              <a:off x="990720" y="5529240"/>
              <a:ext cx="1001520" cy="833040"/>
              <a:chOff x="990720" y="5529240"/>
              <a:chExt cx="1001520" cy="833040"/>
            </a:xfrm>
          </p:grpSpPr>
          <p:sp>
            <p:nvSpPr>
              <p:cNvPr id="392" name="Text Box 13"/>
              <p:cNvSpPr/>
              <p:nvPr/>
            </p:nvSpPr>
            <p:spPr>
              <a:xfrm>
                <a:off x="990720" y="6116040"/>
                <a:ext cx="100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Arquit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3" name="Group 14"/>
              <p:cNvGrpSpPr/>
              <p:nvPr/>
            </p:nvGrpSpPr>
            <p:grpSpPr>
              <a:xfrm>
                <a:off x="1303920" y="5529240"/>
                <a:ext cx="366480" cy="524160"/>
                <a:chOff x="1303920" y="5529240"/>
                <a:chExt cx="366480" cy="524160"/>
              </a:xfrm>
            </p:grpSpPr>
            <p:sp>
              <p:nvSpPr>
                <p:cNvPr id="394" name="Freeform 15"/>
                <p:cNvSpPr/>
                <p:nvPr/>
              </p:nvSpPr>
              <p:spPr>
                <a:xfrm>
                  <a:off x="1303920" y="5742000"/>
                  <a:ext cx="366480" cy="31140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6"/>
                <p:cNvSpPr/>
                <p:nvPr/>
              </p:nvSpPr>
              <p:spPr>
                <a:xfrm>
                  <a:off x="1473840" y="5529240"/>
                  <a:ext cx="147960" cy="17388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96" name="Group 17"/>
            <p:cNvGrpSpPr/>
            <p:nvPr/>
          </p:nvGrpSpPr>
          <p:grpSpPr>
            <a:xfrm>
              <a:off x="1063800" y="2065320"/>
              <a:ext cx="1145520" cy="832320"/>
              <a:chOff x="1063800" y="2065320"/>
              <a:chExt cx="1145520" cy="832320"/>
            </a:xfrm>
          </p:grpSpPr>
          <p:sp>
            <p:nvSpPr>
              <p:cNvPr id="397" name="Text Box 18"/>
              <p:cNvSpPr/>
              <p:nvPr/>
            </p:nvSpPr>
            <p:spPr>
              <a:xfrm>
                <a:off x="1063800" y="2651400"/>
                <a:ext cx="114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Contratant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8" name="Group 19"/>
              <p:cNvGrpSpPr/>
              <p:nvPr/>
            </p:nvGrpSpPr>
            <p:grpSpPr>
              <a:xfrm>
                <a:off x="1422000" y="2065320"/>
                <a:ext cx="419400" cy="524880"/>
                <a:chOff x="1422000" y="2065320"/>
                <a:chExt cx="419400" cy="524880"/>
              </a:xfrm>
            </p:grpSpPr>
            <p:sp>
              <p:nvSpPr>
                <p:cNvPr id="399" name="Freeform 20"/>
                <p:cNvSpPr/>
                <p:nvPr/>
              </p:nvSpPr>
              <p:spPr>
                <a:xfrm>
                  <a:off x="1422000" y="2278440"/>
                  <a:ext cx="419400" cy="31176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21"/>
                <p:cNvSpPr/>
                <p:nvPr/>
              </p:nvSpPr>
              <p:spPr>
                <a:xfrm>
                  <a:off x="1616400" y="2065320"/>
                  <a:ext cx="169200" cy="174240"/>
                </a:xfrm>
                <a:prstGeom prst="pie">
                  <a:avLst/>
                </a:prstGeom>
                <a:solidFill>
                  <a:srgbClr val="75cf97"/>
                </a:solidFill>
                <a:ln w="19080">
                  <a:solidFill>
                    <a:srgbClr val="0c68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01" name="Group 22"/>
            <p:cNvGrpSpPr/>
            <p:nvPr/>
          </p:nvGrpSpPr>
          <p:grpSpPr>
            <a:xfrm>
              <a:off x="1870200" y="2043000"/>
              <a:ext cx="1027080" cy="674280"/>
              <a:chOff x="1870200" y="2043000"/>
              <a:chExt cx="1027080" cy="674280"/>
            </a:xfrm>
          </p:grpSpPr>
          <p:sp>
            <p:nvSpPr>
              <p:cNvPr id="402" name="AutoShape 23"/>
              <p:cNvSpPr/>
              <p:nvPr/>
            </p:nvSpPr>
            <p:spPr>
              <a:xfrm>
                <a:off x="2237040" y="2043000"/>
                <a:ext cx="366480" cy="2772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" name="Text Box 24"/>
              <p:cNvSpPr/>
              <p:nvPr/>
            </p:nvSpPr>
            <p:spPr>
              <a:xfrm>
                <a:off x="1870200" y="231876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Iniciar Proj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4" name="Group 25"/>
            <p:cNvGrpSpPr/>
            <p:nvPr/>
          </p:nvGrpSpPr>
          <p:grpSpPr>
            <a:xfrm>
              <a:off x="3338640" y="2043000"/>
              <a:ext cx="1025280" cy="674280"/>
              <a:chOff x="3338640" y="2043000"/>
              <a:chExt cx="1025280" cy="674280"/>
            </a:xfrm>
          </p:grpSpPr>
          <p:sp>
            <p:nvSpPr>
              <p:cNvPr id="405" name="AutoShape 26"/>
              <p:cNvSpPr/>
              <p:nvPr/>
            </p:nvSpPr>
            <p:spPr>
              <a:xfrm>
                <a:off x="3704760" y="2043000"/>
                <a:ext cx="365760" cy="27720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Text Box 27"/>
              <p:cNvSpPr/>
              <p:nvPr/>
            </p:nvSpPr>
            <p:spPr>
              <a:xfrm>
                <a:off x="3338640" y="2318760"/>
                <a:ext cx="10252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Aprovar Proj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7" name="Group 28"/>
            <p:cNvGrpSpPr/>
            <p:nvPr/>
          </p:nvGrpSpPr>
          <p:grpSpPr>
            <a:xfrm>
              <a:off x="1884240" y="3498840"/>
              <a:ext cx="1027080" cy="674640"/>
              <a:chOff x="1884240" y="3498840"/>
              <a:chExt cx="1027080" cy="674640"/>
            </a:xfrm>
          </p:grpSpPr>
          <p:sp>
            <p:nvSpPr>
              <p:cNvPr id="408" name="AutoShape 29"/>
              <p:cNvSpPr/>
              <p:nvPr/>
            </p:nvSpPr>
            <p:spPr>
              <a:xfrm>
                <a:off x="2251080" y="3498840"/>
                <a:ext cx="366480" cy="27612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Text Box 30"/>
              <p:cNvSpPr/>
              <p:nvPr/>
            </p:nvSpPr>
            <p:spPr>
              <a:xfrm>
                <a:off x="1884240" y="377496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Estudar Viabilidade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0" name="Group 31"/>
            <p:cNvGrpSpPr/>
            <p:nvPr/>
          </p:nvGrpSpPr>
          <p:grpSpPr>
            <a:xfrm>
              <a:off x="7738920" y="2043000"/>
              <a:ext cx="1027080" cy="829080"/>
              <a:chOff x="7738920" y="2043000"/>
              <a:chExt cx="1027080" cy="829080"/>
            </a:xfrm>
          </p:grpSpPr>
          <p:sp>
            <p:nvSpPr>
              <p:cNvPr id="411" name="AutoShape 32"/>
              <p:cNvSpPr/>
              <p:nvPr/>
            </p:nvSpPr>
            <p:spPr>
              <a:xfrm>
                <a:off x="8105760" y="2043000"/>
                <a:ext cx="366480" cy="2772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Text Box 33"/>
              <p:cNvSpPr/>
              <p:nvPr/>
            </p:nvSpPr>
            <p:spPr>
              <a:xfrm>
                <a:off x="7738920" y="2321280"/>
                <a:ext cx="1027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Atestar Conclusão do Proj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3" name="Group 34"/>
            <p:cNvGrpSpPr/>
            <p:nvPr/>
          </p:nvGrpSpPr>
          <p:grpSpPr>
            <a:xfrm>
              <a:off x="4438800" y="3152880"/>
              <a:ext cx="1027080" cy="675000"/>
              <a:chOff x="4438800" y="3152880"/>
              <a:chExt cx="1027080" cy="675000"/>
            </a:xfrm>
          </p:grpSpPr>
          <p:sp>
            <p:nvSpPr>
              <p:cNvPr id="414" name="AutoShape 35"/>
              <p:cNvSpPr/>
              <p:nvPr/>
            </p:nvSpPr>
            <p:spPr>
              <a:xfrm>
                <a:off x="4805640" y="3152880"/>
                <a:ext cx="366480" cy="27648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Text Box 36"/>
              <p:cNvSpPr/>
              <p:nvPr/>
            </p:nvSpPr>
            <p:spPr>
              <a:xfrm>
                <a:off x="4438800" y="342936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Identificar Risco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6" name="AutoShape 38"/>
            <p:cNvSpPr/>
            <p:nvPr/>
          </p:nvSpPr>
          <p:spPr>
            <a:xfrm>
              <a:off x="3236760" y="4121280"/>
              <a:ext cx="393840" cy="2775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5cf97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Text Box 39"/>
            <p:cNvSpPr/>
            <p:nvPr/>
          </p:nvSpPr>
          <p:spPr>
            <a:xfrm>
              <a:off x="2819520" y="4398840"/>
              <a:ext cx="1104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Verdana"/>
                </a:rPr>
                <a:t>Desenvolver Plano de Projet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AutoShape 41"/>
            <p:cNvSpPr/>
            <p:nvPr/>
          </p:nvSpPr>
          <p:spPr>
            <a:xfrm>
              <a:off x="4805280" y="4121280"/>
              <a:ext cx="366840" cy="2775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5cf97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Text Box 42"/>
            <p:cNvSpPr/>
            <p:nvPr/>
          </p:nvSpPr>
          <p:spPr>
            <a:xfrm>
              <a:off x="4438800" y="4398840"/>
              <a:ext cx="112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Verdana"/>
                </a:rPr>
                <a:t>Desenvolver Plano de Iteração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" name="Group 43"/>
            <p:cNvGrpSpPr/>
            <p:nvPr/>
          </p:nvGrpSpPr>
          <p:grpSpPr>
            <a:xfrm>
              <a:off x="5832360" y="3359160"/>
              <a:ext cx="1025640" cy="827640"/>
              <a:chOff x="5832360" y="3359160"/>
              <a:chExt cx="1025640" cy="827640"/>
            </a:xfrm>
          </p:grpSpPr>
          <p:sp>
            <p:nvSpPr>
              <p:cNvPr id="421" name="AutoShape 44"/>
              <p:cNvSpPr/>
              <p:nvPr/>
            </p:nvSpPr>
            <p:spPr>
              <a:xfrm>
                <a:off x="6198480" y="3359160"/>
                <a:ext cx="365760" cy="27684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Text Box 45"/>
              <p:cNvSpPr/>
              <p:nvPr/>
            </p:nvSpPr>
            <p:spPr>
              <a:xfrm>
                <a:off x="5832360" y="3636000"/>
                <a:ext cx="1025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Executar Plano de Iteraçã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3" name="Group 46"/>
            <p:cNvGrpSpPr/>
            <p:nvPr/>
          </p:nvGrpSpPr>
          <p:grpSpPr>
            <a:xfrm>
              <a:off x="6638760" y="4191120"/>
              <a:ext cx="1027440" cy="675000"/>
              <a:chOff x="6638760" y="4191120"/>
              <a:chExt cx="1027440" cy="675000"/>
            </a:xfrm>
          </p:grpSpPr>
          <p:sp>
            <p:nvSpPr>
              <p:cNvPr id="424" name="AutoShape 47"/>
              <p:cNvSpPr/>
              <p:nvPr/>
            </p:nvSpPr>
            <p:spPr>
              <a:xfrm>
                <a:off x="7005600" y="4191120"/>
                <a:ext cx="366480" cy="27648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Text Box 48"/>
              <p:cNvSpPr/>
              <p:nvPr/>
            </p:nvSpPr>
            <p:spPr>
              <a:xfrm>
                <a:off x="6638760" y="4467600"/>
                <a:ext cx="1027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Avaliar Iteraçã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6" name="Group 49"/>
            <p:cNvGrpSpPr/>
            <p:nvPr/>
          </p:nvGrpSpPr>
          <p:grpSpPr>
            <a:xfrm>
              <a:off x="7738920" y="4181400"/>
              <a:ext cx="1027080" cy="675720"/>
              <a:chOff x="7738920" y="4181400"/>
              <a:chExt cx="1027080" cy="675720"/>
            </a:xfrm>
          </p:grpSpPr>
          <p:sp>
            <p:nvSpPr>
              <p:cNvPr id="427" name="AutoShape 50"/>
              <p:cNvSpPr/>
              <p:nvPr/>
            </p:nvSpPr>
            <p:spPr>
              <a:xfrm>
                <a:off x="8105760" y="4181400"/>
                <a:ext cx="366480" cy="2772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Text Box 51"/>
              <p:cNvSpPr/>
              <p:nvPr/>
            </p:nvSpPr>
            <p:spPr>
              <a:xfrm>
                <a:off x="7738920" y="445860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Finalizar Projet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9" name="Group 52"/>
            <p:cNvGrpSpPr/>
            <p:nvPr/>
          </p:nvGrpSpPr>
          <p:grpSpPr>
            <a:xfrm>
              <a:off x="5757840" y="4676760"/>
              <a:ext cx="1027080" cy="675000"/>
              <a:chOff x="5757840" y="4676760"/>
              <a:chExt cx="1027080" cy="675000"/>
            </a:xfrm>
          </p:grpSpPr>
          <p:sp>
            <p:nvSpPr>
              <p:cNvPr id="430" name="AutoShape 53"/>
              <p:cNvSpPr/>
              <p:nvPr/>
            </p:nvSpPr>
            <p:spPr>
              <a:xfrm>
                <a:off x="6124680" y="4676760"/>
                <a:ext cx="366480" cy="27648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1" name="Text Box 54"/>
              <p:cNvSpPr/>
              <p:nvPr/>
            </p:nvSpPr>
            <p:spPr>
              <a:xfrm>
                <a:off x="5757840" y="495324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Reavaliar Risco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2" name="Group 55"/>
            <p:cNvGrpSpPr/>
            <p:nvPr/>
          </p:nvGrpSpPr>
          <p:grpSpPr>
            <a:xfrm>
              <a:off x="2897280" y="5645160"/>
              <a:ext cx="1027080" cy="675360"/>
              <a:chOff x="2897280" y="5645160"/>
              <a:chExt cx="1027080" cy="675360"/>
            </a:xfrm>
          </p:grpSpPr>
          <p:sp>
            <p:nvSpPr>
              <p:cNvPr id="433" name="AutoShape 56"/>
              <p:cNvSpPr/>
              <p:nvPr/>
            </p:nvSpPr>
            <p:spPr>
              <a:xfrm>
                <a:off x="3264120" y="5645160"/>
                <a:ext cx="366480" cy="27684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5cf97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Text Box 57"/>
              <p:cNvSpPr/>
              <p:nvPr/>
            </p:nvSpPr>
            <p:spPr>
              <a:xfrm>
                <a:off x="2897280" y="5922000"/>
                <a:ext cx="1027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Verdana"/>
                  </a:rPr>
                  <a:t>Priorizar Casos de Uso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435" name="AutoShape 58"/>
            <p:cNvCxnSpPr>
              <a:stCxn id="403" idx="2"/>
              <a:endCxn id="408" idx="0"/>
            </p:cNvCxnSpPr>
            <p:nvPr/>
          </p:nvCxnSpPr>
          <p:spPr>
            <a:xfrm flipH="1" rot="16200000">
              <a:off x="1982520" y="3082320"/>
              <a:ext cx="808920" cy="5760"/>
            </a:xfrm>
            <a:prstGeom prst="curvedConnector5">
              <a:avLst>
                <a:gd name="adj1" fmla="val 50534"/>
                <a:gd name="adj2" fmla="val 46666"/>
                <a:gd name="adj3" fmla="val 5053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AutoShape 59"/>
            <p:cNvCxnSpPr>
              <a:stCxn id="408" idx="1"/>
              <a:endCxn id="405" idx="0"/>
            </p:cNvCxnSpPr>
            <p:nvPr/>
          </p:nvCxnSpPr>
          <p:spPr>
            <a:xfrm flipV="1">
              <a:off x="2627280" y="2180880"/>
              <a:ext cx="1069200" cy="1456560"/>
            </a:xfrm>
            <a:prstGeom prst="curvedConnector5">
              <a:avLst>
                <a:gd name="adj1" fmla="val 49915"/>
                <a:gd name="adj2" fmla="val 49987"/>
                <a:gd name="adj3" fmla="val 499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AutoShape 60"/>
            <p:cNvCxnSpPr>
              <a:stCxn id="405" idx="1"/>
              <a:endCxn id="414" idx="0"/>
            </p:cNvCxnSpPr>
            <p:nvPr/>
          </p:nvCxnSpPr>
          <p:spPr>
            <a:xfrm>
              <a:off x="4079520" y="2181240"/>
              <a:ext cx="716760" cy="111024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AutoShape 61"/>
            <p:cNvCxnSpPr>
              <a:stCxn id="415" idx="1"/>
              <a:endCxn id="416" idx="0"/>
            </p:cNvCxnSpPr>
            <p:nvPr/>
          </p:nvCxnSpPr>
          <p:spPr>
            <a:xfrm flipV="1" rot="10800000">
              <a:off x="3384000" y="3626280"/>
              <a:ext cx="1054800" cy="4849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AutoShape 62"/>
            <p:cNvCxnSpPr>
              <a:stCxn id="416" idx="1"/>
              <a:endCxn id="418" idx="0"/>
            </p:cNvCxnSpPr>
            <p:nvPr/>
          </p:nvCxnSpPr>
          <p:spPr>
            <a:xfrm>
              <a:off x="3639600" y="4260600"/>
              <a:ext cx="115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63"/>
            <p:cNvCxnSpPr>
              <a:stCxn id="418" idx="1"/>
              <a:endCxn id="421" idx="0"/>
            </p:cNvCxnSpPr>
            <p:nvPr/>
          </p:nvCxnSpPr>
          <p:spPr>
            <a:xfrm flipV="1">
              <a:off x="5181120" y="3498120"/>
              <a:ext cx="1008720" cy="762840"/>
            </a:xfrm>
            <a:prstGeom prst="curvedConnector5">
              <a:avLst>
                <a:gd name="adj1" fmla="val 49910"/>
                <a:gd name="adj2" fmla="val 50000"/>
                <a:gd name="adj3" fmla="val 4991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1" name="AutoShape 64"/>
            <p:cNvCxnSpPr>
              <a:stCxn id="421" idx="1"/>
              <a:endCxn id="424" idx="0"/>
            </p:cNvCxnSpPr>
            <p:nvPr/>
          </p:nvCxnSpPr>
          <p:spPr>
            <a:xfrm>
              <a:off x="6573960" y="3498840"/>
              <a:ext cx="568800" cy="6829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AutoShape 65"/>
            <p:cNvCxnSpPr>
              <a:stCxn id="425" idx="2"/>
              <a:endCxn id="431" idx="3"/>
            </p:cNvCxnSpPr>
            <p:nvPr/>
          </p:nvCxnSpPr>
          <p:spPr>
            <a:xfrm rot="5400000">
              <a:off x="6815880" y="4797000"/>
              <a:ext cx="304200" cy="367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66"/>
            <p:cNvCxnSpPr>
              <a:stCxn id="431" idx="1"/>
              <a:endCxn id="419" idx="2"/>
            </p:cNvCxnSpPr>
            <p:nvPr/>
          </p:nvCxnSpPr>
          <p:spPr>
            <a:xfrm rot="10800000">
              <a:off x="5000040" y="4947480"/>
              <a:ext cx="757800" cy="2041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AutoShape 67"/>
            <p:cNvCxnSpPr>
              <a:stCxn id="424" idx="1"/>
              <a:endCxn id="427" idx="0"/>
            </p:cNvCxnSpPr>
            <p:nvPr/>
          </p:nvCxnSpPr>
          <p:spPr>
            <a:xfrm flipV="1">
              <a:off x="7381440" y="4320720"/>
              <a:ext cx="715320" cy="8640"/>
            </a:xfrm>
            <a:prstGeom prst="curvedConnector5">
              <a:avLst>
                <a:gd name="adj1" fmla="val 50000"/>
                <a:gd name="adj2" fmla="val 47826"/>
                <a:gd name="adj3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AutoShape 68"/>
            <p:cNvCxnSpPr>
              <a:stCxn id="427" idx="1"/>
              <a:endCxn id="412" idx="1"/>
            </p:cNvCxnSpPr>
            <p:nvPr/>
          </p:nvCxnSpPr>
          <p:spPr>
            <a:xfrm flipH="1" flipV="1">
              <a:off x="7738560" y="2569680"/>
              <a:ext cx="743760" cy="1751760"/>
            </a:xfrm>
            <a:prstGeom prst="curvedConnector5">
              <a:avLst>
                <a:gd name="adj1" fmla="val -28377"/>
                <a:gd name="adj2" fmla="val 23391"/>
                <a:gd name="adj3" fmla="val -2837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69"/>
            <p:cNvCxnSpPr>
              <a:stCxn id="433" idx="0"/>
              <a:endCxn id="417" idx="2"/>
            </p:cNvCxnSpPr>
            <p:nvPr/>
          </p:nvCxnSpPr>
          <p:spPr>
            <a:xfrm flipV="1" rot="16200000">
              <a:off x="3043080" y="5276880"/>
              <a:ext cx="687960" cy="30600"/>
            </a:xfrm>
            <a:prstGeom prst="curvedConnector5">
              <a:avLst>
                <a:gd name="adj1" fmla="val 49214"/>
                <a:gd name="adj2" fmla="val 50000"/>
                <a:gd name="adj3" fmla="val 4921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70"/>
            <p:cNvCxnSpPr>
              <a:stCxn id="433" idx="1"/>
              <a:endCxn id="419" idx="1"/>
            </p:cNvCxnSpPr>
            <p:nvPr/>
          </p:nvCxnSpPr>
          <p:spPr>
            <a:xfrm flipV="1">
              <a:off x="3639600" y="4672800"/>
              <a:ext cx="799560" cy="1112040"/>
            </a:xfrm>
            <a:prstGeom prst="curvedConnector5">
              <a:avLst>
                <a:gd name="adj1" fmla="val 49279"/>
                <a:gd name="adj2" fmla="val 50000"/>
                <a:gd name="adj3" fmla="val 4927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B0DB-6491-4AEE-8151-1ACE5406294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ferênci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var Jacobson, Grady Booch e James Rumbaugh.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The Unified Software Development Process.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Capítulos 1 a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hilippe Kruchten. </a:t>
            </a:r>
            <a:r>
              <a:rPr b="0" i="1" lang="pt-BR" sz="3200" spc="-1" strike="noStrike">
                <a:solidFill>
                  <a:srgbClr val="000000"/>
                </a:solidFill>
                <a:latin typeface="Comic Sans MS"/>
              </a:rPr>
              <a:t>The Rational Unified Process – an Introd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FF1-4A66-49CF-A428-FE98359F3E0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Modelo Cascata</a:t>
            </a:r>
            <a:br>
              <a:rPr sz="4400"/>
            </a:b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(ou clássico)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Derivado de modelos existentes em outras engenh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Sua estrutura é composta por várias etapas que são executadas de forma sistemática e seqüen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omic Sans MS"/>
              </a:rPr>
              <a:t>Na prática, existe uma interação entre as etapas e cada etapa pode levar a modificações nas etapas anterio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43F-1F33-4C1D-9D9F-BC81CCFCE21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Cascat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477800" y="2133720"/>
            <a:ext cx="6471720" cy="4114080"/>
            <a:chOff x="1477800" y="2133720"/>
            <a:chExt cx="6471720" cy="4114080"/>
          </a:xfrm>
        </p:grpSpPr>
        <p:sp>
          <p:nvSpPr>
            <p:cNvPr id="123" name="Rectangle 4"/>
            <p:cNvSpPr/>
            <p:nvPr/>
          </p:nvSpPr>
          <p:spPr>
            <a:xfrm>
              <a:off x="1477800" y="2133720"/>
              <a:ext cx="1262160" cy="5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ição de Requisito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2739960" y="3011400"/>
              <a:ext cx="1262160" cy="68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jeto do Sistema e do Softw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4004640" y="3912480"/>
              <a:ext cx="1420200" cy="51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ção e Testes Unitário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424840" y="4809960"/>
              <a:ext cx="1262160" cy="68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ção e Teste do Sistem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6687360" y="5732640"/>
              <a:ext cx="1262160" cy="51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ção e Manutençã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2742120" y="247716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4004640" y="33760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424840" y="427536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6687360" y="5174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3057840" y="2477160"/>
              <a:ext cx="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4320000" y="3376080"/>
              <a:ext cx="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5740560" y="4275360"/>
              <a:ext cx="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7003080" y="5174640"/>
              <a:ext cx="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E25-FC76-4482-BD7B-97BE5CACFEA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Cascata na Prátic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447920" y="1905120"/>
            <a:ext cx="7457760" cy="4343400"/>
            <a:chOff x="1447920" y="1905120"/>
            <a:chExt cx="7457760" cy="4343400"/>
          </a:xfrm>
        </p:grpSpPr>
        <p:sp>
          <p:nvSpPr>
            <p:cNvPr id="139" name="Rectangle 4"/>
            <p:cNvSpPr/>
            <p:nvPr/>
          </p:nvSpPr>
          <p:spPr>
            <a:xfrm>
              <a:off x="1447920" y="1905120"/>
              <a:ext cx="1453680" cy="54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ição de Requisito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2901600" y="2832120"/>
              <a:ext cx="145548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jeto do Sistema e do Softw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360320" y="3783240"/>
              <a:ext cx="1635480" cy="54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ção e Testes Unitário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5996160" y="4730760"/>
              <a:ext cx="1455480" cy="7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ção e Teste do  Sistem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7451640" y="5703840"/>
              <a:ext cx="1454040" cy="54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ção e Manutençã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2904840" y="226692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>
              <a:off x="4360320" y="321624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5996160" y="416556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7451640" y="51148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3268440" y="226692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4723920" y="32162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6359760" y="416556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7815240" y="511488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17"/>
            <p:cNvSpPr/>
            <p:nvPr/>
          </p:nvSpPr>
          <p:spPr>
            <a:xfrm flipH="1">
              <a:off x="1632600" y="5991480"/>
              <a:ext cx="58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 flipV="1">
              <a:off x="4754520" y="4343040"/>
              <a:ext cx="0" cy="163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 flipV="1">
              <a:off x="3259440" y="3528720"/>
              <a:ext cx="864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20"/>
            <p:cNvSpPr/>
            <p:nvPr/>
          </p:nvSpPr>
          <p:spPr>
            <a:xfrm flipV="1">
              <a:off x="1650240" y="2454480"/>
              <a:ext cx="0" cy="35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 flipV="1">
              <a:off x="6359760" y="542736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Rectangle 22"/>
          <p:cNvSpPr/>
          <p:nvPr/>
        </p:nvSpPr>
        <p:spPr>
          <a:xfrm>
            <a:off x="0" y="199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0" y="1996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D9B-FC44-4892-BEA2-319EB910C3E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delo de Desenvolvimento Evolucionár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Programação Explorató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Prototipagem Descartá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1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1066680" y="3276720"/>
            <a:ext cx="7457040" cy="3199320"/>
            <a:chOff x="1066680" y="3276720"/>
            <a:chExt cx="7457040" cy="3199320"/>
          </a:xfrm>
        </p:grpSpPr>
        <p:sp>
          <p:nvSpPr>
            <p:cNvPr id="164" name="Text Box 6"/>
            <p:cNvSpPr/>
            <p:nvPr/>
          </p:nvSpPr>
          <p:spPr>
            <a:xfrm>
              <a:off x="3249360" y="3276720"/>
              <a:ext cx="291024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ividades Concorren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1066680" y="3894120"/>
              <a:ext cx="7457040" cy="2581920"/>
              <a:chOff x="1066680" y="3894120"/>
              <a:chExt cx="7457040" cy="2581920"/>
            </a:xfrm>
          </p:grpSpPr>
          <p:sp>
            <p:nvSpPr>
              <p:cNvPr id="166" name="Rectangle 8"/>
              <p:cNvSpPr/>
              <p:nvPr/>
            </p:nvSpPr>
            <p:spPr>
              <a:xfrm>
                <a:off x="3249360" y="3894120"/>
                <a:ext cx="2728080" cy="246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Oval 9"/>
              <p:cNvSpPr/>
              <p:nvPr/>
            </p:nvSpPr>
            <p:spPr>
              <a:xfrm>
                <a:off x="3430800" y="4069800"/>
                <a:ext cx="2182680" cy="61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Text Box 10"/>
              <p:cNvSpPr/>
              <p:nvPr/>
            </p:nvSpPr>
            <p:spPr>
              <a:xfrm>
                <a:off x="3612960" y="4224240"/>
                <a:ext cx="1636560" cy="30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pecificaçã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Oval 11"/>
              <p:cNvSpPr/>
              <p:nvPr/>
            </p:nvSpPr>
            <p:spPr>
              <a:xfrm>
                <a:off x="3430800" y="4878000"/>
                <a:ext cx="2182680" cy="61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Text Box 12"/>
              <p:cNvSpPr/>
              <p:nvPr/>
            </p:nvSpPr>
            <p:spPr>
              <a:xfrm>
                <a:off x="3612960" y="5032800"/>
                <a:ext cx="1818720" cy="30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iment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Oval 13"/>
              <p:cNvSpPr/>
              <p:nvPr/>
            </p:nvSpPr>
            <p:spPr>
              <a:xfrm>
                <a:off x="3430800" y="5684400"/>
                <a:ext cx="2182680" cy="617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alidação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Text Box 14"/>
              <p:cNvSpPr/>
              <p:nvPr/>
            </p:nvSpPr>
            <p:spPr>
              <a:xfrm>
                <a:off x="1066680" y="4878000"/>
                <a:ext cx="1455120" cy="61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boço de Descrição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15"/>
              <p:cNvSpPr/>
              <p:nvPr/>
            </p:nvSpPr>
            <p:spPr>
              <a:xfrm>
                <a:off x="2521800" y="520452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Text Box 16"/>
              <p:cNvSpPr/>
              <p:nvPr/>
            </p:nvSpPr>
            <p:spPr>
              <a:xfrm>
                <a:off x="6705000" y="4069800"/>
                <a:ext cx="1818720" cy="61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ersão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ici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Text Box 17"/>
              <p:cNvSpPr/>
              <p:nvPr/>
            </p:nvSpPr>
            <p:spPr>
              <a:xfrm>
                <a:off x="6705000" y="5032800"/>
                <a:ext cx="1818720" cy="61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ersões Intermediárias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18"/>
              <p:cNvSpPr/>
              <p:nvPr/>
            </p:nvSpPr>
            <p:spPr>
              <a:xfrm>
                <a:off x="5977440" y="422424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19"/>
              <p:cNvSpPr/>
              <p:nvPr/>
            </p:nvSpPr>
            <p:spPr>
              <a:xfrm flipH="1">
                <a:off x="5977080" y="455040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Line 20"/>
              <p:cNvSpPr/>
              <p:nvPr/>
            </p:nvSpPr>
            <p:spPr>
              <a:xfrm>
                <a:off x="5977440" y="520452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 flipH="1">
                <a:off x="5977080" y="551340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Text Box 22"/>
              <p:cNvSpPr/>
              <p:nvPr/>
            </p:nvSpPr>
            <p:spPr>
              <a:xfrm>
                <a:off x="6705000" y="6012720"/>
                <a:ext cx="1818720" cy="46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ersão Fin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23"/>
              <p:cNvSpPr/>
              <p:nvPr/>
            </p:nvSpPr>
            <p:spPr>
              <a:xfrm>
                <a:off x="5977440" y="616716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H="1">
                <a:off x="5977080" y="6338520"/>
                <a:ext cx="72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3" name="Rectangle 25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56C-5EDE-4E33-87A2-FBC8006305B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4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Programação Exploratóri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mic Sans MS"/>
              </a:rPr>
              <a:t>Idéia geral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Desenvolvimento da primeira versão do sistema o mais rápido possí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Modificações sucessivas até que o sistema seja considerado adequ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omic Sans MS"/>
              </a:rPr>
              <a:t>Após o desenvolvimento de cada uma das versões do sistema ele é mostrado aos usuários para comentári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mic Sans MS"/>
              </a:rPr>
              <a:t>Adequado para o desenvolvimento de sistemas onde é difícil ou impossível se fazer uma especificação detalhada do sistem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mic Sans MS"/>
              </a:rPr>
              <a:t>Principal diferença para os outros modelos é a ausência da noção de programa corre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9:43:02Z</dcterms:created>
  <dc:creator>Hermano Perrelli de Moura</dc:creator>
  <dc:description/>
  <dc:language>en-US</dc:language>
  <cp:lastModifiedBy>Alexandre Vasconcelos</cp:lastModifiedBy>
  <cp:lastPrinted>2000-02-17T21:24:07Z</cp:lastPrinted>
  <dcterms:modified xsi:type="dcterms:W3CDTF">2009-05-15T12:01:01Z</dcterms:modified>
  <cp:revision>164</cp:revision>
  <dc:subject/>
  <dc:title>Introdução à Engenharia de Software</dc:title>
</cp:coreProperties>
</file>