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B8F-A0D9-4AAB-A9BC-C1CE5287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7F0-6A78-40D1-A0E6-404F5A1B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F6F-5964-46A7-9B4A-05A9DC50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A7D-7296-4CDA-A8E2-17D8B339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0269-C1A6-4A3A-B8F6-57A59308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545C-FABE-47E3-A3B8-6BEFCE3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ECB2-D998-4186-9121-14E88820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B591-EE3D-4C36-BB60-962788C3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3A8A-44EF-4BD8-A56D-55CFBEBB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B978-4264-4AC4-B456-99724E76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F2FB-C128-49E5-880B-2DAE1EDB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203-5BF0-4611-B913-6E3A6F85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F485-A2A4-47DB-AD4A-0BCD8645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F90E-FE05-4872-9A34-0433AE6A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6D55-43BC-4CD1-A656-5D58869B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DF96-5A96-40CF-B2F3-C42ADFB4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7A59-E490-4191-BCBF-B2CDD089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21F-56AD-4DDA-A6D5-CD41B09B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1D8-4B06-4050-905E-41F3A571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0C0-6C08-45A6-A366-00D92BA5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569-7FB2-4A2B-B41B-6399AFE5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F02-F1AE-41DA-9BA2-F37B0B83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AB8-CD88-4168-8AA0-5E9FE7A0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1C1-EEF2-4EE2-895D-8BD203F3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2459-3DA6-44D3-A5AE-1F9EBE7658D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5F15-6989-4950-BE60-A6039D3DFEFC}" type="slidenum">
              <a:rPr b="0" lang="pt-BR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Planejamento e Projeto de Testes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53337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80808"/>
                </a:solidFill>
                <a:latin typeface="Tahoma"/>
              </a:rPr>
              <a:t>Taíse Dias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Teste baseado em </a:t>
            </a:r>
            <a:br>
              <a:rPr sz="4000"/>
            </a:b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Caso de Us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4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722600"/>
          <a:ext cx="7543800" cy="4449600"/>
        </p:xfrm>
        <a:graphic>
          <a:graphicData uri="http://schemas.openxmlformats.org/drawingml/2006/table">
            <a:tbl>
              <a:tblPr/>
              <a:tblGrid>
                <a:gridCol w="1524240"/>
                <a:gridCol w="2133360"/>
                <a:gridCol w="3886200"/>
              </a:tblGrid>
              <a:tr h="368280">
                <a:tc rowSpan="6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7aa6b0"/>
                          </a:solidFill>
                          <a:latin typeface="Tahoma"/>
                        </a:rPr>
                        <a:t>Pesquisa por períod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aa6b0"/>
                      </a:solidFill>
                    </a:lnL>
                    <a:lnR w="1872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18720">
                      <a:solidFill>
                        <a:srgbClr val="7aa6b0"/>
                      </a:solidFill>
                    </a:lnB>
                    <a:solidFill>
                      <a:srgbClr val="917aa4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7aa6b0"/>
                          </a:solidFill>
                          <a:latin typeface="Tahoma"/>
                        </a:rPr>
                        <a:t>Casos de Test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18720">
                      <a:solidFill>
                        <a:srgbClr val="7aa6b0"/>
                      </a:solidFill>
                    </a:lnB>
                    <a:solidFill>
                      <a:srgbClr val="917aa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Informar data início e fim em uma seqüência cronológica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1872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O sistema retorna todos os registros cadastrados entre as datas informada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1872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Informar apenas a data de início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ee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O sistema pode exigir ou não a data fim como obrigatório, vai depender do critério do analista do sistema (o testador consulta o analista)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eeecf0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Informar apenas data fim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O sistema pode exigir ou não a data início como obrigatório, vai depender do critério do analista do sistema (o testador consulta o analista)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Não informar nenhum dos campo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ee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É exibido o alerta para que o usuário preencha o(s) campo(s) obrigatório(s) para a consulta (a obrigatoriedade, mais uma vez, depende do analista).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eeecf0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Informar a data fim anterior à data início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É exibido o alerta “A data fim informada é anterior à data início. Verifique, por falor.”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80808"/>
                </a:solidFill>
                <a:latin typeface="Tahoma"/>
              </a:rPr>
              <a:t>Documentaçã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laborar documentos de test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Manter consistência com documento de requisito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Ex: O analista de testes tem conhecimento da existência de um campo de e-mail no cadastro de usuário. Imediatamente, ele cria um caso de teste que exija uma validação do campo de e-mail (aceitar apenas e-mails válidos). Quando finalmente consulta os fluxos de exceção do caso de uso, nota que não existe uma exceção levantada para o cadastro de e-mails inválidos. Então é adicionado um erro de especificação “Criar fluxo de exceção para cadastro de e-mails inválidos”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Plano de Testes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Identificar o que será testado (requisitos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Descrever as estratégias de teste a serem empregada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Abordagem (Caixa Preta e Caixa Branca)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Tipos de testes: funcionais, de segurança, entre outros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Descrever quais técnicas serão utilizadas para criação dos casos de testes: baseados em casos de uso, de boundary, entre outras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Critérios de sucesso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Identificar os recursos necessário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Tahoma"/>
              </a:rPr>
              <a:t>Recursos humano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Tahoma"/>
              </a:rPr>
              <a:t>Ferramenta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Prover uma estimativa dos esforços de test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Tahoma"/>
              </a:rPr>
              <a:t>Atividade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Tahoma"/>
              </a:rPr>
              <a:t>Responsabilidade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Tahoma"/>
              </a:rPr>
              <a:t>Cronograma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80808"/>
                </a:solidFill>
                <a:latin typeface="Tahoma"/>
              </a:rPr>
              <a:t>Projeto de Test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Artefato que descreve os casos de testes e os procedimentos para execução dos mesmo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ara projetar casos de testes, são visualizados cenários (casos de uso) a partir dos quais serão criados casos de teste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stabilizar o Test bed: combinação de drivers e stub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Determinar pré-condições para o teste e os objetivos a serem atingido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specificar os casos de testes individuai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Determinar como executar os test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80808"/>
                </a:solidFill>
                <a:latin typeface="Tahoma"/>
              </a:rPr>
              <a:t>Exemplo de criação de caso de teste baseado em caso de us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066680"/>
          <a:ext cx="8839080" cy="5645160"/>
        </p:xfrm>
        <a:graphic>
          <a:graphicData uri="http://schemas.openxmlformats.org/drawingml/2006/table">
            <a:tbl>
              <a:tblPr/>
              <a:tblGrid>
                <a:gridCol w="1745640"/>
                <a:gridCol w="112320"/>
                <a:gridCol w="6981120"/>
              </a:tblGrid>
              <a:tr h="182880">
                <a:tc gridSpan="3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UC07]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1f49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Nome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dastrar usuário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</a:tr>
              <a:tr h="183960"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Atores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dedor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</a:tr>
              <a:tr h="182880"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Prioridade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sencial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</a:tr>
              <a:tr h="314280"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Requisitos associados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[RF02] Cadastro de usuário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</a:tr>
              <a:tr h="914400"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Entradas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Nome, CPF, Data de Nascimento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Login (exceto para funcionário)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Senha (exceto para funcionário)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Crédito, data inicial,  final, permissão para comprar em dinheiro, dias da semana (apenas funcionário)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</a:tr>
              <a:tr h="365400"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Pré-condições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vendedor deve estar logado no sistema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usuário não deverá estar cadastrado no sistema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</a:tr>
              <a:tr h="182880"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Pós-condições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usuário deve estar cadastrado no banco de dado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</a:tr>
              <a:tr h="183960">
                <a:tc gridSpan="3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luxos de evento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1f49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23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Fluxo Normal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usuário seleciona a opção “Cadastrar Usuário”. [Fluxo Excepcional 1]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usuário seleciona se o cadastro a ser feito é de funcionário, gerente ou vendedor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usuário fornece os dados da pessoa a ser cadastrada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sistema verifica se todas as informações obrigatórias foram fornecidas. [Fluxo Excepcional 2]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sistema valida as informações fornecidas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sistema mostra uma tela para confirmação do cadastro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usuário confirma o cadastro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s dados são armazenados na base de dados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Fluxo Excepcional 1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A opção “Voltar” é selecionada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Todos os dados informados são descartados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A tela inicial do sistema é mostrada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03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Fluxo Excepcional 2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Uma ou várias informações obrigatórias não são informadas ou o formato da informação não é o adequado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sistema mostra uma tela informando que falta uma ou mais informações obrigatórias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80808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sistema retorna para a tela “Cadastrar Pessoa” com os dados informados nos seus respectivos lugares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2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0" name="Rectangle 4">
            <a:hlinkClick r:id="" action="ppaction://hlinkshowjump?jump=nextslide"/>
          </p:cNvPr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4920" y="83808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1052640"/>
            <a:ext cx="1655640" cy="143964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Organizaçã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Almoxarifad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Produt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Vendas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3" name="Rectangle 10">
            <a:hlinkClick r:id="" action="ppaction://hlinkshowjump?jump=nextslide"/>
          </p:cNvPr>
          <p:cNvSpPr/>
          <p:nvPr/>
        </p:nvSpPr>
        <p:spPr>
          <a:xfrm>
            <a:off x="324000" y="1917720"/>
            <a:ext cx="1655640" cy="216000"/>
          </a:xfrm>
          <a:prstGeom prst="rect">
            <a:avLst/>
          </a:prstGeom>
          <a:solidFill>
            <a:srgbClr val="003399">
              <a:alpha val="28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Usuári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476360" y="1773360"/>
            <a:ext cx="6264360" cy="468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o de Usuári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Nome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PF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Data de Nascimento: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Tipo de usuário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6732720" y="6094440"/>
            <a:ext cx="93492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&lt;&lt; Volt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419640" y="4005360"/>
            <a:ext cx="4176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Gerent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4" name="Rectangle 12">
            <a:hlinkClick r:id="" action="ppaction://hlinkshowjump?jump=nextslide"/>
          </p:cNvPr>
          <p:cNvSpPr/>
          <p:nvPr/>
        </p:nvSpPr>
        <p:spPr>
          <a:xfrm>
            <a:off x="3995640" y="4869000"/>
            <a:ext cx="1440000" cy="28872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ontinuar &gt;&g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7308720" y="4005360"/>
            <a:ext cx="287640" cy="28872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 rot="10800000">
            <a:off x="7378560" y="4113360"/>
            <a:ext cx="146160" cy="72720"/>
          </a:xfrm>
          <a:prstGeom prst="triangle">
            <a:avLst>
              <a:gd name="adj" fmla="val 5000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2340000" y="2349360"/>
            <a:ext cx="5256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Nome 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2195640" y="2854440"/>
            <a:ext cx="54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032.165.987-5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3780000" y="3429000"/>
            <a:ext cx="381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23/03/1985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1476360" y="1773360"/>
            <a:ext cx="6264360" cy="468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o de Usuári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Login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Senha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732720" y="6094440"/>
            <a:ext cx="93492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&lt;&lt; Volt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340000" y="2349360"/>
            <a:ext cx="5256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login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0" name="Rectangle 12">
            <a:hlinkClick r:id="" action="ppaction://hlinkshowjump?jump=nextslide"/>
          </p:cNvPr>
          <p:cNvSpPr/>
          <p:nvPr/>
        </p:nvSpPr>
        <p:spPr>
          <a:xfrm>
            <a:off x="3995640" y="4869000"/>
            <a:ext cx="1440000" cy="28872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340000" y="2924280"/>
            <a:ext cx="525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senha1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2700360" y="3213000"/>
            <a:ext cx="4032360" cy="12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O usuário foi cadastrado com sucesso!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2700360" y="3213000"/>
            <a:ext cx="4032360" cy="216000"/>
          </a:xfrm>
          <a:prstGeom prst="rect">
            <a:avLst/>
          </a:prstGeom>
          <a:solidFill>
            <a:srgbClr val="0033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adastro de usuári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1" name="Rectangle 11">
            <a:hlinkClick r:id="" action="ppaction://hlinkshowjump?jump=nextslide"/>
          </p:cNvPr>
          <p:cNvSpPr/>
          <p:nvPr/>
        </p:nvSpPr>
        <p:spPr>
          <a:xfrm>
            <a:off x="4427640" y="4149720"/>
            <a:ext cx="79200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80808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Roteir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rocesso de Desenvolvimento: Problema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Soluçã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lano de Test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rojeto de Test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Teste baseado em Caso de Us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Conclusã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4" name="Rectangle 4">
            <a:hlinkClick r:id="" action="ppaction://hlinkshowjump?jump=nextslide"/>
          </p:cNvPr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1052640"/>
            <a:ext cx="1655640" cy="143964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Organizaçã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Almoxarifad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Produt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Vendas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7" name="Rectangle 10">
            <a:hlinkClick r:id="" action="ppaction://hlinkshowjump?jump=nextslide"/>
          </p:cNvPr>
          <p:cNvSpPr/>
          <p:nvPr/>
        </p:nvSpPr>
        <p:spPr>
          <a:xfrm>
            <a:off x="324000" y="1917720"/>
            <a:ext cx="1655640" cy="216000"/>
          </a:xfrm>
          <a:prstGeom prst="rect">
            <a:avLst/>
          </a:prstGeom>
          <a:solidFill>
            <a:srgbClr val="003399">
              <a:alpha val="28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Usuári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1476360" y="1773360"/>
            <a:ext cx="6264360" cy="468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o de Usuári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Nome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PF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Data de Nascimento: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Tipo de usuário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732720" y="6094440"/>
            <a:ext cx="93492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&lt;&lt; Volt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419640" y="4005360"/>
            <a:ext cx="4176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Vendedo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Rectangle 12">
            <a:hlinkClick r:id="" action="ppaction://hlinkshowjump?jump=nextslide"/>
          </p:cNvPr>
          <p:cNvSpPr/>
          <p:nvPr/>
        </p:nvSpPr>
        <p:spPr>
          <a:xfrm>
            <a:off x="3995640" y="4869000"/>
            <a:ext cx="1440000" cy="28872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ontinuar &gt;&g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7308720" y="4005360"/>
            <a:ext cx="287640" cy="28872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0" name="AutoShape 14"/>
          <p:cNvSpPr/>
          <p:nvPr/>
        </p:nvSpPr>
        <p:spPr>
          <a:xfrm rot="10800000">
            <a:off x="7378560" y="4113360"/>
            <a:ext cx="146160" cy="72720"/>
          </a:xfrm>
          <a:prstGeom prst="triangle">
            <a:avLst>
              <a:gd name="adj" fmla="val 5000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340000" y="2349360"/>
            <a:ext cx="5256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Nome 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2195640" y="2854440"/>
            <a:ext cx="54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053.725.944-5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3780000" y="3429000"/>
            <a:ext cx="381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07/07/1989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476360" y="1773360"/>
            <a:ext cx="6264360" cy="468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o de Usuári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Login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Senha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6732720" y="6094440"/>
            <a:ext cx="93492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&lt;&lt; Volt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340000" y="2349360"/>
            <a:ext cx="5256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login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4" name="Rectangle 12">
            <a:hlinkClick r:id="" action="ppaction://hlinkshowjump?jump=nextslide"/>
          </p:cNvPr>
          <p:cNvSpPr/>
          <p:nvPr/>
        </p:nvSpPr>
        <p:spPr>
          <a:xfrm>
            <a:off x="3995640" y="4869000"/>
            <a:ext cx="1440000" cy="28872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2340000" y="2924280"/>
            <a:ext cx="525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senha2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2700360" y="3213000"/>
            <a:ext cx="4032360" cy="12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O usuário foi cadastrado com sucesso!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2700360" y="3213000"/>
            <a:ext cx="4032360" cy="216000"/>
          </a:xfrm>
          <a:prstGeom prst="rect">
            <a:avLst/>
          </a:prstGeom>
          <a:solidFill>
            <a:srgbClr val="0033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adastro de usuári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5" name="Rectangle 11">
            <a:hlinkClick r:id="" action="ppaction://hlinkshowjump?jump=nextslide"/>
          </p:cNvPr>
          <p:cNvSpPr/>
          <p:nvPr/>
        </p:nvSpPr>
        <p:spPr>
          <a:xfrm>
            <a:off x="4427640" y="4149720"/>
            <a:ext cx="79200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80808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8" name="Rectangle 4">
            <a:hlinkClick r:id="" action="ppaction://hlinkshowjump?jump=nextslide"/>
          </p:cNvPr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324000" y="1052640"/>
            <a:ext cx="1655640" cy="143964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Organizaçã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Almoxarifad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Produt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Vendas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1" name="Rectangle 10">
            <a:hlinkClick r:id="" action="ppaction://hlinkshowjump?jump=nextslide"/>
          </p:cNvPr>
          <p:cNvSpPr/>
          <p:nvPr/>
        </p:nvSpPr>
        <p:spPr>
          <a:xfrm>
            <a:off x="324000" y="1917720"/>
            <a:ext cx="1655640" cy="216000"/>
          </a:xfrm>
          <a:prstGeom prst="rect">
            <a:avLst/>
          </a:prstGeom>
          <a:solidFill>
            <a:srgbClr val="003399">
              <a:alpha val="28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Arial"/>
              </a:rPr>
              <a:t>Usuári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476360" y="1773360"/>
            <a:ext cx="6264360" cy="468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o de Usuári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Nome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PF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Data de Nascimento: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Tipo de usuário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6732720" y="6094440"/>
            <a:ext cx="93492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&lt;&lt; Volt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3419640" y="4005360"/>
            <a:ext cx="4176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uncionári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2" name="Rectangle 12">
            <a:hlinkClick r:id="" action="ppaction://hlinkshowjump?jump=nextslide"/>
          </p:cNvPr>
          <p:cNvSpPr/>
          <p:nvPr/>
        </p:nvSpPr>
        <p:spPr>
          <a:xfrm>
            <a:off x="3995640" y="4869000"/>
            <a:ext cx="1440000" cy="28872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ontinuar &gt;&gt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7308720" y="4005360"/>
            <a:ext cx="287640" cy="28872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4" name="AutoShape 14"/>
          <p:cNvSpPr/>
          <p:nvPr/>
        </p:nvSpPr>
        <p:spPr>
          <a:xfrm rot="10800000">
            <a:off x="7378560" y="4113360"/>
            <a:ext cx="146160" cy="72720"/>
          </a:xfrm>
          <a:prstGeom prst="triangle">
            <a:avLst>
              <a:gd name="adj" fmla="val 5000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2340000" y="2349360"/>
            <a:ext cx="5256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Nome 3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2195640" y="2854440"/>
            <a:ext cx="540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012.165.548-54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3780000" y="3429000"/>
            <a:ext cx="381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07/07/198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476360" y="1773360"/>
            <a:ext cx="6264360" cy="468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o de Usuári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rédito em reais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Data Inicial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Data Final: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Permissão para compras em dinheiro? 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Dias permitidos para realizar compras:      tod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2ª feira       3ª feira       4ª feira        5ª feira          6ª feir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6732720" y="6094440"/>
            <a:ext cx="93492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&lt;&lt; Voltar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7" name="Rectangle 11">
            <a:hlinkClick r:id="" action="ppaction://hlinkshowjump?jump=nextslide"/>
          </p:cNvPr>
          <p:cNvSpPr/>
          <p:nvPr/>
        </p:nvSpPr>
        <p:spPr>
          <a:xfrm>
            <a:off x="3995640" y="5661000"/>
            <a:ext cx="1440000" cy="28908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3419640" y="2349360"/>
            <a:ext cx="4176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10,0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2843280" y="2925720"/>
            <a:ext cx="4753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01/11/200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3780000" y="3429000"/>
            <a:ext cx="3816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07/11/2007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5580000" y="4005360"/>
            <a:ext cx="18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Nã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7093080" y="4005360"/>
            <a:ext cx="287280" cy="288720"/>
          </a:xfrm>
          <a:prstGeom prst="rect">
            <a:avLst/>
          </a:prstGeom>
          <a:solidFill>
            <a:srgbClr val="96969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3" name="AutoShape 17"/>
          <p:cNvSpPr/>
          <p:nvPr/>
        </p:nvSpPr>
        <p:spPr>
          <a:xfrm rot="10800000">
            <a:off x="7164000" y="4116240"/>
            <a:ext cx="144360" cy="69840"/>
          </a:xfrm>
          <a:prstGeom prst="triangle">
            <a:avLst>
              <a:gd name="adj" fmla="val 5000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1692360" y="5157720"/>
            <a:ext cx="1429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2844720" y="5157720"/>
            <a:ext cx="1429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6" name="Rectangle 20"/>
          <p:cNvSpPr/>
          <p:nvPr/>
        </p:nvSpPr>
        <p:spPr>
          <a:xfrm>
            <a:off x="4067280" y="5157720"/>
            <a:ext cx="1429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6589800" y="5157720"/>
            <a:ext cx="1429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5221440" y="5157720"/>
            <a:ext cx="1425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289" name="Picture 23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44360" cy="12060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476280"/>
            <a:ext cx="9144000" cy="936720"/>
          </a:xfrm>
          <a:prstGeom prst="rect">
            <a:avLst/>
          </a:prstGeom>
          <a:solidFill>
            <a:srgbClr val="00808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7aa6b0"/>
                </a:solidFill>
                <a:latin typeface="Tahoma"/>
              </a:rPr>
              <a:t> </a:t>
            </a:r>
            <a:r>
              <a:rPr b="0" lang="pt-BR" sz="1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50920" y="765000"/>
            <a:ext cx="8713800" cy="360360"/>
          </a:xfrm>
          <a:prstGeom prst="rect">
            <a:avLst/>
          </a:prstGeom>
          <a:solidFill>
            <a:srgbClr val="7aa6b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24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Cadast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7308720" y="836640"/>
            <a:ext cx="151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Fazer logoff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550872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latóri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97964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Altera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3780000" y="836640"/>
            <a:ext cx="1512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Arial"/>
              </a:rPr>
              <a:t>Remove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00360" y="3213000"/>
            <a:ext cx="4032360" cy="12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80808"/>
                </a:solidFill>
                <a:latin typeface="Arial"/>
              </a:rPr>
              <a:t>O usuário foi cadastrado com sucesso!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2700360" y="3213000"/>
            <a:ext cx="4032360" cy="216000"/>
          </a:xfrm>
          <a:prstGeom prst="rect">
            <a:avLst/>
          </a:prstGeom>
          <a:solidFill>
            <a:srgbClr val="0033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Cadastro de usuário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9" name="Rectangle 11">
            <a:hlinkClick r:id="" action="ppaction://hlinkshowjump?jump=nextslide"/>
          </p:cNvPr>
          <p:cNvSpPr/>
          <p:nvPr/>
        </p:nvSpPr>
        <p:spPr>
          <a:xfrm>
            <a:off x="4427640" y="4149720"/>
            <a:ext cx="79200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80808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80808"/>
                </a:solidFill>
                <a:latin typeface="Tahoma"/>
              </a:rPr>
              <a:t>Problema no Processo de Desenvolvimento</a:t>
            </a:r>
            <a:endParaRPr b="0" lang="en-US" sz="3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Omissão de etapas de test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Inconsistência entre documento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Falta de comprometimento com a qualidade dos sistema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onseqüências: produtos de baixa confiabilidade e gastos desnecessários por causa de descobertas de erros tardias.</a:t>
            </a: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1523880" y="4191120"/>
            <a:ext cx="7619760" cy="2361600"/>
            <a:chOff x="1523880" y="4191120"/>
            <a:chExt cx="7619760" cy="2361600"/>
          </a:xfrm>
        </p:grpSpPr>
        <p:sp>
          <p:nvSpPr>
            <p:cNvPr id="89" name="Rectangle 4"/>
            <p:cNvSpPr/>
            <p:nvPr/>
          </p:nvSpPr>
          <p:spPr>
            <a:xfrm>
              <a:off x="1523880" y="4191120"/>
              <a:ext cx="1486080" cy="457200"/>
            </a:xfrm>
            <a:prstGeom prst="rect">
              <a:avLst/>
            </a:prstGeom>
            <a:solidFill>
              <a:srgbClr val="f4f2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80808"/>
                  </a:solidFill>
                  <a:latin typeface="Tahoma"/>
                  <a:ea typeface="Times New Roman"/>
                </a:rPr>
                <a:t>Definição de Requisitos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2514240" y="4683960"/>
              <a:ext cx="1754640" cy="494280"/>
            </a:xfrm>
            <a:prstGeom prst="rect">
              <a:avLst/>
            </a:prstGeom>
            <a:solidFill>
              <a:srgbClr val="f2f6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80808"/>
                  </a:solidFill>
                  <a:latin typeface="Tahoma"/>
                  <a:ea typeface="Times New Roman"/>
                </a:rPr>
                <a:t>Projeto do Sistema e do Software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14080" y="5220000"/>
              <a:ext cx="1671480" cy="522360"/>
            </a:xfrm>
            <a:prstGeom prst="rect">
              <a:avLst/>
            </a:prstGeom>
            <a:solidFill>
              <a:srgbClr val="f2f6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80808"/>
                  </a:solidFill>
                  <a:latin typeface="Tahoma"/>
                  <a:ea typeface="Times New Roman"/>
                </a:rPr>
                <a:t>Implementação e Testes Unitários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218200" y="5801400"/>
              <a:ext cx="1638360" cy="474480"/>
            </a:xfrm>
            <a:prstGeom prst="rect">
              <a:avLst/>
            </a:prstGeom>
            <a:solidFill>
              <a:srgbClr val="f2f6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80808"/>
                  </a:solidFill>
                  <a:latin typeface="Tahoma"/>
                  <a:ea typeface="Times New Roman"/>
                </a:rPr>
                <a:t>Integração e Teste do Sistema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6934680" y="6219000"/>
              <a:ext cx="2208960" cy="333720"/>
            </a:xfrm>
            <a:prstGeom prst="rect">
              <a:avLst/>
            </a:prstGeom>
            <a:solidFill>
              <a:srgbClr val="f2f6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80808"/>
                  </a:solidFill>
                  <a:latin typeface="Tahoma"/>
                  <a:ea typeface="Times New Roman"/>
                </a:rPr>
                <a:t>Operação e Manutenção</a:t>
              </a: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3012480" y="43437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4266360" y="487692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5791320" y="545688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6867360" y="591408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3384000" y="434376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>
              <a:off x="4648320" y="487692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0" name="Line 15"/>
            <p:cNvSpPr/>
            <p:nvPr/>
          </p:nvSpPr>
          <p:spPr>
            <a:xfrm>
              <a:off x="6171120" y="545688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>
              <a:off x="7238880" y="591408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Exemplo de criação de caso de teste baseado em caso de us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Técnica utilizada: Use Case Testing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00200" y="1828800"/>
          <a:ext cx="7315200" cy="4699080"/>
        </p:xfrm>
        <a:graphic>
          <a:graphicData uri="http://schemas.openxmlformats.org/drawingml/2006/table">
            <a:tbl>
              <a:tblPr/>
              <a:tblGrid>
                <a:gridCol w="1143000"/>
                <a:gridCol w="3133800"/>
                <a:gridCol w="1361880"/>
                <a:gridCol w="1676520"/>
              </a:tblGrid>
              <a:tr h="274680"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2f6f6"/>
                          </a:solidFill>
                          <a:latin typeface="Tahoma"/>
                          <a:ea typeface="Times New Roman"/>
                        </a:rPr>
                        <a:t>ID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Tahoma"/>
                          <a:ea typeface="Times New Roman"/>
                        </a:rPr>
                        <a:t>CT_001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2f6f6"/>
                          </a:solidFill>
                          <a:latin typeface="Tahoma"/>
                          <a:ea typeface="Times New Roman"/>
                        </a:rPr>
                        <a:t>Tipo do teste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Tahoma"/>
                          <a:ea typeface="Times New Roman"/>
                        </a:rPr>
                        <a:t>Funcional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</a:tr>
              <a:tr h="2761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2f6f6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Tahoma"/>
                          <a:ea typeface="Times New Roman"/>
                        </a:rPr>
                        <a:t>Verificar se a funcionalidade de cadastrar usuário está executando corretamente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2f6f6"/>
                          </a:solidFill>
                          <a:latin typeface="Tahoma"/>
                          <a:ea typeface="Times New Roman"/>
                        </a:rPr>
                        <a:t>Requisito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[RF02] Cadastro de usuário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2f6f6"/>
                          </a:solidFill>
                          <a:latin typeface="Tahoma"/>
                          <a:ea typeface="Times New Roman"/>
                        </a:rPr>
                        <a:t>Pré-condição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1. O vendedor deve estar logado no sistema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2. O usuário não deverá estar cadastrado no sistema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2f6f6"/>
                          </a:solidFill>
                          <a:latin typeface="Tahoma"/>
                          <a:ea typeface="Times New Roman"/>
                        </a:rPr>
                        <a:t>Nº. do Passo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2f6f6"/>
                          </a:solidFill>
                          <a:latin typeface="Tahoma"/>
                          <a:ea typeface="Times New Roman"/>
                        </a:rPr>
                        <a:t>Passo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2f6f6"/>
                          </a:solidFill>
                          <a:latin typeface="Tahoma"/>
                          <a:ea typeface="Times New Roman"/>
                        </a:rPr>
                        <a:t>Resultados Esperado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>
                  <a:txBody>
                    <a:bodyPr lIns="41760" rIns="41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Selecione a opção “Cadastrar Usuário”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 grid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Tahoma"/>
                          <a:ea typeface="Times New Roman"/>
                        </a:rPr>
                        <a:t>A tela de cadastro é apresentada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440">
                <a:tc>
                  <a:txBody>
                    <a:bodyPr lIns="41760" rIns="41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Forneça os dados do usuário (nome = nome1, CPF = 032.165.987-52, data de nascimento = 23/03/1985, tipo de usuário = gerente ) e selecione o botão “Continuar”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 grid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A tela para cadastrar login e senha é apresentada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41760" rIns="41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Forneça os valores de login e senha (login = login1 e senha = senha1) e selecione o botão “Cadastrar”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 grid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Tahoma"/>
                          <a:ea typeface="Times New Roman"/>
                        </a:rPr>
                        <a:t>O sistema retorna uma mensagem informando que o usuário foi cadastrado com sucesso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41760" rIns="41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80808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Verifique se o  usuário está cadastrado no banco de dados com todas as informações fornecidas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 grid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O usuário foi cadastrado no banco de dados com sucesso.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2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80808"/>
                </a:solidFill>
                <a:latin typeface="Tahoma"/>
              </a:rPr>
              <a:t>Exemplo de criação de caso de teste baseado em caso de us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 se nem todos os dados obrigatórios forem preenchidos?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 se esse usuário já tiver sido cadastrado no banco de dados?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 se o formato do CPF ou da data não obedecer ao padrão?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 se o usuário desistir de cadastrar usuário durante a realização do cadastro?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 se outras pré-condições forem violadas?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Sugestão: “tentar criar casos de testes não convencionais (se você não tentar, os usuários irão!!!)”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Conclusã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Produzir requisitos de testes baseados nos requisitos de anális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As fábricas de software que experimentam algumas mudanças chegam sempre às mesmas conclusões: optar por testar somente no fim é ineficaz, gera mais gastos, e ainda induz ao maior de todos os prejuízos: a insatisfação do usuário. ”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80808"/>
                </a:solidFill>
                <a:latin typeface="Tahoma"/>
              </a:rPr>
              <a:t>Exercíci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Desenvolver casos de testes a partir dos casos de uso descritos no seu projeto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Referências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[1] Testes de Software, disponível em www. URL: &lt;http://testesdesoftware.blogspot.com/2007/05/artigo-ii.html#links&gt;, último acesso em 23 de setembro de 2007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[2] Disciplina de Engenharia de Software, disponível em www. URL: http://www.cin.ufpe.br/~if682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[3] Spillner, A.; Linz, T.; Schaefer, H.: Software Testing Foundations, Rock Nook, 2007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7500960" cy="336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Soluçã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Iniciar ciclo de vida do teste em paralelo ao de desenvolvimento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Elaborar Plano de Teste previamente ajuda quem pretende melhorar o seu processo de desenvolvimento e produzir com maior qualidad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Soluçã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50385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Soluçã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Poderia haver um responsável por testes desde o início do projeto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O plano pode ser elaborado por alguém, antes do desenvolvimento do sistema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Vantagens: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exige o estudo de toda regra de negócio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incentiva à imaginação e criação de cenários de testes, não visualizados pelo analista do sistema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xemplo: Tela de Login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Ex.: Tela de Login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asos de testes construídos sem análise prévia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76520" y="2666880"/>
          <a:ext cx="7315200" cy="2362320"/>
        </p:xfrm>
        <a:graphic>
          <a:graphicData uri="http://schemas.openxmlformats.org/drawingml/2006/table">
            <a:tbl>
              <a:tblPr/>
              <a:tblGrid>
                <a:gridCol w="1218960"/>
                <a:gridCol w="2362320"/>
                <a:gridCol w="3733920"/>
              </a:tblGrid>
              <a:tr h="37692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7aa6b0"/>
                          </a:solidFill>
                          <a:latin typeface="Tahoma"/>
                        </a:rPr>
                        <a:t>Login do Usuári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aa6b0"/>
                      </a:solidFill>
                    </a:lnL>
                    <a:lnR w="1872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18720">
                      <a:solidFill>
                        <a:srgbClr val="7aa6b0"/>
                      </a:solidFill>
                    </a:lnB>
                    <a:solidFill>
                      <a:srgbClr val="917aa4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7aa6b0"/>
                          </a:solidFill>
                          <a:latin typeface="Tahoma"/>
                        </a:rPr>
                        <a:t>Casos de Test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18720">
                      <a:solidFill>
                        <a:srgbClr val="7aa6b0"/>
                      </a:solidFill>
                    </a:lnB>
                    <a:solidFill>
                      <a:srgbClr val="917aa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Informar login corret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1872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O sistema valida as informações e carrega na tela principal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1872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Informar login incorreto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ee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É exibido o alerta “Login e/ou senha inválido(s). Verifique por favor.”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eeecf0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Informar senha incorreta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É exibido o alerta “Login e/ou senha inválido(s). Verifique por favor.”</a:t>
                      </a: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Ex.: Tela de Login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Maior domínio das regras de negócios -&gt; maior cobertura dos casos de test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3880" y="2666880"/>
          <a:ext cx="7543800" cy="3237120"/>
        </p:xfrm>
        <a:graphic>
          <a:graphicData uri="http://schemas.openxmlformats.org/drawingml/2006/table">
            <a:tbl>
              <a:tblPr/>
              <a:tblGrid>
                <a:gridCol w="1219320"/>
                <a:gridCol w="2438280"/>
                <a:gridCol w="3886200"/>
              </a:tblGrid>
              <a:tr h="368280">
                <a:tc rowSpan="6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7aa6b0"/>
                          </a:solidFill>
                          <a:latin typeface="Tahoma"/>
                        </a:rPr>
                        <a:t>Login do Usuário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aa6b0"/>
                      </a:solidFill>
                    </a:lnL>
                    <a:lnR w="1872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18720">
                      <a:solidFill>
                        <a:srgbClr val="7aa6b0"/>
                      </a:solidFill>
                    </a:lnB>
                    <a:solidFill>
                      <a:srgbClr val="917aa4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7aa6b0"/>
                          </a:solidFill>
                          <a:latin typeface="Tahoma"/>
                        </a:rPr>
                        <a:t>Casos de Teste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18720">
                      <a:solidFill>
                        <a:srgbClr val="7aa6b0"/>
                      </a:solidFill>
                    </a:lnB>
                    <a:solidFill>
                      <a:srgbClr val="917aa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Não informar o login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1872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É exibido o alerta “O campo login deve ser preenchido. Verifique, por favor.”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1872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Não informar senha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ee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É exibido o alerta “O campo de senha deve ser preenchido. Verifique por favor.”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eeecf0"/>
                    </a:solidFill>
                  </a:tcPr>
                </a:tc>
              </a:tr>
              <a:tr h="3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Verificar sintaxe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A sintaxe do texto deve estar correta.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Verificar as atribuições do usuário (teste de segurança)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ee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No momento em que ocorrer o login, apenas as funcionalidades com permissões atribuídas devem ser exibidas ao usuário.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eeecf0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Logar com o mesmo usuário em dois browsers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É exibido um alertas notificando a duplicidade, e é notificada por e-mail a ocorrência desta redundância ao usuário.</a:t>
                      </a:r>
                      <a:endParaRPr b="0" lang="en-US" sz="14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7aa6b0"/>
                      </a:solidFill>
                    </a:lnL>
                    <a:lnR w="5760">
                      <a:solidFill>
                        <a:srgbClr val="7aa6b0"/>
                      </a:solidFill>
                    </a:lnR>
                    <a:lnT w="5760">
                      <a:solidFill>
                        <a:srgbClr val="7aa6b0"/>
                      </a:solidFill>
                    </a:lnT>
                    <a:lnB w="5760">
                      <a:solidFill>
                        <a:srgbClr val="7aa6b0"/>
                      </a:solidFill>
                    </a:lnB>
                    <a:solidFill>
                      <a:srgbClr val="dc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Teste baseado em </a:t>
            </a:r>
            <a:br>
              <a:rPr sz="4000"/>
            </a:b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Caso de Uso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Responsável pelo Plano de Testes: Analista de Test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labora Projeto de testes durante e/ou após elaboração de casos de uso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Comunicação com o analista de sistema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80808"/>
                </a:solidFill>
                <a:latin typeface="Tahoma"/>
              </a:rPr>
              <a:t>tirar dúvidas sobre os casos de uso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Exemplo de Caso de uso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O usuário informa a data início e data fim que deseja procurar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O sistema retorna todos os registros cadastrados entre as datas informada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Neste momento, o analista  de testes constrói os seguintes casos de teste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6:36:12Z</dcterms:created>
  <dc:creator>Taíse Dias da Silva</dc:creator>
  <dc:description/>
  <cp:keywords/>
  <dc:language>en-US</dc:language>
  <cp:lastModifiedBy>Alexandre Vasconcelos</cp:lastModifiedBy>
  <dcterms:modified xsi:type="dcterms:W3CDTF">2007-11-07T20:53:24Z</dcterms:modified>
  <cp:revision>88</cp:revision>
  <dc:subject/>
  <dc:title>How to Break a Softw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6</vt:lpwstr>
  </property>
</Properties>
</file>