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2112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91360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21120" y="891360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CFF3-6F22-456B-92E3-EA11465BFA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6C74-5D16-4560-9F45-3BC43CE9270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C287-85A8-465D-8CB6-6C2A8CFCF2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BDA1-CBFA-4395-A772-820F375729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D97-D919-4087-BD0B-616D64D4B7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5BE2-28B4-471E-BFD5-898783E440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3F11-CF59-46C9-A130-86E48912B96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FAAB-392D-4592-A46F-AC33326EBB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5ED-6026-4600-84E4-F5F171D0EC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786F-8D37-444A-B06B-C2844413B4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9A5D-B9E3-4FDD-AC28-636AA68AEF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031-90E2-42F4-8D5E-E88E0B7385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8AE3-ABDC-437C-8BE8-B47962E514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EAF-507F-4DB5-92BF-0BFA971AEB0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A637-4265-42DC-8602-F666E72357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25F-9399-4997-B957-F5891BACE0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7EE-3582-429B-A834-1F02B236EB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92A2-E37B-47D6-BC39-A2B4981BA2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5AA-BE9B-4A71-8762-0E1779437A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F73C-6C8F-4F02-9322-2D5F4616A71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26B-238E-41B7-82AB-4E447C73FE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4AAA-3B63-4618-B0CA-FD79411D8C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F19-36E9-4B91-A951-85A4D0396D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E4D0-2BC4-45E4-848A-AF487C64EC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06BC-7B35-4EA5-9D01-A51466D4ABB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4601-2CF7-4292-957F-54EF6B24D4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E696-5959-425F-ABD5-A8EBF03044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1A8D-3820-441D-AEF8-D313B85FE6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572-39C5-4C3E-8615-4648452861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177-AFF7-40AA-BA94-7CFE052008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4FE9-66CC-4378-88C3-C73221DBDD2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4F6A-49F9-4802-AABE-E98C987375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02B-0D42-4B9A-A5BB-73DA611078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6814-3F5D-45E7-B47B-2400450265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EA00-C0BD-43D4-9845-AC862A2348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39C0-5007-4117-AB0E-FD0C958A36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062F-9F4D-4BFB-9C35-2E41FB0F9A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D8A0-C46E-4EA7-A283-F55F154F3A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7A4A-52DA-4364-A7A2-AFA2A5FD7EB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940-5424-489F-8AD0-AD2EE026AB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692C-B9D9-49D9-BB55-3F62A6CE6F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00D-FB84-4C2E-B953-9ECCED15B5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2F1-0DAA-4B30-8CCE-7DA5B78463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D878-5C42-47D5-B914-282944BBD2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3574-240F-4403-BE7D-641A64EF7F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4268-AC05-4373-B90E-7AC6204737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A888-985B-4646-8131-44A9A92554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4CEE-EC48-4288-9C98-7F18FD5372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EAFA-4417-4FC7-B8E1-869C95A4FD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603-5680-4F3B-9114-ACC8C8EA43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28A1-DA04-4A0D-9BCF-03277D833C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E25-AC4B-41CF-9BE3-7E3861C210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66E-7A2D-4A43-8310-1D78F43140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478A-51A5-4FA2-8AB6-79285968F2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1F3B-9F7E-4690-9FA9-7C3CFECB57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F56C-75D6-4D96-BE53-66B6858DD6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FE5-BA71-43EB-9CC4-5292A93B6E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2EA3-486B-4BE5-B48F-3BD9E47A40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99D-5E11-4995-BEA8-B34AF204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08E-7145-4EDC-A988-05EA5BD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ACC-67F9-4406-9A5D-1AF8D10B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178-0521-4051-8C24-39183254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646-210F-4355-9AF5-4C8B4E24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827-B3A5-4F05-BB4B-B55B726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B814-7038-42EA-B888-C60FB560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86EA-F747-45EF-9050-90FC4AE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E19-54AE-49A6-B19F-582201A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49FE-A2E1-49B8-9A97-29B9BE6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0D74-F442-4235-BE09-F9D312C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3B2-1180-4098-8534-DD2023E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E858-73CF-4DC5-9CFF-706D887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5862-02C4-466D-96DA-3D2F8D4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37C4-3655-4CCF-872C-6ED4066A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62A9-A2F2-492F-AC95-3D40FBB7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E30-7CC2-4665-B521-36B51EB6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616-64D7-4DE4-8619-5A3E35D6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061-4C16-4089-BA6B-4421C7F1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31F-E303-43B8-BFEF-D69B18CF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E89-7D9E-44E3-8BA4-4FC8388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367-A20E-4559-9980-C2B7CC7C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828-0C2E-4555-A72B-CA98865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DC5-0A64-4154-87A9-E948CDC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025E-45C2-42C0-B5F3-770E2D098A0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0EC1-ECC3-47F3-9B03-BC498475E911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ites.google.com/site/ezestimatio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xplanner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4157-EA34-42F9-87B4-DE54AE1531C5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lanejamento/Gerencia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exandre Mota (acm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9F0-508F-4118-9AA1-02CF51DC9C6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ejamento para controlar depo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zemos em 3 meses, o que planejamos fazer em 2, mas depois nós ganhamos temp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gramação sem padroniz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 codificar de qualquer jeito; ganho temp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D08-CAFD-4154-8203-91CEF49790A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rodu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sitos dem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i que o usuário não pediu, mas vamos melhorar a performance do sistema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senvolvedor exage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i que o sistema não precisa e que não domino a tecnologia, mas vou usar o recurso R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senvolvimento orientado a pesqu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i que vou desenvolver funcionalidade F, que é estado-da-arte, mas minha estimativa é razoável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548-CEBC-42F4-AC34-1ED6A2B838A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Tecnolog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índrome da bala de pr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 usar o gerador de GUIs e não terei problemas quanto ao desenvolvimento das GUIs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timativa otimista com novas ferramentas ou méto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 usar ferramenta F, no lugar de G, daí vou ganhar temp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F45-711B-4E16-A255-B38F1CB6A96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Tecnolog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oca de ferramentas no meio do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 usar a nova versão de F, pois tem mais recursos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lta de controle sobre o código-fo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mos trabalhar em paralelo no módulo M (único arquivo) para ganharmos temp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B69-5741-44C6-8559-56441C3B684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rojeto: Definição PM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 empreendimento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emporário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alizado para criar um produto ou serviço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ú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2C01-EC90-4A41-84C0-EC80D55C062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iclo de Vid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limita início e fim de um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ntrola a administração do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abalho a ser feito X envolv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9777-42C1-4CA4-8DE3-E5BC8E80703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or que Planejar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riar propostas que sej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conômicamente viáveis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alizadas com recursos financeiros pré-estabelec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 que estejam de acordo com as necessidades requisit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presentar precisamente o que se pode fa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D7EB-03CB-4D5D-AB56-7EB8524BB5F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lanejando um projeto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icie com uma declaração explícita do trabalho a ser feito e verifique se corresponde ao que o cliente esp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m projetos médios e grandes, criam-se subprojetos menores e estima-os separad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Baseie suas estimativas em dados históricos de projetos semelh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1647-49D4-427C-AE58-E393D43B861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lanejamento e Estimativ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gistre suas estimativas para comparar com os resultados reais no final do proje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ejamento continua durante o  desenvolvimento e manuten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ejamento inicial não é sufi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ejamento detalhado só ocorre após a especificação de requisi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3A94-F11B-441B-837D-B7A03284564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lanejamento e o Processo de 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371600" y="2038320"/>
            <a:ext cx="6334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C177-D2BF-4D14-B045-63ECF454E6E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teúd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rros clássicos de planejamento e gerencia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que é projet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clo de vida de proje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mentos essenciais da gerência de proje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tivos gerais do planejamento e gerenciamento do projeto de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A4A-26F7-446D-98A3-BA012A9F2B4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imativa de Esforç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várias técnicas para estimar o esforço (tamanho) exigido no desenvolvimento de um produto de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a das mais recentes é a baseada em casos de u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FF5-60E1-4303-8A63-E7A578BF767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ndo Ator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or Si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onde há uma API bem definida para a inte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o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46F-18ED-4934-A2C2-CA7AE6A869A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ndo Ator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or Mé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istema onde a interação envolve um protocolo, por exemplo TCP/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o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F9A-DA42-4988-8138-EB00B0C4C51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ndo Ator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or Complex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 humano que necessita de uma GUI ou Web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o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E2E-42AE-4954-A97B-6DAD7A36B6F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ndo 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so de uso si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a quantidade de passos no fluxo for no máximo 3, 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cessitar de até 5 classes de anál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o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3C9-6F3B-4E8C-AFD2-0AEF82F65DC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ndo 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so de uso mé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a quantidade de passos no fluxo estiver entre 4 e 7 (inclusive), 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cessitar de 5 a 10 classes de anál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o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8DD6-23E1-49EC-91AE-C1313C33A76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ificando 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so de uso complex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a quantidade de passos no fluxo for maior que 7, 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cessitar mais de 10 classes de anál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o 1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447B-8030-4BC4-8860-1B7749DA837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atores Técni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2133720"/>
          <a:ext cx="7772400" cy="42717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stema Distribuí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o de resposta crí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inamento Especial Requer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33EA-15D3-4CC5-8B55-A3A278BE08B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atores Ambientai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82600" y="20178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iliar com mod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ência na Apli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quipe em 1/2 exped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F8A-C6F3-4B14-9C12-6082302FD8E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alculando os UCP´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ores (UAW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sos de uso (UUCW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UCP = UAW + UUC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tores técnicos (TCF=0.6+0.01*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atores ambientais (EF=1.4-0.03*E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CP = UUCP * TCF * 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6190-A38E-4E4D-8D5A-71343B59E112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rros Clássi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7168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envolvimento de Software é uma atividade complicada, então evite erros tais como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15BD-B8BC-4A2F-891F-CA932A96CF4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onvertendo UCP em Hor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Kar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 UCP =&gt; 20 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te valor deve estar entre 15 e 30h e deve ser ajustado de acordo com histórico da empre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tanto, um projeto 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CP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7 * 0.62 * 264 = 175.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manda 175.14*20h = +/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503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B31-EEF8-49E1-9A39-6D4101B5B1A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erramenta para Calcular Estimativ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ZEstim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sites.google.com/site/ezestimation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3476-11E9-4FF7-A3EA-77CFCD41202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é um plano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cumento que define o trabalho que e como deve ser fe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uma estimativa de tempo e recursos exigidos, e um contexto para gerenciamento de controle e revisão, para cada marc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 de benchmark para comparar com projetos anteriores, quando documentado apropri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lhorando erros em estimativas e sua preci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5C11-4944-4C98-B518-430F7129458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rutura Básica de um Plan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rganização do Proj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com Recursos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ssoas, SW, H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talhamento das Taref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nálise de Ris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onograma do Proj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ilestones/Deliver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ição de tarefas a pesso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iva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 do Proj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7F8F-FB86-4931-83BC-68EAEF5C65A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curs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ardo, Larissa, João, Márcia e Alberto (com Especialidad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Builder, .NET (quantidade e versõ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ptop, PC, PDA (quantidade e model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EF64-D161-4697-B701-7CC7CFF5B22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aref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ir para conquist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mente atribuída a uma pesso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imativa de tempo/esforço prec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de-se associar especialidade(s) necessária(s) para sua realiz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dem gerar (parte de) resultado desejável (mileston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8704-9F47-4AFC-9CC8-F126F2A2CD1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xemplos de Taref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revistar cliente 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zer uma Reuni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tar a GUI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ar o relatório 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ualizar o 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ar método M da classe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0CB4-7836-48B7-9617-61EDC86DEB6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r que Gerenciar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ra atingir objetivos e produzir resul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entrar responsabilidade e autoridade para atingir obje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ordenar e integrar todas as atividades para chegar aos result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4108-27C9-4A34-8D2E-94A26EF67F8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bjetivos do Gerencia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Line 3"/>
          <p:cNvSpPr/>
          <p:nvPr/>
        </p:nvSpPr>
        <p:spPr>
          <a:xfrm flipV="1">
            <a:off x="327672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3276720" y="43434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5"/>
          <p:cNvSpPr/>
          <p:nvPr/>
        </p:nvSpPr>
        <p:spPr>
          <a:xfrm flipH="1">
            <a:off x="1142640" y="4343400"/>
            <a:ext cx="21337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55040" y="19810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2840" y="617220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214680" y="44197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3276720" y="3657240"/>
            <a:ext cx="1218960" cy="6858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3276720" y="3645000"/>
            <a:ext cx="121896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2514600" y="4952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4495680" y="4343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4495680" y="3657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14"/>
          <p:cNvSpPr/>
          <p:nvPr/>
        </p:nvSpPr>
        <p:spPr>
          <a:xfrm rot="20400000">
            <a:off x="4571640" y="3200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457240" y="2575080"/>
            <a:ext cx="313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imite de orç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razo de entre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empenho Almej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0703-A3CA-46A0-BC6F-474CEBACCAE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Qualidades de um Gerent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deranç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unic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cidade de Resolver probl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bilidade de Negoci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luenciar a organiz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pecialista técnico e em proce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F75-B99A-4AC8-9BBE-0E6BFEFDFBA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esso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tivação incoer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forço do pessoal e chefe de férias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ssoal fra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ção apressada ao invés de convenien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ssoal problemá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ma pessoa pode desconcentrar uma equip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oís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so fazer tudo, não preciso da equip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A392-E514-47EC-A1E0-84B2950B099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Gerenciamento das Taref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Milest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nto final de uma atividade do processo de software (um marco no cronogram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liver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sultado do projeto a ser entregue ao cliente. Usualmente entregue ao final de uma f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Tarefas: Duração e Dependênci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9" name="Rectangle 205"/>
          <p:cNvSpPr/>
          <p:nvPr/>
        </p:nvSpPr>
        <p:spPr>
          <a:xfrm>
            <a:off x="5994360" y="6323040"/>
            <a:ext cx="2584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210"/>
          <p:cNvSpPr/>
          <p:nvPr/>
        </p:nvSpPr>
        <p:spPr>
          <a:xfrm>
            <a:off x="5994360" y="6683400"/>
            <a:ext cx="2584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1"/>
          <p:cNvSpPr/>
          <p:nvPr/>
        </p:nvSpPr>
        <p:spPr>
          <a:xfrm>
            <a:off x="6146640" y="6357960"/>
            <a:ext cx="2584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" name="Grupo 262"/>
          <p:cNvGrpSpPr/>
          <p:nvPr/>
        </p:nvGrpSpPr>
        <p:grpSpPr>
          <a:xfrm>
            <a:off x="5987880" y="1996920"/>
            <a:ext cx="2743200" cy="3994200"/>
            <a:chOff x="5987880" y="1996920"/>
            <a:chExt cx="2743200" cy="3994200"/>
          </a:xfrm>
        </p:grpSpPr>
        <p:sp>
          <p:nvSpPr>
            <p:cNvPr id="243" name="Rectangle 28"/>
            <p:cNvSpPr/>
            <p:nvPr/>
          </p:nvSpPr>
          <p:spPr>
            <a:xfrm>
              <a:off x="7835040" y="200484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29"/>
            <p:cNvSpPr/>
            <p:nvPr/>
          </p:nvSpPr>
          <p:spPr>
            <a:xfrm>
              <a:off x="8046720" y="20048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34"/>
            <p:cNvSpPr/>
            <p:nvPr/>
          </p:nvSpPr>
          <p:spPr>
            <a:xfrm>
              <a:off x="5994000" y="199692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42"/>
            <p:cNvSpPr/>
            <p:nvPr/>
          </p:nvSpPr>
          <p:spPr>
            <a:xfrm>
              <a:off x="5994000" y="235728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5994000" y="271764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66"/>
            <p:cNvSpPr/>
            <p:nvPr/>
          </p:nvSpPr>
          <p:spPr>
            <a:xfrm>
              <a:off x="5994000" y="307800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7"/>
            <p:cNvSpPr/>
            <p:nvPr/>
          </p:nvSpPr>
          <p:spPr>
            <a:xfrm>
              <a:off x="7938360" y="38145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103"/>
            <p:cNvSpPr/>
            <p:nvPr/>
          </p:nvSpPr>
          <p:spPr>
            <a:xfrm>
              <a:off x="7938360" y="4174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108"/>
            <p:cNvSpPr/>
            <p:nvPr/>
          </p:nvSpPr>
          <p:spPr>
            <a:xfrm>
              <a:off x="5994000" y="4160880"/>
              <a:ext cx="2584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123"/>
            <p:cNvSpPr/>
            <p:nvPr/>
          </p:nvSpPr>
          <p:spPr>
            <a:xfrm>
              <a:off x="5994000" y="4521240"/>
              <a:ext cx="2584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138"/>
            <p:cNvSpPr/>
            <p:nvPr/>
          </p:nvSpPr>
          <p:spPr>
            <a:xfrm>
              <a:off x="5994000" y="4881600"/>
              <a:ext cx="2584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150"/>
            <p:cNvSpPr/>
            <p:nvPr/>
          </p:nvSpPr>
          <p:spPr>
            <a:xfrm>
              <a:off x="7938360" y="5257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155"/>
            <p:cNvSpPr/>
            <p:nvPr/>
          </p:nvSpPr>
          <p:spPr>
            <a:xfrm>
              <a:off x="5994000" y="5241960"/>
              <a:ext cx="2584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168"/>
            <p:cNvSpPr/>
            <p:nvPr/>
          </p:nvSpPr>
          <p:spPr>
            <a:xfrm>
              <a:off x="7938360" y="5618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173"/>
            <p:cNvSpPr/>
            <p:nvPr/>
          </p:nvSpPr>
          <p:spPr>
            <a:xfrm>
              <a:off x="5994000" y="5602320"/>
              <a:ext cx="2584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188"/>
            <p:cNvSpPr/>
            <p:nvPr/>
          </p:nvSpPr>
          <p:spPr>
            <a:xfrm>
              <a:off x="5994000" y="596268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51"/>
            <p:cNvSpPr/>
            <p:nvPr/>
          </p:nvSpPr>
          <p:spPr>
            <a:xfrm>
              <a:off x="6146640" y="485784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6146640" y="520704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51"/>
            <p:cNvSpPr/>
            <p:nvPr/>
          </p:nvSpPr>
          <p:spPr>
            <a:xfrm>
              <a:off x="6041520" y="307152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51"/>
            <p:cNvSpPr/>
            <p:nvPr/>
          </p:nvSpPr>
          <p:spPr>
            <a:xfrm>
              <a:off x="6041520" y="348264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6000480" y="378612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51"/>
            <p:cNvSpPr/>
            <p:nvPr/>
          </p:nvSpPr>
          <p:spPr>
            <a:xfrm>
              <a:off x="6041520" y="419724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51"/>
            <p:cNvSpPr/>
            <p:nvPr/>
          </p:nvSpPr>
          <p:spPr>
            <a:xfrm>
              <a:off x="6041520" y="412596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51"/>
            <p:cNvSpPr/>
            <p:nvPr/>
          </p:nvSpPr>
          <p:spPr>
            <a:xfrm>
              <a:off x="5987880" y="5983200"/>
              <a:ext cx="25844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004-2CCE-49E8-A30B-4A08C8B3493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" name="Grupo 261"/>
          <p:cNvGrpSpPr/>
          <p:nvPr/>
        </p:nvGrpSpPr>
        <p:grpSpPr>
          <a:xfrm>
            <a:off x="803160" y="1996920"/>
            <a:ext cx="7142760" cy="4708080"/>
            <a:chOff x="803160" y="1996920"/>
            <a:chExt cx="7142760" cy="4708080"/>
          </a:xfrm>
        </p:grpSpPr>
        <p:sp>
          <p:nvSpPr>
            <p:cNvPr id="269" name="Rectangle 4"/>
            <p:cNvSpPr/>
            <p:nvPr/>
          </p:nvSpPr>
          <p:spPr>
            <a:xfrm>
              <a:off x="1603080" y="20048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>
              <a:off x="1798560" y="2004840"/>
              <a:ext cx="67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aref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3497040" y="2004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714840" y="2004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3874320" y="20048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4012920" y="200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4159080" y="20048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4190400" y="200484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çã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341960" y="20048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4494240" y="20048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654080" y="20048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4734720" y="2004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4828320" y="200484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5105160" y="200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5257440" y="2004840"/>
              <a:ext cx="221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6424920" y="2004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6641640" y="20048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774120" y="2004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6940080" y="20048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7072560" y="2004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7239240" y="2004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7398720" y="20048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ê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7537680" y="20048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7697520" y="200484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30"/>
            <p:cNvSpPr/>
            <p:nvPr/>
          </p:nvSpPr>
          <p:spPr>
            <a:xfrm>
              <a:off x="809280" y="199692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1"/>
            <p:cNvSpPr/>
            <p:nvPr/>
          </p:nvSpPr>
          <p:spPr>
            <a:xfrm>
              <a:off x="2993760" y="1996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2"/>
            <p:cNvSpPr/>
            <p:nvPr/>
          </p:nvSpPr>
          <p:spPr>
            <a:xfrm>
              <a:off x="3001680" y="199692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3"/>
            <p:cNvSpPr/>
            <p:nvPr/>
          </p:nvSpPr>
          <p:spPr>
            <a:xfrm>
              <a:off x="5986440" y="1996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1748880" y="2373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1931400" y="23731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809280" y="235728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2993760" y="23572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3001680" y="235728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5986440" y="23572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43"/>
            <p:cNvSpPr/>
            <p:nvPr/>
          </p:nvSpPr>
          <p:spPr>
            <a:xfrm>
              <a:off x="1748880" y="27334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4"/>
            <p:cNvSpPr/>
            <p:nvPr/>
          </p:nvSpPr>
          <p:spPr>
            <a:xfrm>
              <a:off x="1931400" y="27334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6"/>
            <p:cNvSpPr/>
            <p:nvPr/>
          </p:nvSpPr>
          <p:spPr>
            <a:xfrm>
              <a:off x="4287240" y="27334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7"/>
            <p:cNvSpPr/>
            <p:nvPr/>
          </p:nvSpPr>
          <p:spPr>
            <a:xfrm>
              <a:off x="809280" y="271764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8"/>
            <p:cNvSpPr/>
            <p:nvPr/>
          </p:nvSpPr>
          <p:spPr>
            <a:xfrm>
              <a:off x="2993760" y="27176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9"/>
            <p:cNvSpPr/>
            <p:nvPr/>
          </p:nvSpPr>
          <p:spPr>
            <a:xfrm>
              <a:off x="3001680" y="271764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50"/>
            <p:cNvSpPr/>
            <p:nvPr/>
          </p:nvSpPr>
          <p:spPr>
            <a:xfrm>
              <a:off x="5986440" y="27176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52"/>
            <p:cNvSpPr/>
            <p:nvPr/>
          </p:nvSpPr>
          <p:spPr>
            <a:xfrm>
              <a:off x="1748880" y="3093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53"/>
            <p:cNvSpPr/>
            <p:nvPr/>
          </p:nvSpPr>
          <p:spPr>
            <a:xfrm>
              <a:off x="1931400" y="3093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56"/>
            <p:cNvSpPr/>
            <p:nvPr/>
          </p:nvSpPr>
          <p:spPr>
            <a:xfrm>
              <a:off x="6779880" y="3093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57"/>
            <p:cNvSpPr/>
            <p:nvPr/>
          </p:nvSpPr>
          <p:spPr>
            <a:xfrm>
              <a:off x="6962760" y="3093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58"/>
            <p:cNvSpPr/>
            <p:nvPr/>
          </p:nvSpPr>
          <p:spPr>
            <a:xfrm>
              <a:off x="7114680" y="3093840"/>
              <a:ext cx="179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9"/>
            <p:cNvSpPr/>
            <p:nvPr/>
          </p:nvSpPr>
          <p:spPr>
            <a:xfrm>
              <a:off x="7283160" y="30938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60"/>
            <p:cNvSpPr/>
            <p:nvPr/>
          </p:nvSpPr>
          <p:spPr>
            <a:xfrm>
              <a:off x="7553160" y="3093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61"/>
            <p:cNvSpPr/>
            <p:nvPr/>
          </p:nvSpPr>
          <p:spPr>
            <a:xfrm>
              <a:off x="7697520" y="30938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62"/>
            <p:cNvSpPr/>
            <p:nvPr/>
          </p:nvSpPr>
          <p:spPr>
            <a:xfrm>
              <a:off x="809280" y="307800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63"/>
            <p:cNvSpPr/>
            <p:nvPr/>
          </p:nvSpPr>
          <p:spPr>
            <a:xfrm>
              <a:off x="2993760" y="30780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64"/>
            <p:cNvSpPr/>
            <p:nvPr/>
          </p:nvSpPr>
          <p:spPr>
            <a:xfrm>
              <a:off x="3001680" y="307800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65"/>
            <p:cNvSpPr/>
            <p:nvPr/>
          </p:nvSpPr>
          <p:spPr>
            <a:xfrm>
              <a:off x="5986440" y="30780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67"/>
            <p:cNvSpPr/>
            <p:nvPr/>
          </p:nvSpPr>
          <p:spPr>
            <a:xfrm>
              <a:off x="1748880" y="34542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68"/>
            <p:cNvSpPr/>
            <p:nvPr/>
          </p:nvSpPr>
          <p:spPr>
            <a:xfrm>
              <a:off x="1931400" y="3454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70"/>
            <p:cNvSpPr/>
            <p:nvPr/>
          </p:nvSpPr>
          <p:spPr>
            <a:xfrm>
              <a:off x="4287240" y="34542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2993760" y="34383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74"/>
            <p:cNvSpPr/>
            <p:nvPr/>
          </p:nvSpPr>
          <p:spPr>
            <a:xfrm>
              <a:off x="5986440" y="34383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76"/>
            <p:cNvSpPr/>
            <p:nvPr/>
          </p:nvSpPr>
          <p:spPr>
            <a:xfrm>
              <a:off x="1748880" y="38145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77"/>
            <p:cNvSpPr/>
            <p:nvPr/>
          </p:nvSpPr>
          <p:spPr>
            <a:xfrm>
              <a:off x="1931400" y="3814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79"/>
            <p:cNvSpPr/>
            <p:nvPr/>
          </p:nvSpPr>
          <p:spPr>
            <a:xfrm>
              <a:off x="4287240" y="38145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80"/>
            <p:cNvSpPr/>
            <p:nvPr/>
          </p:nvSpPr>
          <p:spPr>
            <a:xfrm>
              <a:off x="6540480" y="38145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81"/>
            <p:cNvSpPr/>
            <p:nvPr/>
          </p:nvSpPr>
          <p:spPr>
            <a:xfrm>
              <a:off x="6723000" y="3814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82"/>
            <p:cNvSpPr/>
            <p:nvPr/>
          </p:nvSpPr>
          <p:spPr>
            <a:xfrm>
              <a:off x="6875280" y="38145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83"/>
            <p:cNvSpPr/>
            <p:nvPr/>
          </p:nvSpPr>
          <p:spPr>
            <a:xfrm>
              <a:off x="7202520" y="38145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84"/>
            <p:cNvSpPr/>
            <p:nvPr/>
          </p:nvSpPr>
          <p:spPr>
            <a:xfrm>
              <a:off x="7428960" y="38145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85"/>
            <p:cNvSpPr/>
            <p:nvPr/>
          </p:nvSpPr>
          <p:spPr>
            <a:xfrm>
              <a:off x="7522920" y="381456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86"/>
            <p:cNvSpPr/>
            <p:nvPr/>
          </p:nvSpPr>
          <p:spPr>
            <a:xfrm>
              <a:off x="7792920" y="38145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89"/>
            <p:cNvSpPr/>
            <p:nvPr/>
          </p:nvSpPr>
          <p:spPr>
            <a:xfrm>
              <a:off x="2993760" y="37987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91"/>
            <p:cNvSpPr/>
            <p:nvPr/>
          </p:nvSpPr>
          <p:spPr>
            <a:xfrm>
              <a:off x="5986440" y="37987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93"/>
            <p:cNvSpPr/>
            <p:nvPr/>
          </p:nvSpPr>
          <p:spPr>
            <a:xfrm>
              <a:off x="1748880" y="4174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94"/>
            <p:cNvSpPr/>
            <p:nvPr/>
          </p:nvSpPr>
          <p:spPr>
            <a:xfrm>
              <a:off x="1931400" y="4174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96"/>
            <p:cNvSpPr/>
            <p:nvPr/>
          </p:nvSpPr>
          <p:spPr>
            <a:xfrm>
              <a:off x="6540480" y="41749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97"/>
            <p:cNvSpPr/>
            <p:nvPr/>
          </p:nvSpPr>
          <p:spPr>
            <a:xfrm>
              <a:off x="6723000" y="4174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98"/>
            <p:cNvSpPr/>
            <p:nvPr/>
          </p:nvSpPr>
          <p:spPr>
            <a:xfrm>
              <a:off x="6875280" y="41749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99"/>
            <p:cNvSpPr/>
            <p:nvPr/>
          </p:nvSpPr>
          <p:spPr>
            <a:xfrm>
              <a:off x="7202520" y="41749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100"/>
            <p:cNvSpPr/>
            <p:nvPr/>
          </p:nvSpPr>
          <p:spPr>
            <a:xfrm>
              <a:off x="7428960" y="4174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101"/>
            <p:cNvSpPr/>
            <p:nvPr/>
          </p:nvSpPr>
          <p:spPr>
            <a:xfrm>
              <a:off x="7522920" y="417492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102"/>
            <p:cNvSpPr/>
            <p:nvPr/>
          </p:nvSpPr>
          <p:spPr>
            <a:xfrm>
              <a:off x="7792920" y="4174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104"/>
            <p:cNvSpPr/>
            <p:nvPr/>
          </p:nvSpPr>
          <p:spPr>
            <a:xfrm>
              <a:off x="809280" y="4160520"/>
              <a:ext cx="2184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105"/>
            <p:cNvSpPr/>
            <p:nvPr/>
          </p:nvSpPr>
          <p:spPr>
            <a:xfrm>
              <a:off x="2993760" y="416052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106"/>
            <p:cNvSpPr/>
            <p:nvPr/>
          </p:nvSpPr>
          <p:spPr>
            <a:xfrm>
              <a:off x="3001680" y="4160520"/>
              <a:ext cx="2984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107"/>
            <p:cNvSpPr/>
            <p:nvPr/>
          </p:nvSpPr>
          <p:spPr>
            <a:xfrm>
              <a:off x="5986440" y="416052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109"/>
            <p:cNvSpPr/>
            <p:nvPr/>
          </p:nvSpPr>
          <p:spPr>
            <a:xfrm>
              <a:off x="1748880" y="45352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110"/>
            <p:cNvSpPr/>
            <p:nvPr/>
          </p:nvSpPr>
          <p:spPr>
            <a:xfrm>
              <a:off x="1931400" y="4535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112"/>
            <p:cNvSpPr/>
            <p:nvPr/>
          </p:nvSpPr>
          <p:spPr>
            <a:xfrm>
              <a:off x="4336560" y="45352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113"/>
            <p:cNvSpPr/>
            <p:nvPr/>
          </p:nvSpPr>
          <p:spPr>
            <a:xfrm>
              <a:off x="6779880" y="45352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114"/>
            <p:cNvSpPr/>
            <p:nvPr/>
          </p:nvSpPr>
          <p:spPr>
            <a:xfrm>
              <a:off x="6962760" y="4535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115"/>
            <p:cNvSpPr/>
            <p:nvPr/>
          </p:nvSpPr>
          <p:spPr>
            <a:xfrm>
              <a:off x="7114680" y="4535280"/>
              <a:ext cx="179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116"/>
            <p:cNvSpPr/>
            <p:nvPr/>
          </p:nvSpPr>
          <p:spPr>
            <a:xfrm>
              <a:off x="7283160" y="453528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117"/>
            <p:cNvSpPr/>
            <p:nvPr/>
          </p:nvSpPr>
          <p:spPr>
            <a:xfrm>
              <a:off x="7553160" y="4535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118"/>
            <p:cNvSpPr/>
            <p:nvPr/>
          </p:nvSpPr>
          <p:spPr>
            <a:xfrm>
              <a:off x="7697520" y="4535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19"/>
            <p:cNvSpPr/>
            <p:nvPr/>
          </p:nvSpPr>
          <p:spPr>
            <a:xfrm>
              <a:off x="809280" y="4521240"/>
              <a:ext cx="2184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120"/>
            <p:cNvSpPr/>
            <p:nvPr/>
          </p:nvSpPr>
          <p:spPr>
            <a:xfrm>
              <a:off x="2993760" y="452124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121"/>
            <p:cNvSpPr/>
            <p:nvPr/>
          </p:nvSpPr>
          <p:spPr>
            <a:xfrm>
              <a:off x="3001680" y="4521240"/>
              <a:ext cx="2984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22"/>
            <p:cNvSpPr/>
            <p:nvPr/>
          </p:nvSpPr>
          <p:spPr>
            <a:xfrm>
              <a:off x="5986440" y="452124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24"/>
            <p:cNvSpPr/>
            <p:nvPr/>
          </p:nvSpPr>
          <p:spPr>
            <a:xfrm>
              <a:off x="1748880" y="48956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5"/>
            <p:cNvSpPr/>
            <p:nvPr/>
          </p:nvSpPr>
          <p:spPr>
            <a:xfrm>
              <a:off x="1931400" y="4895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26"/>
            <p:cNvSpPr/>
            <p:nvPr/>
          </p:nvSpPr>
          <p:spPr>
            <a:xfrm>
              <a:off x="4355640" y="4895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27"/>
            <p:cNvSpPr/>
            <p:nvPr/>
          </p:nvSpPr>
          <p:spPr>
            <a:xfrm>
              <a:off x="4508280" y="4895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28"/>
            <p:cNvSpPr/>
            <p:nvPr/>
          </p:nvSpPr>
          <p:spPr>
            <a:xfrm>
              <a:off x="6779880" y="48956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29"/>
            <p:cNvSpPr/>
            <p:nvPr/>
          </p:nvSpPr>
          <p:spPr>
            <a:xfrm>
              <a:off x="6962760" y="4895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30"/>
            <p:cNvSpPr/>
            <p:nvPr/>
          </p:nvSpPr>
          <p:spPr>
            <a:xfrm>
              <a:off x="7114680" y="4895640"/>
              <a:ext cx="179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31"/>
            <p:cNvSpPr/>
            <p:nvPr/>
          </p:nvSpPr>
          <p:spPr>
            <a:xfrm>
              <a:off x="7283160" y="48956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32"/>
            <p:cNvSpPr/>
            <p:nvPr/>
          </p:nvSpPr>
          <p:spPr>
            <a:xfrm>
              <a:off x="7553160" y="4895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33"/>
            <p:cNvSpPr/>
            <p:nvPr/>
          </p:nvSpPr>
          <p:spPr>
            <a:xfrm>
              <a:off x="7697520" y="48956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34"/>
            <p:cNvSpPr/>
            <p:nvPr/>
          </p:nvSpPr>
          <p:spPr>
            <a:xfrm>
              <a:off x="809280" y="4881600"/>
              <a:ext cx="2184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35"/>
            <p:cNvSpPr/>
            <p:nvPr/>
          </p:nvSpPr>
          <p:spPr>
            <a:xfrm>
              <a:off x="2993760" y="488160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36"/>
            <p:cNvSpPr/>
            <p:nvPr/>
          </p:nvSpPr>
          <p:spPr>
            <a:xfrm>
              <a:off x="3001680" y="4881600"/>
              <a:ext cx="2984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37"/>
            <p:cNvSpPr/>
            <p:nvPr/>
          </p:nvSpPr>
          <p:spPr>
            <a:xfrm>
              <a:off x="5986440" y="488160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39"/>
            <p:cNvSpPr/>
            <p:nvPr/>
          </p:nvSpPr>
          <p:spPr>
            <a:xfrm>
              <a:off x="1748880" y="5257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40"/>
            <p:cNvSpPr/>
            <p:nvPr/>
          </p:nvSpPr>
          <p:spPr>
            <a:xfrm>
              <a:off x="1931400" y="5257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41"/>
            <p:cNvSpPr/>
            <p:nvPr/>
          </p:nvSpPr>
          <p:spPr>
            <a:xfrm>
              <a:off x="4355640" y="5257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42"/>
            <p:cNvSpPr/>
            <p:nvPr/>
          </p:nvSpPr>
          <p:spPr>
            <a:xfrm>
              <a:off x="4508280" y="5257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43"/>
            <p:cNvSpPr/>
            <p:nvPr/>
          </p:nvSpPr>
          <p:spPr>
            <a:xfrm>
              <a:off x="6540480" y="5257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44"/>
            <p:cNvSpPr/>
            <p:nvPr/>
          </p:nvSpPr>
          <p:spPr>
            <a:xfrm>
              <a:off x="6723000" y="5257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45"/>
            <p:cNvSpPr/>
            <p:nvPr/>
          </p:nvSpPr>
          <p:spPr>
            <a:xfrm>
              <a:off x="687528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46"/>
            <p:cNvSpPr/>
            <p:nvPr/>
          </p:nvSpPr>
          <p:spPr>
            <a:xfrm>
              <a:off x="7202520" y="52578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47"/>
            <p:cNvSpPr/>
            <p:nvPr/>
          </p:nvSpPr>
          <p:spPr>
            <a:xfrm>
              <a:off x="7428960" y="5257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48"/>
            <p:cNvSpPr/>
            <p:nvPr/>
          </p:nvSpPr>
          <p:spPr>
            <a:xfrm>
              <a:off x="7522920" y="525780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49"/>
            <p:cNvSpPr/>
            <p:nvPr/>
          </p:nvSpPr>
          <p:spPr>
            <a:xfrm>
              <a:off x="7792920" y="52578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51"/>
            <p:cNvSpPr/>
            <p:nvPr/>
          </p:nvSpPr>
          <p:spPr>
            <a:xfrm>
              <a:off x="809280" y="5241960"/>
              <a:ext cx="2184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52"/>
            <p:cNvSpPr/>
            <p:nvPr/>
          </p:nvSpPr>
          <p:spPr>
            <a:xfrm>
              <a:off x="2993760" y="524196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53"/>
            <p:cNvSpPr/>
            <p:nvPr/>
          </p:nvSpPr>
          <p:spPr>
            <a:xfrm>
              <a:off x="3001680" y="5241960"/>
              <a:ext cx="2984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54"/>
            <p:cNvSpPr/>
            <p:nvPr/>
          </p:nvSpPr>
          <p:spPr>
            <a:xfrm>
              <a:off x="5986440" y="524196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56"/>
            <p:cNvSpPr/>
            <p:nvPr/>
          </p:nvSpPr>
          <p:spPr>
            <a:xfrm>
              <a:off x="1675800" y="56181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57"/>
            <p:cNvSpPr/>
            <p:nvPr/>
          </p:nvSpPr>
          <p:spPr>
            <a:xfrm>
              <a:off x="1858320" y="5618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58"/>
            <p:cNvSpPr/>
            <p:nvPr/>
          </p:nvSpPr>
          <p:spPr>
            <a:xfrm>
              <a:off x="2010960" y="5618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59"/>
            <p:cNvSpPr/>
            <p:nvPr/>
          </p:nvSpPr>
          <p:spPr>
            <a:xfrm>
              <a:off x="4355640" y="5618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60"/>
            <p:cNvSpPr/>
            <p:nvPr/>
          </p:nvSpPr>
          <p:spPr>
            <a:xfrm>
              <a:off x="4508280" y="5618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61"/>
            <p:cNvSpPr/>
            <p:nvPr/>
          </p:nvSpPr>
          <p:spPr>
            <a:xfrm>
              <a:off x="6540480" y="56181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62"/>
            <p:cNvSpPr/>
            <p:nvPr/>
          </p:nvSpPr>
          <p:spPr>
            <a:xfrm>
              <a:off x="6723000" y="5618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63"/>
            <p:cNvSpPr/>
            <p:nvPr/>
          </p:nvSpPr>
          <p:spPr>
            <a:xfrm>
              <a:off x="6875280" y="5618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, 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64"/>
            <p:cNvSpPr/>
            <p:nvPr/>
          </p:nvSpPr>
          <p:spPr>
            <a:xfrm>
              <a:off x="7202520" y="5618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65"/>
            <p:cNvSpPr/>
            <p:nvPr/>
          </p:nvSpPr>
          <p:spPr>
            <a:xfrm>
              <a:off x="7428960" y="5618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66"/>
            <p:cNvSpPr/>
            <p:nvPr/>
          </p:nvSpPr>
          <p:spPr>
            <a:xfrm>
              <a:off x="7522920" y="561816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67"/>
            <p:cNvSpPr/>
            <p:nvPr/>
          </p:nvSpPr>
          <p:spPr>
            <a:xfrm>
              <a:off x="7792920" y="5618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69"/>
            <p:cNvSpPr/>
            <p:nvPr/>
          </p:nvSpPr>
          <p:spPr>
            <a:xfrm>
              <a:off x="809280" y="5602320"/>
              <a:ext cx="2184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70"/>
            <p:cNvSpPr/>
            <p:nvPr/>
          </p:nvSpPr>
          <p:spPr>
            <a:xfrm>
              <a:off x="2993760" y="560232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71"/>
            <p:cNvSpPr/>
            <p:nvPr/>
          </p:nvSpPr>
          <p:spPr>
            <a:xfrm>
              <a:off x="3001680" y="5602320"/>
              <a:ext cx="2984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72"/>
            <p:cNvSpPr/>
            <p:nvPr/>
          </p:nvSpPr>
          <p:spPr>
            <a:xfrm>
              <a:off x="5986440" y="560232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74"/>
            <p:cNvSpPr/>
            <p:nvPr/>
          </p:nvSpPr>
          <p:spPr>
            <a:xfrm>
              <a:off x="1675800" y="59785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75"/>
            <p:cNvSpPr/>
            <p:nvPr/>
          </p:nvSpPr>
          <p:spPr>
            <a:xfrm>
              <a:off x="1858320" y="5978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76"/>
            <p:cNvSpPr/>
            <p:nvPr/>
          </p:nvSpPr>
          <p:spPr>
            <a:xfrm>
              <a:off x="2010960" y="5978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78"/>
            <p:cNvSpPr/>
            <p:nvPr/>
          </p:nvSpPr>
          <p:spPr>
            <a:xfrm>
              <a:off x="6779880" y="59785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79"/>
            <p:cNvSpPr/>
            <p:nvPr/>
          </p:nvSpPr>
          <p:spPr>
            <a:xfrm>
              <a:off x="6962760" y="5978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80"/>
            <p:cNvSpPr/>
            <p:nvPr/>
          </p:nvSpPr>
          <p:spPr>
            <a:xfrm>
              <a:off x="7114680" y="5978520"/>
              <a:ext cx="179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81"/>
            <p:cNvSpPr/>
            <p:nvPr/>
          </p:nvSpPr>
          <p:spPr>
            <a:xfrm>
              <a:off x="7283160" y="597852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82"/>
            <p:cNvSpPr/>
            <p:nvPr/>
          </p:nvSpPr>
          <p:spPr>
            <a:xfrm>
              <a:off x="7553160" y="5978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83"/>
            <p:cNvSpPr/>
            <p:nvPr/>
          </p:nvSpPr>
          <p:spPr>
            <a:xfrm>
              <a:off x="7697520" y="5978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84"/>
            <p:cNvSpPr/>
            <p:nvPr/>
          </p:nvSpPr>
          <p:spPr>
            <a:xfrm>
              <a:off x="809280" y="596268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85"/>
            <p:cNvSpPr/>
            <p:nvPr/>
          </p:nvSpPr>
          <p:spPr>
            <a:xfrm>
              <a:off x="2993760" y="59626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86"/>
            <p:cNvSpPr/>
            <p:nvPr/>
          </p:nvSpPr>
          <p:spPr>
            <a:xfrm>
              <a:off x="3001680" y="596268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87"/>
            <p:cNvSpPr/>
            <p:nvPr/>
          </p:nvSpPr>
          <p:spPr>
            <a:xfrm>
              <a:off x="5986440" y="59626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89"/>
            <p:cNvSpPr/>
            <p:nvPr/>
          </p:nvSpPr>
          <p:spPr>
            <a:xfrm>
              <a:off x="1675800" y="63388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90"/>
            <p:cNvSpPr/>
            <p:nvPr/>
          </p:nvSpPr>
          <p:spPr>
            <a:xfrm>
              <a:off x="1858320" y="6338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91"/>
            <p:cNvSpPr/>
            <p:nvPr/>
          </p:nvSpPr>
          <p:spPr>
            <a:xfrm>
              <a:off x="2010960" y="6338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92"/>
            <p:cNvSpPr/>
            <p:nvPr/>
          </p:nvSpPr>
          <p:spPr>
            <a:xfrm>
              <a:off x="4355640" y="6338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93"/>
            <p:cNvSpPr/>
            <p:nvPr/>
          </p:nvSpPr>
          <p:spPr>
            <a:xfrm>
              <a:off x="4508280" y="6338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94"/>
            <p:cNvSpPr/>
            <p:nvPr/>
          </p:nvSpPr>
          <p:spPr>
            <a:xfrm>
              <a:off x="6707160" y="63388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95"/>
            <p:cNvSpPr/>
            <p:nvPr/>
          </p:nvSpPr>
          <p:spPr>
            <a:xfrm>
              <a:off x="6889680" y="6338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96"/>
            <p:cNvSpPr/>
            <p:nvPr/>
          </p:nvSpPr>
          <p:spPr>
            <a:xfrm>
              <a:off x="7041960" y="63388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97"/>
            <p:cNvSpPr/>
            <p:nvPr/>
          </p:nvSpPr>
          <p:spPr>
            <a:xfrm>
              <a:off x="7260840" y="633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98"/>
            <p:cNvSpPr/>
            <p:nvPr/>
          </p:nvSpPr>
          <p:spPr>
            <a:xfrm>
              <a:off x="7362720" y="633888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99"/>
            <p:cNvSpPr/>
            <p:nvPr/>
          </p:nvSpPr>
          <p:spPr>
            <a:xfrm>
              <a:off x="7624440" y="633888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8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00"/>
            <p:cNvSpPr/>
            <p:nvPr/>
          </p:nvSpPr>
          <p:spPr>
            <a:xfrm>
              <a:off x="809280" y="632304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201"/>
            <p:cNvSpPr/>
            <p:nvPr/>
          </p:nvSpPr>
          <p:spPr>
            <a:xfrm>
              <a:off x="2993760" y="6323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202"/>
            <p:cNvSpPr/>
            <p:nvPr/>
          </p:nvSpPr>
          <p:spPr>
            <a:xfrm>
              <a:off x="3001680" y="632304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203"/>
            <p:cNvSpPr/>
            <p:nvPr/>
          </p:nvSpPr>
          <p:spPr>
            <a:xfrm>
              <a:off x="5986440" y="6323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206"/>
            <p:cNvSpPr/>
            <p:nvPr/>
          </p:nvSpPr>
          <p:spPr>
            <a:xfrm>
              <a:off x="809280" y="668340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207"/>
            <p:cNvSpPr/>
            <p:nvPr/>
          </p:nvSpPr>
          <p:spPr>
            <a:xfrm>
              <a:off x="2993760" y="6683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3001680" y="668340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209"/>
            <p:cNvSpPr/>
            <p:nvPr/>
          </p:nvSpPr>
          <p:spPr>
            <a:xfrm>
              <a:off x="5986440" y="6683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95"/>
            <p:cNvSpPr/>
            <p:nvPr/>
          </p:nvSpPr>
          <p:spPr>
            <a:xfrm>
              <a:off x="4501080" y="59882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48"/>
            <p:cNvSpPr/>
            <p:nvPr/>
          </p:nvSpPr>
          <p:spPr>
            <a:xfrm>
              <a:off x="3146400" y="34286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50"/>
            <p:cNvSpPr/>
            <p:nvPr/>
          </p:nvSpPr>
          <p:spPr>
            <a:xfrm>
              <a:off x="6139080" y="34286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48"/>
            <p:cNvSpPr/>
            <p:nvPr/>
          </p:nvSpPr>
          <p:spPr>
            <a:xfrm>
              <a:off x="3146400" y="37861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50"/>
            <p:cNvSpPr/>
            <p:nvPr/>
          </p:nvSpPr>
          <p:spPr>
            <a:xfrm>
              <a:off x="6139080" y="37861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961920" y="485784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3146400" y="4857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49"/>
            <p:cNvSpPr/>
            <p:nvPr/>
          </p:nvSpPr>
          <p:spPr>
            <a:xfrm>
              <a:off x="3154320" y="485784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50"/>
            <p:cNvSpPr/>
            <p:nvPr/>
          </p:nvSpPr>
          <p:spPr>
            <a:xfrm>
              <a:off x="6139080" y="4857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47"/>
            <p:cNvSpPr/>
            <p:nvPr/>
          </p:nvSpPr>
          <p:spPr>
            <a:xfrm>
              <a:off x="961920" y="520704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3146400" y="520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49"/>
            <p:cNvSpPr/>
            <p:nvPr/>
          </p:nvSpPr>
          <p:spPr>
            <a:xfrm>
              <a:off x="3154320" y="520704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50"/>
            <p:cNvSpPr/>
            <p:nvPr/>
          </p:nvSpPr>
          <p:spPr>
            <a:xfrm>
              <a:off x="6139080" y="520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47"/>
            <p:cNvSpPr/>
            <p:nvPr/>
          </p:nvSpPr>
          <p:spPr>
            <a:xfrm>
              <a:off x="961920" y="635796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48"/>
            <p:cNvSpPr/>
            <p:nvPr/>
          </p:nvSpPr>
          <p:spPr>
            <a:xfrm>
              <a:off x="3146400" y="63579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Rectangle 49"/>
            <p:cNvSpPr/>
            <p:nvPr/>
          </p:nvSpPr>
          <p:spPr>
            <a:xfrm>
              <a:off x="3154320" y="635796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50"/>
            <p:cNvSpPr/>
            <p:nvPr/>
          </p:nvSpPr>
          <p:spPr>
            <a:xfrm>
              <a:off x="6139080" y="63579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3146400" y="2869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50"/>
            <p:cNvSpPr/>
            <p:nvPr/>
          </p:nvSpPr>
          <p:spPr>
            <a:xfrm>
              <a:off x="6139080" y="2869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47"/>
            <p:cNvSpPr/>
            <p:nvPr/>
          </p:nvSpPr>
          <p:spPr>
            <a:xfrm>
              <a:off x="856800" y="307152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48"/>
            <p:cNvSpPr/>
            <p:nvPr/>
          </p:nvSpPr>
          <p:spPr>
            <a:xfrm>
              <a:off x="3041640" y="3071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Rectangle 49"/>
            <p:cNvSpPr/>
            <p:nvPr/>
          </p:nvSpPr>
          <p:spPr>
            <a:xfrm>
              <a:off x="3049560" y="307152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Rectangle 50"/>
            <p:cNvSpPr/>
            <p:nvPr/>
          </p:nvSpPr>
          <p:spPr>
            <a:xfrm>
              <a:off x="6034320" y="3071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Rectangle 48"/>
            <p:cNvSpPr/>
            <p:nvPr/>
          </p:nvSpPr>
          <p:spPr>
            <a:xfrm>
              <a:off x="3193920" y="32241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Rectangle 50"/>
            <p:cNvSpPr/>
            <p:nvPr/>
          </p:nvSpPr>
          <p:spPr>
            <a:xfrm>
              <a:off x="6186600" y="322416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Rectangle 47"/>
            <p:cNvSpPr/>
            <p:nvPr/>
          </p:nvSpPr>
          <p:spPr>
            <a:xfrm>
              <a:off x="856800" y="348264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48"/>
            <p:cNvSpPr/>
            <p:nvPr/>
          </p:nvSpPr>
          <p:spPr>
            <a:xfrm>
              <a:off x="3041640" y="34826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49"/>
            <p:cNvSpPr/>
            <p:nvPr/>
          </p:nvSpPr>
          <p:spPr>
            <a:xfrm>
              <a:off x="3049560" y="348264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50"/>
            <p:cNvSpPr/>
            <p:nvPr/>
          </p:nvSpPr>
          <p:spPr>
            <a:xfrm>
              <a:off x="6034320" y="34826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3193920" y="36352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50"/>
            <p:cNvSpPr/>
            <p:nvPr/>
          </p:nvSpPr>
          <p:spPr>
            <a:xfrm>
              <a:off x="6186600" y="363528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Rectangle 47"/>
            <p:cNvSpPr/>
            <p:nvPr/>
          </p:nvSpPr>
          <p:spPr>
            <a:xfrm>
              <a:off x="856800" y="378612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48"/>
            <p:cNvSpPr/>
            <p:nvPr/>
          </p:nvSpPr>
          <p:spPr>
            <a:xfrm>
              <a:off x="3146400" y="37861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49"/>
            <p:cNvSpPr/>
            <p:nvPr/>
          </p:nvSpPr>
          <p:spPr>
            <a:xfrm>
              <a:off x="3000240" y="378612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Rectangle 50"/>
            <p:cNvSpPr/>
            <p:nvPr/>
          </p:nvSpPr>
          <p:spPr>
            <a:xfrm>
              <a:off x="6139080" y="37861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48"/>
            <p:cNvSpPr/>
            <p:nvPr/>
          </p:nvSpPr>
          <p:spPr>
            <a:xfrm>
              <a:off x="3298680" y="3938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50"/>
            <p:cNvSpPr/>
            <p:nvPr/>
          </p:nvSpPr>
          <p:spPr>
            <a:xfrm>
              <a:off x="6291360" y="39384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Rectangle 47"/>
            <p:cNvSpPr/>
            <p:nvPr/>
          </p:nvSpPr>
          <p:spPr>
            <a:xfrm>
              <a:off x="856800" y="419724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Rectangle 48"/>
            <p:cNvSpPr/>
            <p:nvPr/>
          </p:nvSpPr>
          <p:spPr>
            <a:xfrm>
              <a:off x="3041640" y="4197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49"/>
            <p:cNvSpPr/>
            <p:nvPr/>
          </p:nvSpPr>
          <p:spPr>
            <a:xfrm>
              <a:off x="3049560" y="419724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50"/>
            <p:cNvSpPr/>
            <p:nvPr/>
          </p:nvSpPr>
          <p:spPr>
            <a:xfrm>
              <a:off x="6034320" y="4197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48"/>
            <p:cNvSpPr/>
            <p:nvPr/>
          </p:nvSpPr>
          <p:spPr>
            <a:xfrm>
              <a:off x="3193920" y="4349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50"/>
            <p:cNvSpPr/>
            <p:nvPr/>
          </p:nvSpPr>
          <p:spPr>
            <a:xfrm>
              <a:off x="6186600" y="43495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47"/>
            <p:cNvSpPr/>
            <p:nvPr/>
          </p:nvSpPr>
          <p:spPr>
            <a:xfrm>
              <a:off x="856800" y="412560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Rectangle 48"/>
            <p:cNvSpPr/>
            <p:nvPr/>
          </p:nvSpPr>
          <p:spPr>
            <a:xfrm>
              <a:off x="3041640" y="41256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49"/>
            <p:cNvSpPr/>
            <p:nvPr/>
          </p:nvSpPr>
          <p:spPr>
            <a:xfrm>
              <a:off x="3049560" y="412560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50"/>
            <p:cNvSpPr/>
            <p:nvPr/>
          </p:nvSpPr>
          <p:spPr>
            <a:xfrm>
              <a:off x="6034320" y="41256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48"/>
            <p:cNvSpPr/>
            <p:nvPr/>
          </p:nvSpPr>
          <p:spPr>
            <a:xfrm>
              <a:off x="3193920" y="4278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Rectangle 50"/>
            <p:cNvSpPr/>
            <p:nvPr/>
          </p:nvSpPr>
          <p:spPr>
            <a:xfrm>
              <a:off x="6186600" y="42782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03160" y="5983200"/>
              <a:ext cx="21844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2987640" y="59832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2995560" y="5983200"/>
              <a:ext cx="2984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5980320" y="59832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Rectangle 48"/>
            <p:cNvSpPr/>
            <p:nvPr/>
          </p:nvSpPr>
          <p:spPr>
            <a:xfrm>
              <a:off x="3139920" y="6135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Rectangle 50"/>
            <p:cNvSpPr/>
            <p:nvPr/>
          </p:nvSpPr>
          <p:spPr>
            <a:xfrm>
              <a:off x="6132600" y="6135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Rectangle 46"/>
            <p:cNvSpPr/>
            <p:nvPr/>
          </p:nvSpPr>
          <p:spPr>
            <a:xfrm>
              <a:off x="4287240" y="307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5"/>
            <p:cNvSpPr/>
            <p:nvPr/>
          </p:nvSpPr>
          <p:spPr>
            <a:xfrm>
              <a:off x="4429440" y="41432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95"/>
            <p:cNvSpPr/>
            <p:nvPr/>
          </p:nvSpPr>
          <p:spPr>
            <a:xfrm>
              <a:off x="4429440" y="2357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A38-20DC-422D-A886-3CAFF7F3391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de de Atividad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502" name="Picture 4" descr="_x000f_4.6 Network.eps                                                00002CC5_x0004_Docs                           B1931E2B:"/>
          <p:cNvPicPr/>
          <p:nvPr/>
        </p:nvPicPr>
        <p:blipFill>
          <a:blip r:embed="rId1"/>
          <a:stretch/>
        </p:blipFill>
        <p:spPr>
          <a:xfrm>
            <a:off x="1066680" y="1857240"/>
            <a:ext cx="66294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BFB8-1C63-4977-95E0-118F1D6CEBD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locação de Pesso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571680" y="1920960"/>
            <a:ext cx="80388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1EB-B621-4A83-9E0A-54D1279917E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mpo de Desenvolvimen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tir da rede de ativ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fo interligando tarefas com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ar o caminho crí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caminho que leva mais tempo para conclu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Gerente deve dar especial atenção às tarefas contidas no caminho crí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 crucial ter folgas no caminho crí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A0F3-8339-46C3-A436-C9006D76745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companhamento das Taref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042920" y="1916280"/>
          <a:ext cx="7129440" cy="4114800"/>
        </p:xfrm>
        <a:graphic>
          <a:graphicData uri="http://schemas.openxmlformats.org/drawingml/2006/table">
            <a:tbl>
              <a:tblPr/>
              <a:tblGrid>
                <a:gridCol w="1274760"/>
                <a:gridCol w="1268640"/>
                <a:gridCol w="1265040"/>
                <a:gridCol w="1895400"/>
                <a:gridCol w="14256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í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terr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are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/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8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: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/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8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/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1/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8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h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Text Box 56"/>
          <p:cNvSpPr/>
          <p:nvPr/>
        </p:nvSpPr>
        <p:spPr>
          <a:xfrm>
            <a:off x="-25560" y="6095880"/>
            <a:ext cx="91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TENÇÃO: Existe uma tabela semelhante com tempo estim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F939-98DE-44C9-BA73-DDD5050E2B8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Ferramenta para Acompanhamento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vez definidas as atividades e estimativas de tempo para suas realizações, pode-se usar uma ferramentas para o acompanhamento (ex: a ferramenta web Xplanner -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ww.xplanner.or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 uma ferramenta comercial como o MS Projec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28E9-51F6-400B-BA17-09CC04CD08F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usto do Proje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cursos humanos (R$/hor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stalações (fone, luz, et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uniões (tempo, pessoas, et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Material de escritório/informá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DE2-9E77-4705-A387-79F7388A5D8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dentificação de Ris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ntificar riscos de projeto, produto e negóc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nálise de Ris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valia as conseqüências dos ris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lanejamento de Ris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ernativas para evitar ou minimizar seus efe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nitoramento de Ris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ompanhar os riscos durante o proj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B3E-6C9A-4CB7-A51D-56073B5BE48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cesso de Gerenciamento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457200" y="2805120"/>
            <a:ext cx="8305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5DC5-264A-44F2-913B-1A29755A87B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esso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is pessoas no final do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 pequeno incêndio, jogue gasolina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critórios barulh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u nível de concentração é excelente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rito entre desenvolvedores e clie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você não adicionar isso, não quero mais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3E89-5CB7-4F79-B202-B2D739BA01F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dentificação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iscos com Tecnolo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iscos com Pess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iscos Organizacion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iscos nos Requisi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iscos nas Estima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5A61-97AE-4E82-8AEA-8AC32A3CFC5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rincipais Áreas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42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sso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onograma e Cus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ncionalidade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lta de entendimento da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álise de requisitos inadequ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ível de Instabilidade dos Requis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: Cliente tenta alterar requisitos o tempo to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alidade de Componentes Extern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É DIFÍCIL ANTECIPAR TUDO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670F-B8B0-4A24-9372-060A5C2234E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nálise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valiar a probabilidade e seriedade de cada ris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probabilidade pode variar de muito baixo (0-20%), baixo (20-40%), médio (40-60%), alto (60-80%) e muito alta (80-100%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s efeitos dos riscos podem ser catastróficos, sérios, toleráveis ou insignific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8FE9-696F-4ACE-B026-32B0DCBA2C9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lanejamento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ara cada risco, elaborar estratégia para gerenciá-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tratégias para Evit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probabilidade de ocorrência é reduz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tratégias para Minimiz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efeito do risco no projeto ou produto é reduz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lanos de Contingê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o risco ocorrer, o que devemos faz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ACBB-C0CC-4D75-B047-96BA343013E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nitoramento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valiar cada risco periodicamente para determinar se está mais ou menos provável de ocorr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valiar os efeitos pois podem mu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da risco crítico deve ser discutido em reuniões gerenciais de progresso do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38F-F2EF-493E-9D2B-BE71349B0A5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dentificação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24000" y="1832040"/>
          <a:ext cx="8631000" cy="4597200"/>
        </p:xfrm>
        <a:graphic>
          <a:graphicData uri="http://schemas.openxmlformats.org/drawingml/2006/table">
            <a:tbl>
              <a:tblPr/>
              <a:tblGrid>
                <a:gridCol w="3456000"/>
                <a:gridCol w="2663640"/>
                <a:gridCol w="251136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babilid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fe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soal do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é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anho do software desconhec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lerá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soal qualificado não disponí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tastró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68A-AA62-4BD1-844F-CD715CD4CCF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stratégias de Gerenciamento de Risc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89000" y="1714680"/>
          <a:ext cx="8775720" cy="4713120"/>
        </p:xfrm>
        <a:graphic>
          <a:graphicData uri="http://schemas.openxmlformats.org/drawingml/2006/table">
            <a:tbl>
              <a:tblPr/>
              <a:tblGrid>
                <a:gridCol w="2774880"/>
                <a:gridCol w="6000840"/>
              </a:tblGrid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raté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ssoal do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organizar equipe para ter sobreposição de pessoas/trabal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ruta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ertar cliente sobre possível atr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dança nos requis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lisar rastreamento entre requisitos para determinar imp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D401-B660-405B-A1C3-867ED7BBBC4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merville, I. Software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umphrey, W. A Discipline for Software 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cConnel, S. Rapid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3F39-57ED-4898-9D3C-D73433FE9C3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esso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ectativas irre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mos terminar o projeto em 6 meses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alta de interação com o usuá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so é ambíguo …, então vamos decidir sozinh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ença ceg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sa parte do sistema é muito simples, em 1 ou 2 dias removemos todos os erros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98F-CE48-420A-9CD0-99798FF45C4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onogramas altamente otimis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nhamos tempo na análise de requisitos e no projeto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renciamento de riscos insufi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 o risco A se concretizar, resolvemos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alha de contr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 o módulo M, a ser criado pela empresa E, vamos melhorar nosso cronograma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FA6F-F93B-4334-B489-1C57F81316D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ejamento insufic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se sistema é simples, não há o que planejar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andono de plano sob press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vido ao cronograma apertado, vamos codificar logo depois da especificação de requisitos e não vamos testar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0EB4-3709-490F-BD3C-0CEA1D3CED3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rantia de qualidade prejudic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ó precisamos fazer os testes a partir da GU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role de gerenciamento insufi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que já fizemos? Não sei, mas sem problema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m estimativas para tarefas necessá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ão precisamos registrar o tempo para tarefa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9:43:02Z</dcterms:created>
  <dc:creator>Alexandre Mota</dc:creator>
  <dc:description/>
  <dc:language>en-US</dc:language>
  <cp:lastModifiedBy>Alexandre Vasconcelos</cp:lastModifiedBy>
  <cp:lastPrinted>2000-02-17T21:24:07Z</cp:lastPrinted>
  <dcterms:modified xsi:type="dcterms:W3CDTF">2010-08-24T13:21:23Z</dcterms:modified>
  <cp:revision>398</cp:revision>
  <dc:subject/>
  <dc:title>Planejamento e Gerenciamento</dc:title>
</cp:coreProperties>
</file>