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21120" y="-36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91360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21120" y="8913600"/>
            <a:ext cx="2998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AD6B-0D18-4CAB-B4FE-C804FEF856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442-D151-4F84-B984-C2F882445B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C06-DD06-4EB9-80F4-39439AE989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19BB-FA9D-409C-842D-AD0F5E9420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D1DA-BA8E-4DD6-8C6A-519FCA6AC6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9292-670C-49F0-BA7C-DBA9CF4EAC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C45-3FC2-49A3-990C-0485480EC0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CF3-9C36-41AA-831F-37118D6209C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8DD-B06C-4463-9B1F-28BAFA65D0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7EFF-1875-4523-B516-28FBA39F8A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BC09-50C2-4EDB-AF2B-1FA80D7FC0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6138-B4A0-4D97-969A-C8771E0E0A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25C-04E2-4857-95FE-DCD6BAF8C1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382-1C62-4C44-BA31-1013B31780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F066-3D58-4AEB-8429-C0AD9975BC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D51-61C0-44EC-B316-023980685E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A2E-08D6-4FB3-AEA6-77E0D21BF4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5BA3-D5D6-4006-9639-BB51190B12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EB03-82E1-437E-BE1F-753A05B996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E22-8C9E-4722-BC83-B1795D7093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F04-E638-483F-8D22-263F2623C0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FF8-3D21-4025-8B00-68F1CD924C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351-2A0A-4AE8-A5FC-A708C08D20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8995-9619-4302-A49E-872EFC487C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A50-2D00-4BFF-9C72-8F7F1F70B46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C29-A4BF-480C-A508-33423B7DE7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CD3-7F1F-4202-943E-9D52F3DD74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FE0-36A9-4434-A1B2-9A346E33CD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541-0FA6-4E8C-A0C2-D656122758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CA20-E136-4228-8BC2-9D43FBD0CA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DF6-184A-48C4-908B-2437023CEA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66840" y="817560"/>
            <a:ext cx="4389480" cy="3290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2320" y="4460760"/>
            <a:ext cx="5076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C04-E4DA-42C0-AD7B-12DE203EA79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0D5C-FBDF-423C-9A84-FD8C35D9C2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1120" y="891396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2B9-771D-4177-97FC-77DE1B8A60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1920" y="4457880"/>
            <a:ext cx="5537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881-2235-47CE-B9E4-7F63852B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B0D-1B0A-43C7-BD7C-4A260781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5D5-4A76-46B1-9574-8B503D80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9F0-0C03-4189-BD6D-D9F5EB64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C97-2544-4BB5-A9DD-3607E2AB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407-18C5-49F0-BDD9-07F025D8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816C-74CF-4634-AD35-2947F4D3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316-C78B-4703-9910-E1A3B18E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DC8-F8FC-4A10-BBD8-18F4859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54E3-3A40-4DBC-9BF4-A1AEA79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AE0-5F1F-4776-9A58-C963B217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2A2-FD64-4576-AEAD-A419886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14D2-B267-44EF-B9D6-7D71387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498-E613-41EA-9DE7-0F78BEC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E0ED-78A0-4D43-9E81-A080C99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B392-9D06-4B14-8486-63F13AA4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8E0-475E-4754-89B2-6A624C18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B41-4254-4818-AA76-76ED8A2B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F32-378E-427C-B609-83C2EB37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07A-9D16-406D-9EF9-4ED5EE6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F23-ED15-4F1F-B420-6818629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CE4-2E7D-4724-8698-4309214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D8F-B28E-43E4-915F-3172893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439-3D37-42CD-BA72-C103B8A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A92D-C444-4BF1-863F-EEE97A1FB9B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E3D-EB18-476F-B715-16FC5551FDF8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junit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BA9C-88B6-47BE-BDAA-4EC8CFA87F15}" type="slidenum">
              <a:rPr b="0" lang="pt-BR" sz="1400" spc="-1" strike="noStrike">
                <a:solidFill>
                  <a:srgbClr val="1c1c1c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1c1c1c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Engenharia de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Comic Sans MS"/>
              </a:rPr>
              <a:t>Software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 e Sistemas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5809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exandre Vasconcelos (amlv@cin.ufpe.b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F9BB-C066-477D-897E-A802E61E725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Requisi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 Que devo faz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ncionalid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á restrições sobre as funcionalidad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mites de tempo, memória, etc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á restrições mais ampla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presa, Governo, etc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895-8AE5-4F72-9F41-5223B3DC21E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faço então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0" name="Picture 4" descr="MCj02971610000[1]"/>
          <p:cNvPicPr/>
          <p:nvPr/>
        </p:nvPicPr>
        <p:blipFill>
          <a:blip r:embed="rId1"/>
          <a:stretch/>
        </p:blipFill>
        <p:spPr>
          <a:xfrm>
            <a:off x="2843280" y="2371680"/>
            <a:ext cx="3132000" cy="292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008720" y="5421240"/>
            <a:ext cx="74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O documento de requisitos...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9D0-416F-44BB-AF83-9E07518DECF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omo apresentar ao Cliente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960560" y="2133720"/>
            <a:ext cx="4340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5400" spc="-1" strike="noStrike">
                <a:solidFill>
                  <a:srgbClr val="000000"/>
                </a:solidFill>
                <a:latin typeface="Comic Sans MS"/>
              </a:rPr>
              <a:t>O cliente não vai ler 500 páginas de requisitos!!!”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598-B816-444F-BE9B-ECD3A7E7E6F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Uma Figura Vale Mais Que 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7" name="Picture 61" descr="fig1"/>
          <p:cNvPicPr/>
          <p:nvPr/>
        </p:nvPicPr>
        <p:blipFill>
          <a:blip r:embed="rId1"/>
          <a:stretch/>
        </p:blipFill>
        <p:spPr>
          <a:xfrm>
            <a:off x="2195640" y="1844640"/>
            <a:ext cx="49165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B63-E031-4E44-9E27-4DF8445D967D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as Paralelamente 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43120" y="2133720"/>
            <a:ext cx="5708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Precisamos saber quanto tempo levaremos para fazer nosso trabalho, quanto isso custará e o que pode nos atrapalhar... 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Precisamos Planejar</a:t>
            </a: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!!!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72F2-BD05-4885-8063-2E3321170C9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imando Esforç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Modelo de casos de uso pode ser usado para calcular estim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aseia-se em uma série de fatores que determinam a complexidade da aplic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Há ferramentas para realizar o cálcu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0CD-2755-4967-9D2F-283821F0AD9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imando Esforç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6" name="Picture 1028" descr="fig1"/>
          <p:cNvPicPr/>
          <p:nvPr/>
        </p:nvPicPr>
        <p:blipFill>
          <a:blip r:embed="rId1"/>
          <a:stretch/>
        </p:blipFill>
        <p:spPr>
          <a:xfrm>
            <a:off x="900000" y="3105000"/>
            <a:ext cx="1901880" cy="19386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30"/>
          <p:cNvSpPr/>
          <p:nvPr/>
        </p:nvSpPr>
        <p:spPr>
          <a:xfrm>
            <a:off x="363528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31"/>
          <p:cNvSpPr/>
          <p:nvPr/>
        </p:nvSpPr>
        <p:spPr>
          <a:xfrm>
            <a:off x="5356440" y="36702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X ho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32"/>
          <p:cNvSpPr/>
          <p:nvPr/>
        </p:nvSpPr>
        <p:spPr>
          <a:xfrm>
            <a:off x="473040" y="3886200"/>
            <a:ext cx="4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(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033"/>
          <p:cNvSpPr/>
          <p:nvPr/>
        </p:nvSpPr>
        <p:spPr>
          <a:xfrm>
            <a:off x="2848320" y="390852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808D-E8D9-40CB-9F50-841E7752213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stimando Esforç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63" name="Picture 1028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1214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87FD-B624-4134-90CD-F13E2F462CB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ici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527120" y="2144880"/>
            <a:ext cx="6932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Temos que identificar em nossos requisitos, quais são os elementos essenciais para satisfazê-los...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E15-A3A6-4FAC-8387-F3F9264FD42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ici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69" name="Picture 5" descr="fig2"/>
          <p:cNvPicPr/>
          <p:nvPr/>
        </p:nvPicPr>
        <p:blipFill>
          <a:blip r:embed="rId1"/>
          <a:stretch/>
        </p:blipFill>
        <p:spPr>
          <a:xfrm>
            <a:off x="468360" y="2060640"/>
            <a:ext cx="8316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D86D-0879-4112-94B9-8A8AD6456C1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Engenharia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85800" y="21337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Def.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Disciplina gerencial e tecnológica que lida com a produção e manutenção sistemática de produtos de software desenvolvidos dentro de estimativas de custo e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191120"/>
            <a:ext cx="77724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Deve-se entender por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engenharia</a:t>
            </a:r>
            <a:r>
              <a:rPr b="0" lang="pt-BR" sz="2800" spc="-1" strike="noStrike">
                <a:solidFill>
                  <a:srgbClr val="3333cc"/>
                </a:solidFill>
                <a:latin typeface="Tahoma"/>
              </a:rPr>
              <a:t> a ciência relacionada com o uso prático de conhecimentos científ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E8A-D5D5-4285-BC65-3A49DF854C6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Inici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72" name="Picture 5" descr="fig3"/>
          <p:cNvPicPr/>
          <p:nvPr/>
        </p:nvPicPr>
        <p:blipFill>
          <a:blip r:embed="rId1"/>
          <a:stretch/>
        </p:blipFill>
        <p:spPr>
          <a:xfrm>
            <a:off x="179280" y="2070000"/>
            <a:ext cx="8748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A54-9CE5-4236-A905-63D2F29B9EF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ediment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79480" y="2360520"/>
            <a:ext cx="7005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A partir dos elementos essenciais, precisamos definir estratégias para satisfazê-los incluindo suas restrições...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4A24-C4D4-4DAC-BED8-582B57FC04D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ediment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78" name="Picture 5" descr="fig4"/>
          <p:cNvPicPr/>
          <p:nvPr/>
        </p:nvPicPr>
        <p:blipFill>
          <a:blip r:embed="rId1"/>
          <a:stretch/>
        </p:blipFill>
        <p:spPr>
          <a:xfrm>
            <a:off x="452520" y="1703520"/>
            <a:ext cx="82803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A952-DC94-4EF9-8450-117EAEED3B4A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ediment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81" name="Picture 1029" descr="fig5"/>
          <p:cNvPicPr/>
          <p:nvPr/>
        </p:nvPicPr>
        <p:blipFill>
          <a:blip r:embed="rId1"/>
          <a:stretch/>
        </p:blipFill>
        <p:spPr>
          <a:xfrm>
            <a:off x="179280" y="2075040"/>
            <a:ext cx="8820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DA7-96D2-46EA-8D11-7468F3C232E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Sedimentando a Soluçã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84" name="Picture 5" descr="fig6"/>
          <p:cNvPicPr/>
          <p:nvPr/>
        </p:nvPicPr>
        <p:blipFill>
          <a:blip r:embed="rId1"/>
          <a:stretch/>
        </p:blipFill>
        <p:spPr>
          <a:xfrm>
            <a:off x="380880" y="1828800"/>
            <a:ext cx="82803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E0A-B2D3-4A01-AA47-1CFD679FB4A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e Account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1800" y="2090880"/>
            <a:ext cx="882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ublic class Account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vate int balanc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*@ invariant balance&gt;=0 @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oid debit(int amount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*@ requires amount &lt;= balance @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/*@ ensures balance = \old(balance) - amount @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AF8-05B1-40C2-8BE3-0AE196439F92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Comic Sans MS"/>
              </a:rPr>
              <a:t>Operacionalizando a Solução...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66760" y="2360520"/>
            <a:ext cx="7077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Com a solução definida, o passo final é operacionalizá-la. Isto é, codificá-la.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409E-C56C-4EAE-A8E4-A1FF228E631E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Classe Account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20280" y="1844640"/>
            <a:ext cx="7998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ublic class Account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vate int balan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id debit(int amount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f(amount&lt;=bala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lance = balance – amoun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lse throw new AccountException(“...”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C9F7-BB3E-45F6-AABE-3CC57CBF6C6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Funciona??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095480" y="2433600"/>
            <a:ext cx="7221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Com a implementação feita, podemos então executar os testes!!!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DF07-C303-44D0-9D3B-AEAEC5ADAF21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Avaliando a qualidad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Text Box 1027"/>
          <p:cNvSpPr/>
          <p:nvPr/>
        </p:nvSpPr>
        <p:spPr>
          <a:xfrm>
            <a:off x="504000" y="1844640"/>
            <a:ext cx="8506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ublic class AccountTest extends TestCa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id testDebit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ccount acc = new Account(1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cc.debit(1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sertEquals(0, acc.getBalance()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02C0-A9AA-4E09-80B1-85BE8A805310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1023840"/>
            <a:ext cx="7765920" cy="736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é software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gramas de computador e documentação associ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odutos de software podem ser desenvolvidos para um cliente particular ou podem ser desenvolvidos para um mercado g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4B2-B29E-4954-A52F-297311ED095F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ulas de Laboratóri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o de ferramen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ercitar elementos de sa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s monitores ajudarão/ministrarão as aulas prát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E0A-4799-44E6-B0E8-D6211DC52C3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valiação da Disciplina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a 1 (N1)   = (Prova 1 + Prova 2) /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a 2 (N2)  = Proje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a Geral    = (N1+N2) /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s: Equipes com no máximo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5 alu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8E5-EC62-4132-9176-85886F2CE92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ite sobre Projet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 conter no mínim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pe (nome, log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onograma atualiz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as de reuni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ções úteis a usuários fin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3A7-CED3-404F-9318-CE249E8469F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rtefat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entrega dos artefatos deve ser feita ao monitor de sua equi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tefatos devem constar do site (Atualizad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AF7D-CCE8-47FA-A16B-C6A8C17A1CF7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Referência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Bás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mmerville, I. Software Enginee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xt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www.junit.or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http://www.cs.iastate.edu/~leavens/JML/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Kruchten, P. The Rational Unified Process: An Introduction. 2nd 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Booch, G. et al. The Unified Modeling Language User Guide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ressman, R.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ftware Enginee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A8A-68F2-4157-9068-6D676F24555C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bjetivos de Engenharia de </a:t>
            </a:r>
            <a:r>
              <a:rPr b="0" i="1" lang="pt-BR" sz="4400" spc="-1" strike="noStrike">
                <a:solidFill>
                  <a:srgbClr val="333399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bter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softwar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de qu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produtividade no seu desenvolvimento, operação e manuten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pregando profissionais qu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desenvolvam o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software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dentro de custos, prazos e níveis de qualidade control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, além disso, que obtenham o melhor custo-benefício possível entre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Qualidade </a:t>
            </a:r>
            <a:r>
              <a:rPr b="0" lang="pt-BR" sz="28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Produtiv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743-3248-43AF-A7C2-8380028BA10B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Desenvolver sistemas de acordo com a intenção do cliente/usuá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stabelecer noção sobre tempo e custo de desenvolv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laborar artefatos além do códi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nalisar artefatos para estabelecer a qualidade do prod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44D-916D-4E88-8E8F-0AF3732CE9F5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Características da </a:t>
            </a:r>
            <a:br>
              <a:rPr sz="4400"/>
            </a:br>
            <a:r>
              <a:rPr b="0" lang="pt-PT" sz="4400" spc="-1" strike="noStrike">
                <a:solidFill>
                  <a:srgbClr val="333399"/>
                </a:solidFill>
                <a:latin typeface="Comic Sans MS"/>
              </a:rPr>
              <a:t>Engenharia de Softwar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A Engenharia de Software se refere a software (sistemas) desenvolvidos por grupos ao invés de indivídu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usa princípios de engenharia ao invés de arte, 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omic Sans MS"/>
              </a:rPr>
              <a:t>inclui tanto aspectos técnicos quanto não técn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9E3-1FE6-4BCB-B619-2504F9E861B9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Início de Tudo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27" name="Picture 4" descr="j0233018"/>
          <p:cNvPicPr/>
          <p:nvPr/>
        </p:nvPicPr>
        <p:blipFill>
          <a:blip r:embed="rId1"/>
          <a:stretch/>
        </p:blipFill>
        <p:spPr>
          <a:xfrm>
            <a:off x="3276720" y="2470320"/>
            <a:ext cx="25747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482120" y="546408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A intenção do cliente é...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FDA-D749-4042-B446-23F24C188476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Mais Importante Aqui é...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48720" y="2247840"/>
            <a:ext cx="429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Comic Sans MS"/>
              </a:rPr>
              <a:t>A Idéia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Comic Sans MS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Comic Sans MS"/>
              </a:rPr>
              <a:t>Viável???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1E3-BBD0-4A04-AE2C-CFDE31F34C98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Comic Sans MS"/>
              </a:rPr>
              <a:t>O Que Devo Fazer Exatamente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195640" y="2492280"/>
            <a:ext cx="52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Ou, em outras palavras, quais são os </a:t>
            </a:r>
            <a:r>
              <a:rPr b="1" lang="pt-BR" sz="4800" spc="-1" strike="noStrike">
                <a:solidFill>
                  <a:srgbClr val="3333cc"/>
                </a:solidFill>
                <a:latin typeface="Comic Sans MS"/>
              </a:rPr>
              <a:t>requisitos</a:t>
            </a:r>
            <a:r>
              <a:rPr b="0" lang="pt-BR" sz="4800" spc="-1" strike="noStrike">
                <a:solidFill>
                  <a:srgbClr val="000000"/>
                </a:solidFill>
                <a:latin typeface="Comic Sans MS"/>
              </a:rPr>
              <a:t> da aplicação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9:43:02Z</dcterms:created>
  <dc:creator>Alexandre Mota</dc:creator>
  <dc:description/>
  <dc:language>en-US</dc:language>
  <cp:lastModifiedBy>Alexandre Vasconcelos</cp:lastModifiedBy>
  <cp:lastPrinted>2000-02-17T21:24:07Z</cp:lastPrinted>
  <dcterms:modified xsi:type="dcterms:W3CDTF">2010-03-09T15:01:29Z</dcterms:modified>
  <cp:revision>321</cp:revision>
  <dc:subject/>
  <dc:title>Engenharia de Software (IF570)</dc:title>
</cp:coreProperties>
</file>