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BC8-7977-4B66-A7B2-A6F0A167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1CD-C075-4522-BC69-6634C693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953-65BE-467D-AE46-F75FCC7D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564-47FA-419B-9D4C-672C9546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3EB6-1EDE-4B76-817E-F0ECF170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A3C7-2A5C-4FD3-A388-2050A606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74B7-C75C-4350-94DF-FC9B016D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2E83-E67B-4FB6-91F6-FD0FFC67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60CC-37EB-49A1-B034-C6AC8366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E6F8-7420-4599-8A6D-05A936BA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41AA-7497-4E26-A305-980B7E9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9A8-DCE5-4233-94A6-7BBE8B29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1822-47C9-4D05-8E9D-A20BEAB5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FA87-1D85-4A75-8093-E5AF7AC7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B723-7379-4704-8189-721FBB59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8C82-7783-4583-A310-12B300DC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6BE0-6C3C-4C6B-B4B1-E0D9D6F0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3382A-326A-4996-AC2B-DEF09122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8473-6D4D-432D-A7A7-02B51673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11ED-50FA-47D6-8585-DD34B6BD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6AAFF-E382-41AA-85BE-46D61E48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17A5-D48D-49F7-9DC0-82DC05E6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70B-6E25-4F7D-93F8-ED492D09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7D28F-2376-4388-A8E4-D0C3F1D9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2B1D7-3FD8-4767-87BE-76E338C3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6461-3A40-4928-AB56-9D2662ED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FDD0-B299-4914-A83F-BCA47826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55F7-2989-4810-9C6E-1C369BCE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AF456-676B-45C7-8E34-E41624C5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3D6E-B2AA-4C01-AD0B-40919607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42A0E-5297-4005-9E8C-5EEDACCB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DD9AC-7BF6-472C-8AF2-FE5878C0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7384-E1BB-4108-B099-D68F7D8A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59B-50DD-48F6-95C3-0DC28C53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8CFA7-ABFB-4A9A-A757-3ED4C79F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6B40C-E281-41A5-BD41-47AE0C71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75F5F-C9C4-44D2-9C09-3393B275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5F827-ABCA-48DE-9708-C8CA753D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DF169-376A-4114-A0E2-A8FD1775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BE892-E334-4FBF-B888-173C93F2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E91C5-BDBB-4D22-BDE3-344E00CB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C51CB-2C03-44AD-A0D8-190747F8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8504E-B46C-4F9E-902A-A9B185B9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8DFE4-43FD-4A62-A9E1-88735A80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A1F-82B5-4EA2-AFF6-D8841FFF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DCA82-C3BE-4AAF-90F1-ABC1F1F5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60CB8-01FD-4DC7-84B3-D5AF6966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ED3D8-C28D-4E3F-98EE-176E943B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2EEA4-1BB9-4116-953C-A6166CFD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4453E-D01F-40AD-8406-144D4E11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B350D-F2EA-4D5A-B37C-B08DAD0D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CC0C6-1F2B-4F89-B320-523FEB35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9D564-4772-4AD1-8215-CE84F37C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12B9F-CEFB-43F5-A5CB-2E7C75E0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055B4-D67B-4CDA-860B-149DC45A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6C5-37D8-47EC-96BA-AC8DA913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50E8A-B723-4CDB-BFDB-838E5893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9E37D-AD29-4B94-90C5-AA523B16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9D0EF-6B44-41A0-82DA-A8CDFF0E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D0FD1-8DB7-4F67-A501-BF0F6876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C072-3E3E-446A-9C3D-0620E3C9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3D34A-6877-4436-A69F-FD22B677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73DF4-695A-4D98-B1FB-3BC679AA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11E04-2BC3-4885-97DE-E2DBAA57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B82A8-EE56-40C4-922B-83A22BEB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7FC69-9A05-4D39-98DF-51422AC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CDE-C3E5-4138-878E-D0F7BCFF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71C74-8846-455F-8332-AEDAF20F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96C1D-0F3B-45B4-934A-A33B31D0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0F04D-EF56-4286-A3CB-B212D848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677F0-6578-4340-BA21-6D511694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D52E5-D3A8-4311-BF87-37F6F5F1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18F8D-EE9B-47C8-9BAA-5AE6A234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735D9-5C28-41C2-87DD-9D7443DB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8D357-062B-45AE-97E8-981B2B96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9F2CB-B537-4176-B355-001CF760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6D872-8509-40FC-92E0-40238BB9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AC3-EF1A-4D73-A285-7921F388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67B0F-0664-4A00-857B-10146FE5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B98E0-F67F-4D47-BD1B-CEF74566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97482-3B11-4758-8AD7-ADABE837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350C4-5FFC-4D7B-B32F-E8F682F7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87EF5-95C2-40AD-A13E-83BE3AFC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C200B-A549-49D7-8B1B-F69C2200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81660-9BC6-4F9E-9008-E2858873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CA909-A088-47BC-8F21-7E3F5921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66ADE-FDB2-4CD2-AA36-9D7E2380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2A470-7C51-4B42-B5C0-60A33B72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304-066D-4890-9152-D862F981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6C97D-B877-4932-9FB3-7C23C8EE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9A185-28E7-48E6-B919-3095DE5B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66FAA-396F-4726-9665-E0114F22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C714F-919F-4143-9851-24C5294D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8A029-F416-4CC4-B231-4E304E3D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2E739-853A-48D4-AA04-763DD23B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42AC5-9288-4B58-8D9E-FA6CC079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4503-5E7E-43B5-BD29-3DE0803F311F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55" name="CaixaDeTexto 21"/>
          <p:cNvSpPr/>
          <p:nvPr/>
        </p:nvSpPr>
        <p:spPr>
          <a:xfrm>
            <a:off x="689040" y="2280960"/>
            <a:ext cx="77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Bookman Old Style"/>
              </a:rPr>
              <a:t>AfterLife</a:t>
            </a:r>
            <a:endParaRPr b="0" lang="en-US" sz="6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12DA-CD7C-4A7D-AB17-2C5C18A9DAA7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9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104" name="CaixaDeTexto 14"/>
          <p:cNvSpPr/>
          <p:nvPr/>
        </p:nvSpPr>
        <p:spPr>
          <a:xfrm>
            <a:off x="468360" y="404640"/>
            <a:ext cx="820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Bookman Old Style"/>
              </a:rPr>
              <a:t>AfterLife</a:t>
            </a:r>
            <a:endParaRPr b="0" lang="en-US" sz="6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4885-A74F-4570-9B65-8F5BF5C00484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4525-63D9-4B07-BFDB-9BCFB7DB643B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19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9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4614-4D10-45A8-9264-E6573757D313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24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4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4905-4B7C-4E03-9C1A-87CC7CA7C9F5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29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C57F-E299-47B6-B0E6-7A29E87B3994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33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34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34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34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34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9A7-790B-449D-AD6F-DFB81A6E32B7}" type="slidenum"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5219640" y="4076640"/>
            <a:ext cx="3673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Equipe: 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Felipe Duarte</a:t>
            </a:r>
            <a:endParaRPr b="0" lang="en-US" sz="1800" spc="-1" strike="noStrike">
              <a:solidFill>
                <a:srgbClr val="073e8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Guilherme Cavalcanti</a:t>
            </a:r>
            <a:endParaRPr b="0" lang="en-US" sz="1800" spc="-1" strike="noStrike">
              <a:solidFill>
                <a:srgbClr val="073e8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Igor Gomes</a:t>
            </a:r>
            <a:endParaRPr b="0" lang="en-US" sz="1800" spc="-1" strike="noStrike">
              <a:solidFill>
                <a:srgbClr val="073e8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Jonathas Alves</a:t>
            </a:r>
            <a:endParaRPr b="0" lang="en-US" sz="1800" spc="-1" strike="noStrike">
              <a:solidFill>
                <a:srgbClr val="073e8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Mailson Lira</a:t>
            </a:r>
            <a:endParaRPr b="0" lang="en-US" sz="1800" spc="-1" strike="noStrike">
              <a:solidFill>
                <a:srgbClr val="073e8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Mateus Gondim</a:t>
            </a:r>
            <a:endParaRPr b="0" lang="en-US" sz="18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Requisito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Visões do sistema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Administrado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Gerent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Atendent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Requisito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8" name="Picture 4" descr="requisitos"/>
          <p:cNvPicPr/>
          <p:nvPr/>
        </p:nvPicPr>
        <p:blipFill>
          <a:blip r:embed="rId1"/>
          <a:stretch/>
        </p:blipFill>
        <p:spPr>
          <a:xfrm>
            <a:off x="900000" y="2276640"/>
            <a:ext cx="5524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79524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Diagrama de casos de uso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0" name="Picture 4" descr="C:\Users\mailson\Desktop\Diagrama corrigido 2.bmp"/>
          <p:cNvPicPr/>
          <p:nvPr/>
        </p:nvPicPr>
        <p:blipFill>
          <a:blip r:embed="rId1"/>
          <a:stretch/>
        </p:blipFill>
        <p:spPr>
          <a:xfrm>
            <a:off x="1187280" y="2565360"/>
            <a:ext cx="662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Apresentação do softwar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t-BR" sz="4800" spc="-1" strike="noStrike">
                <a:solidFill>
                  <a:srgbClr val="073e87"/>
                </a:solidFill>
                <a:latin typeface="Candara"/>
              </a:rPr>
              <a:t>Apresentando o AfterLife..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Roteiro da apresentação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O que é o AfterLife 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Objetivo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Cronograma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Risco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Ferramentas utilizada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Requisito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Diagrama de casos de uso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Apresentação do software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O que é o AfterLife 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AfterLife é um sistema gerenciador de cemitérios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Objetiv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Automatizar atividades de manipulação de dados(cadastros, remoções, consultas) de um cemitério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5191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Cronogram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1" name="Picture 5" descr="grafico"/>
          <p:cNvPicPr/>
          <p:nvPr/>
        </p:nvPicPr>
        <p:blipFill>
          <a:blip r:embed="rId1"/>
          <a:stretch/>
        </p:blipFill>
        <p:spPr>
          <a:xfrm>
            <a:off x="611280" y="2133720"/>
            <a:ext cx="72007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Risco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Falta de expertise na definição do cronogram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Mudanças de requisito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Problemas pessoa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Problemas com a infraestrutur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Distribuição de tarefas desbalancead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9528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Ferramentas utilizada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Desenvolviment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Eclipse Ganymed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Java JDK 1.6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Windows 7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Oracle 10g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PhotoFilte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Gerenciament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Microsoft Project 2010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Controle de versã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SubVersion(SVN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4" name="Picture 4" descr="C:\Users\Guilherme\Downloads\eclipse.jpg"/>
          <p:cNvPicPr/>
          <p:nvPr/>
        </p:nvPicPr>
        <p:blipFill>
          <a:blip r:embed="rId1"/>
          <a:stretch/>
        </p:blipFill>
        <p:spPr>
          <a:xfrm>
            <a:off x="4325760" y="2322360"/>
            <a:ext cx="1589400" cy="92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5" name="Picture 5" descr="C:\Users\Guilherme\Downloads\Índice.jpg"/>
          <p:cNvPicPr/>
          <p:nvPr/>
        </p:nvPicPr>
        <p:blipFill>
          <a:blip r:embed="rId2"/>
          <a:stretch/>
        </p:blipFill>
        <p:spPr>
          <a:xfrm>
            <a:off x="7561440" y="2322360"/>
            <a:ext cx="1193760" cy="82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6" name="Picture 6" descr="C:\Users\Guilherme\Downloads\Java.jpg"/>
          <p:cNvPicPr/>
          <p:nvPr/>
        </p:nvPicPr>
        <p:blipFill>
          <a:blip r:embed="rId3"/>
          <a:stretch/>
        </p:blipFill>
        <p:spPr>
          <a:xfrm>
            <a:off x="6315120" y="2322360"/>
            <a:ext cx="718920" cy="7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7" name="Picture 7" descr="C:\Users\Guilherme\Downloads\JUnit.jpg"/>
          <p:cNvPicPr/>
          <p:nvPr/>
        </p:nvPicPr>
        <p:blipFill>
          <a:blip r:embed="rId4"/>
          <a:stretch/>
        </p:blipFill>
        <p:spPr>
          <a:xfrm>
            <a:off x="4368960" y="3645000"/>
            <a:ext cx="942840" cy="49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8" name="Picture 8" descr="C:\Users\Guilherme\Downloads\Oracle.jpg"/>
          <p:cNvPicPr/>
          <p:nvPr/>
        </p:nvPicPr>
        <p:blipFill>
          <a:blip r:embed="rId5"/>
          <a:stretch/>
        </p:blipFill>
        <p:spPr>
          <a:xfrm>
            <a:off x="5654520" y="3624120"/>
            <a:ext cx="1020960" cy="96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9" name="Picture 9" descr="C:\Users\Guilherme\Downloads\project 2010.jpg"/>
          <p:cNvPicPr/>
          <p:nvPr/>
        </p:nvPicPr>
        <p:blipFill>
          <a:blip r:embed="rId6"/>
          <a:stretch/>
        </p:blipFill>
        <p:spPr>
          <a:xfrm>
            <a:off x="6999120" y="3645000"/>
            <a:ext cx="1889280" cy="65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0" name="Picture 10" descr="C:\Users\Guilherme\Downloads\wom7.jpg"/>
          <p:cNvPicPr/>
          <p:nvPr/>
        </p:nvPicPr>
        <p:blipFill>
          <a:blip r:embed="rId7"/>
          <a:stretch/>
        </p:blipFill>
        <p:spPr>
          <a:xfrm>
            <a:off x="5803920" y="4941720"/>
            <a:ext cx="1195200" cy="10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79524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Utilizando o JUnit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2" name="Imagem 2" descr="Recorte de Tela"/>
          <p:cNvPicPr/>
          <p:nvPr/>
        </p:nvPicPr>
        <p:blipFill>
          <a:blip r:embed="rId1"/>
          <a:stretch/>
        </p:blipFill>
        <p:spPr>
          <a:xfrm>
            <a:off x="971640" y="2637000"/>
            <a:ext cx="75754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68320" y="1916280"/>
            <a:ext cx="74073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Utilizando o SVN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4" name="Imagem 1" descr="Recorte de Tela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Requisito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Com o objetivo de obter uma visão mais clara do domínio do problema e identificar requisitos, os seguintes cemitérios foram visitado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Cemitério da Várze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Cemitério de Olind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Cemitério Morada da Paz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3:58:46Z</dcterms:created>
  <dc:creator>NILTON LUIZ DE NADAI</dc:creator>
  <dc:description/>
  <dc:language>en-US</dc:language>
  <cp:lastModifiedBy>mailson</cp:lastModifiedBy>
  <dcterms:modified xsi:type="dcterms:W3CDTF">2010-11-16T17:33:18Z</dcterms:modified>
  <cp:revision>27</cp:revision>
  <dc:subject/>
  <dc:title>AfterLife</dc:title>
</cp:coreProperties>
</file>