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885-A9D6-4727-A333-53E683BE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094-1739-49DC-91C7-8020FAA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D73-016C-40C8-BB28-8D20B7E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4E7-28EA-4F29-99B3-9FE6E799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95E-BC16-4AA5-9DD7-7044942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268-4095-4FCF-988B-63A9B99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7C6-4405-4734-976F-CEA77EB8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01A-E5D6-4F5E-90B3-290B128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831-CCB3-4A3A-90A1-66C15BD9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F3D-591C-46BF-9358-840D4390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351-0DB9-4306-A534-07E3FEE1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516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9440" y="3882600"/>
            <a:ext cx="2698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716-D60A-4433-9B60-B4B1DD18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382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8260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822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55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55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550"/>
              </a:spcBef>
              <a:buClr>
                <a:srgbClr val="e0b5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53352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17520" y="44280"/>
            <a:ext cx="749160" cy="432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008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2 de Dez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4200" y="64008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1998-B120-4FC8-9507-AE75ECBB4DF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18480" y="68400"/>
            <a:ext cx="1050840" cy="4316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3851280" y="6348240"/>
            <a:ext cx="14400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ZapfHumns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D430-D8BF-4F71-9FE1-B2BC13E6A06D}" type="slidenum">
              <a:rPr b="0" lang="en-US" sz="1400" spc="-1" strike="noStrike">
                <a:solidFill>
                  <a:srgbClr val="000000"/>
                </a:solidFill>
                <a:latin typeface="ZapfHumnst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lipse.org/downloads/index.php" TargetMode="External"/><Relationship Id="rId3" Type="http://schemas.openxmlformats.org/officeDocument/2006/relationships/hyperlink" Target="http://www.eclipse.org/downloads/index.php" TargetMode="External"/><Relationship Id="rId4" Type="http://schemas.openxmlformats.org/officeDocument/2006/relationships/hyperlink" Target="http://www.eclipse.org/downloads/index.php" TargetMode="External"/><Relationship Id="rId5" Type="http://schemas.openxmlformats.org/officeDocument/2006/relationships/hyperlink" Target="http://forum.nokia.com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rcisio.camara@meantime.com.br" TargetMode="External"/><Relationship Id="rId3" Type="http://schemas.openxmlformats.org/officeDocument/2006/relationships/hyperlink" Target="mailto:glr@cin.ufpe.br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enna.sourceforge.net/" TargetMode="External"/><Relationship Id="rId3" Type="http://schemas.openxmlformats.org/officeDocument/2006/relationships/hyperlink" Target="http://eclipseme.org/index.html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rum.nokia.com/" TargetMode="External"/><Relationship Id="rId3" Type="http://schemas.openxmlformats.org/officeDocument/2006/relationships/hyperlink" Target="http://www.motocoder.com/" TargetMode="External"/><Relationship Id="rId4" Type="http://schemas.openxmlformats.org/officeDocument/2006/relationships/hyperlink" Target="http://wireless.java.sun.com/" TargetMode="External"/><Relationship Id="rId5" Type="http://schemas.openxmlformats.org/officeDocument/2006/relationships/hyperlink" Target="http://www.microjava.com/" TargetMode="External"/><Relationship Id="rId6" Type="http://schemas.openxmlformats.org/officeDocument/2006/relationships/hyperlink" Target="http://www.midlet-review.com/" TargetMode="External"/><Relationship Id="rId7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1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Introdução à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niverso J2ME Hoj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Community Process (JC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ava Specification Request (JSR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java.sun.com/javame/technology/jcp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132000" y="2976480"/>
            <a:ext cx="6012000" cy="3881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943280"/>
            <a:ext cx="3133800" cy="491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05320" y="6453360"/>
            <a:ext cx="935280" cy="366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00400" y="5635800"/>
            <a:ext cx="687600" cy="529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figu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especificação que define o ambiente de software para uma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família d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positivos, geralme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ipos e quantidade de memória disponí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s de processadores e velo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ipo de conexão de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lui um conjunto básico de classes J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 Device Configuration (C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igh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nected, Limited Device Configuration (CLD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ow end consumer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DC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- Connected Limited, Device 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positivos limitados com poucos 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dor de, no mínimo 8 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 160 K de memória heap reservada pra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sso a rede com pouca largura de b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rget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wo Way P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onal Organi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tc.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cop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nguagem Java e características da V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ão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ciclo de vida da aplicação (instalação, execução, dele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ação entre usuário e aplicação (comandos, etc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0 possui algumas 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Weak Re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Fi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o método finalize() no CL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suporte a J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 API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eflection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sência d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daemon-threa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thread group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suporte a Internacionaliz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mite a conversão de by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tream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Unico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vice-ver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imitação no tratamento de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enas duas classe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VirtualMachineErr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java.lang.OutOfMemory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Limitação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LDC 1.1 adiciona alguns recursos ao CLDC 1.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113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ponto flutua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Weak Re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dição de suporte a nomes de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mínima de 162 para 192 k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CL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Herdados do J2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l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ecíficos do CLD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 profile ou “perfil” é uma coleção de API´s  em Java que complementa uma configuração a fim de prover habilidades para uma família de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spcAft>
                <a:spcPts val="689"/>
              </a:spcAft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especificada pela JC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principal objetivo é garantir a interoperabilidade entre uma família de dispos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(Mobile Information Device Profile): Principal e presente na maioria absoluta dos disposi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P 3.0 (em bre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D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bile Information Device Profile (MID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defin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rsistência (usando um modelo simples orientado a regis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etworking (estende o Generic Connection framework do CLD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clo de vida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quisitos de Hardware (MIDP 1.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: 128 + 32 KB sobre CLD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la mínima: 96 x 54 – 2 col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rada: teclado, touch screen,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nectividade: HTTP 1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do MIDP 1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IDP Packag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id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idlet.MIDlet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38840"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77680"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rms.Record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bre quem vos fala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964720" cy="30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18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Meantime Mobile Creations - Grupo do C.E.S.A.R focado no desenvolvimento de jogos e aplicativos, baseados em dispositivos móveis, para usuários fin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Um d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pioneiros mundiai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(desde 2001) na tecnologia J2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Várias tecnologias wireless: J2ME, BREW, WAP, SMS e M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lmente, distribui jogos par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EUA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, alguns países da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América Latina, Europa e Ás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arceria com diversos fabricantes, publishers e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Produzimos </a:t>
            </a:r>
            <a:r>
              <a:rPr b="0" lang="pt-BR" sz="1400" spc="-1" strike="noStrike">
                <a:solidFill>
                  <a:srgbClr val="ff6633"/>
                </a:solidFill>
                <a:latin typeface="Verdana"/>
              </a:rPr>
              <a:t>mais de 40 jogos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para celulares (alguns para a Motorol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145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0" lang="pt-BR" sz="1400" spc="-1" strike="noStrike">
                <a:solidFill>
                  <a:srgbClr val="4c4c4c"/>
                </a:solidFill>
                <a:latin typeface="Verdana"/>
              </a:rPr>
              <a:t>Atua como publisher no Brasil, com parceria com todas as operado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s adicionais do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ct val="90000"/>
              </a:lnSpc>
              <a:spcBef>
                <a:spcPts val="1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Play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media.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media.control.VolumeControl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25160">
              <a:lnSpc>
                <a:spcPct val="90000"/>
              </a:lnSpc>
              <a:spcBef>
                <a:spcPts val="113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x.microedition.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lnSpc>
                <a:spcPct val="90000"/>
              </a:lnSpc>
              <a:spcBef>
                <a:spcPts val="88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javax.microedition.io.PushRegi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16000" y="3789360"/>
            <a:ext cx="6049440" cy="1728720"/>
            <a:chOff x="1116000" y="3789360"/>
            <a:chExt cx="6049440" cy="1728720"/>
          </a:xfrm>
        </p:grpSpPr>
        <p:sp>
          <p:nvSpPr>
            <p:cNvPr id="182" name=""/>
            <p:cNvSpPr/>
            <p:nvPr/>
          </p:nvSpPr>
          <p:spPr>
            <a:xfrm>
              <a:off x="1116000" y="4078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2720" y="4078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0680" y="4294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2600" y="5086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7560" y="5086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1880" y="4294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960" y="5086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5" idx="0"/>
              <a:endCxn id="184" idx="2"/>
            </p:cNvCxnSpPr>
            <p:nvPr/>
          </p:nvCxnSpPr>
          <p:spPr>
            <a:xfrm flipH="1" flipV="1" rot="5400000">
              <a:off x="1944000" y="4453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2582640" y="4570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84" idx="3"/>
              <a:endCxn id="187" idx="1"/>
            </p:cNvCxnSpPr>
            <p:nvPr/>
          </p:nvCxnSpPr>
          <p:spPr>
            <a:xfrm>
              <a:off x="2883960" y="4436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2852280" y="4221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0760" y="3789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4480" y="5086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88" idx="3"/>
              <a:endCxn id="194" idx="1"/>
            </p:cNvCxnSpPr>
            <p:nvPr/>
          </p:nvCxnSpPr>
          <p:spPr>
            <a:xfrm>
              <a:off x="5122440" y="5228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5665320" y="3789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00040" y="4294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4" idx="0"/>
              <a:endCxn id="197" idx="2"/>
            </p:cNvCxnSpPr>
            <p:nvPr/>
          </p:nvCxnSpPr>
          <p:spPr>
            <a:xfrm flipH="1" flipV="1" rot="5400000">
              <a:off x="6148440" y="4830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a aplicação MIDP: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a classe Java que estende da classe MIDlet e implementa os seguintes méto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tart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use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troyApp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ssui um modelo de ciclo de vida similar aos Appl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O que é um MIDlet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o pelo “Java Application Manager” (JA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aplicação que deve vir acompanhando a implementação do MIDP e que controla a instalação, execução e remo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o ambiente de execução dos MID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 todos os erros ocorridos durante a instalação e execução dos aplicativos sem “derrubar” o disposi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iclo de vida dos MIDl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56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MIDlet Suites e Descritores (J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MIDlet Suite é um conjunto de arquivos empacotados em um arquivo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JA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suite deve possuir pelo menos um MID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R contém: Arquivos .class , arquivos de imagem (.png),  manifest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IDLets numa mesma suite podem compartilhar classes e recursos contidos n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3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JAD (Java Application Descript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queno arquivo texto que descreve um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pela JAM para fazer verificações antes de baixar a Su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o para guardar propriedad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2556000" y="5300640"/>
            <a:ext cx="3816360" cy="10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1: AloMundo, , org.cesar.j2me.Alo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Name: Alô Mu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ndor: C.E.S.A.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MIDlet-Jar-URL: HelloExample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ssos para o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112240" cy="3781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556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1916280"/>
            <a:ext cx="26532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1916280"/>
            <a:ext cx="264960" cy="264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4437000"/>
            <a:ext cx="26532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37000"/>
            <a:ext cx="264960" cy="265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mbiente de Desenvolv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ditor texto + Sun Wireless Toolkit (WTK)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java.sun.com/products/sjwtoolki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etBeans Mobility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netbeans.org/products/mobility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lipse + EclipseME + WTK (fre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www.eclipse.org/downloads/index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.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ph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eclipseme.org/docs/installation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DK´s dos fabricantes (Nokia, Motorola, SonyEricsson, Siemens,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motorola.com/docstools/sdks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forum.nokia.com</a:t>
            </a: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developer.sonyericsson.com/site/global/home/p_home.js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orland JBuilder ($400 individu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00ff"/>
                </a:solidFill>
                <a:latin typeface="Verdana"/>
              </a:rPr>
              <a:t>http://www.borland.com/us/products/jbuilder/index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ambient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ar o famigerado “Alô mundo!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igh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adição e tratamento de Coma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: Esteja com a API ao alcance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50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rcado de jogos wire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trodução a J2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reless Gam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riando nosso J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ugestão de Melhor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crementar o “Alô Mund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ceitos de Graphics e suas fun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exibição de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Low-Level Display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atamento de tec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ação e renderização de Im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gora que vocês já estão craqu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mos ao nosso Jogo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tapas na concepção de um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jeta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envolvendo um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ulando um Jogo (tes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loy do Jogo (testes re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cas de performance / Reduçã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90680" y="112680"/>
            <a:ext cx="68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Platelet"/>
              </a:rPr>
              <a:t>Projeto Conceitual de Jo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240" y="4581360"/>
            <a:ext cx="3112920" cy="121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rcisio Cam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arcisio.camara@meantime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glr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268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Desenvolvendo Jo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em J2ME para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84320" y="2496960"/>
            <a:ext cx="1209600" cy="176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8360" y="2924280"/>
            <a:ext cx="55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Aula 2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 Black"/>
              </a:rPr>
              <a:t>Prática de jogos em J2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se de game design / concep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o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colha da categoria (Arcade, Puzzle, Ação, Esportes,RPG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Benchmark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atari, mega drive, nintendo 8 bit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Multiplay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inglep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lulares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e um bom jogo wire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ápido e fácil de começar e de navegar (evitar uso de muitas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oftkey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pressionamento de tecl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safiador mas não im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gos curtos ou 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save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m muitas combinações de teclas e reg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qu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tre 4 e 7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disciplinar: artitas gráficos, músicos, game designers, engenheiros de software, engenheiro de testes, etc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torno de R$ 12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gências do mercado (desafios ext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iclo de desenvolvimento curto: 3 a 5 me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e e local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timização e qual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rtais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avos das oper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 de dispositivos é barreira de ent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lanejando um jog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mitaçõ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as te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he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úmero de c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tência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usto alto no uso da rede (4 centavos por kbyte –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$ 4,00 pra baixar um jogo de 100 k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osso Jogo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95280"/>
            <a:ext cx="864216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alisamos tudo que foi falado 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hot´em up game simplificadíiiiiiiiiissimo!!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pt-BR" sz="2200" spc="-1" strike="noStrike">
                <a:solidFill>
                  <a:srgbClr val="ff9900"/>
                </a:solidFill>
                <a:latin typeface="Verdana"/>
              </a:rPr>
              <a:t>Star Hero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 é um jogo singleplayer, no estilo shoot’em up . O jogo consiste em uma espaçonave controlada pelo jogador que trafega pelas galáxias, atirando em inimigos. Essas ações resultam em pontos para o jogador. O objetivo do jogo é acumular o máximo de pontos possíveis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1757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Já Temos as Características... Wor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jetando as classes. Precisamos d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IDlet (óbvio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trata os comandos alto-nível e possui o looping básico do jogo (lê entrada, atualiza estado e pinta a t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que representa um elemento do jogo (Spri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n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os inimi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s ba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classe com todas as constantes (facilitar o aces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jet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41680" y="3139920"/>
            <a:ext cx="1366560" cy="1055880"/>
            <a:chOff x="2641680" y="3139920"/>
            <a:chExt cx="1366560" cy="1055880"/>
          </a:xfrm>
        </p:grpSpPr>
        <p:grpSp>
          <p:nvGrpSpPr>
            <p:cNvPr id="247" name=""/>
            <p:cNvGrpSpPr/>
            <p:nvPr/>
          </p:nvGrpSpPr>
          <p:grpSpPr>
            <a:xfrm>
              <a:off x="2641680" y="3139920"/>
              <a:ext cx="1366560" cy="1055880"/>
              <a:chOff x="2641680" y="3139920"/>
              <a:chExt cx="1366560" cy="1055880"/>
            </a:xfrm>
          </p:grpSpPr>
          <p:sp>
            <p:nvSpPr>
              <p:cNvPr id="248" name=""/>
              <p:cNvSpPr/>
              <p:nvPr/>
            </p:nvSpPr>
            <p:spPr>
              <a:xfrm>
                <a:off x="264168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4168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07640" y="313992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04960" y="5213520"/>
            <a:ext cx="1366560" cy="1055520"/>
            <a:chOff x="1704960" y="5213520"/>
            <a:chExt cx="1366560" cy="1055520"/>
          </a:xfrm>
        </p:grpSpPr>
        <p:grpSp>
          <p:nvGrpSpPr>
            <p:cNvPr id="252" name=""/>
            <p:cNvGrpSpPr/>
            <p:nvPr/>
          </p:nvGrpSpPr>
          <p:grpSpPr>
            <a:xfrm>
              <a:off x="1704960" y="5213520"/>
              <a:ext cx="1366560" cy="1055520"/>
              <a:chOff x="1704960" y="5213520"/>
              <a:chExt cx="1366560" cy="1055520"/>
            </a:xfrm>
          </p:grpSpPr>
          <p:sp>
            <p:nvSpPr>
              <p:cNvPr id="253" name=""/>
              <p:cNvSpPr/>
              <p:nvPr/>
            </p:nvSpPr>
            <p:spPr>
              <a:xfrm>
                <a:off x="1704960" y="52135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54766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777320" y="5213520"/>
              <a:ext cx="121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257" name="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258" name="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090840" y="1125360"/>
              <a:ext cx="60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856120" y="3284640"/>
            <a:ext cx="1366560" cy="1055520"/>
            <a:chOff x="5856120" y="3284640"/>
            <a:chExt cx="1366560" cy="1055520"/>
          </a:xfrm>
        </p:grpSpPr>
        <p:grpSp>
          <p:nvGrpSpPr>
            <p:cNvPr id="262" name=""/>
            <p:cNvGrpSpPr/>
            <p:nvPr/>
          </p:nvGrpSpPr>
          <p:grpSpPr>
            <a:xfrm>
              <a:off x="5856120" y="3284640"/>
              <a:ext cx="1366560" cy="1055520"/>
              <a:chOff x="5856120" y="3284640"/>
              <a:chExt cx="1366560" cy="1055520"/>
            </a:xfrm>
          </p:grpSpPr>
          <p:sp>
            <p:nvSpPr>
              <p:cNvPr id="263" name=""/>
              <p:cNvSpPr/>
              <p:nvPr/>
            </p:nvSpPr>
            <p:spPr>
              <a:xfrm>
                <a:off x="585612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5612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96040" y="3284640"/>
              <a:ext cx="49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296120" y="3933720"/>
            <a:ext cx="1366560" cy="1055520"/>
            <a:chOff x="7296120" y="3933720"/>
            <a:chExt cx="1366560" cy="1055520"/>
          </a:xfrm>
        </p:grpSpPr>
        <p:grpSp>
          <p:nvGrpSpPr>
            <p:cNvPr id="267" name=""/>
            <p:cNvGrpSpPr/>
            <p:nvPr/>
          </p:nvGrpSpPr>
          <p:grpSpPr>
            <a:xfrm>
              <a:off x="7296120" y="3933720"/>
              <a:ext cx="1366560" cy="1055520"/>
              <a:chOff x="7296120" y="3933720"/>
              <a:chExt cx="1366560" cy="105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72961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1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38200" y="39337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272" name="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796640" y="285264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71480" y="5227560"/>
            <a:ext cx="1411920" cy="1055520"/>
            <a:chOff x="3471480" y="5227560"/>
            <a:chExt cx="1411920" cy="1055520"/>
          </a:xfrm>
        </p:grpSpPr>
        <p:grpSp>
          <p:nvGrpSpPr>
            <p:cNvPr id="277" name=""/>
            <p:cNvGrpSpPr/>
            <p:nvPr/>
          </p:nvGrpSpPr>
          <p:grpSpPr>
            <a:xfrm>
              <a:off x="3471480" y="5227560"/>
              <a:ext cx="1366560" cy="1055520"/>
              <a:chOff x="3471480" y="5227560"/>
              <a:chExt cx="1366560" cy="1055520"/>
            </a:xfrm>
          </p:grpSpPr>
          <p:sp>
            <p:nvSpPr>
              <p:cNvPr id="278" name=""/>
              <p:cNvSpPr/>
              <p:nvPr/>
            </p:nvSpPr>
            <p:spPr>
              <a:xfrm>
                <a:off x="3471480" y="522756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71480" y="549072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480480" y="52275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82" name="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542000" y="5300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5208480" y="220464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421956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73320" y="573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78040" y="5492880"/>
            <a:ext cx="1323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1080" y="551664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27280" y="1916280"/>
            <a:ext cx="1209600" cy="720720"/>
            <a:chOff x="2627280" y="1916280"/>
            <a:chExt cx="1209600" cy="720720"/>
          </a:xfrm>
        </p:grpSpPr>
        <p:sp>
          <p:nvSpPr>
            <p:cNvPr id="302" name=""/>
            <p:cNvSpPr/>
            <p:nvPr/>
          </p:nvSpPr>
          <p:spPr>
            <a:xfrm>
              <a:off x="262728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728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880000" y="1878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18040" y="277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719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120" y="28526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8120" y="23493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63560" y="29242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350028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458136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5160" y="321300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0440" y="42735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610920" y="501336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120" y="5300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5880" y="4292640"/>
            <a:ext cx="94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331640" y="4005000"/>
            <a:ext cx="86508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9400" y="4005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25760" y="4869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Consta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30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andos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racterísticas do aparelho (largura e altur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usadas pelos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ara carregar as imagens (loadImages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2162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 de desenvolvimento deve ser rápido (&lt;5 mes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torno do investimento l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Cadeia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90560" y="2157480"/>
            <a:ext cx="1676520" cy="1218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2843280"/>
            <a:ext cx="182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9160" y="2241720"/>
            <a:ext cx="1298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46240" y="2766960"/>
            <a:ext cx="1295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5360" y="2157480"/>
            <a:ext cx="1528920" cy="1218960"/>
          </a:xfrm>
          <a:custGeom>
            <a:avLst/>
            <a:gdLst>
              <a:gd name="textAreaLeft" fmla="*/ 0 w 1528920"/>
              <a:gd name="textAreaRight" fmla="*/ 1529280 w 1528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2800" y="215748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1520" y="2629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0840" y="2157480"/>
            <a:ext cx="1295280" cy="121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4" y="0"/>
                </a:lnTo>
                <a:lnTo>
                  <a:pt x="21600" y="10800"/>
                </a:lnTo>
                <a:lnTo>
                  <a:pt x="18874" y="21600"/>
                </a:lnTo>
                <a:lnTo>
                  <a:pt x="0" y="21600"/>
                </a:lnTo>
                <a:lnTo>
                  <a:pt x="2726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3840" y="2157480"/>
            <a:ext cx="1371600" cy="12189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50" y="0"/>
                </a:lnTo>
                <a:lnTo>
                  <a:pt x="21600" y="10800"/>
                </a:lnTo>
                <a:lnTo>
                  <a:pt x="19750" y="21600"/>
                </a:lnTo>
                <a:lnTo>
                  <a:pt x="0" y="21600"/>
                </a:lnTo>
                <a:lnTo>
                  <a:pt x="185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7880" y="26146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8440" y="215748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00" y="0"/>
                </a:lnTo>
                <a:lnTo>
                  <a:pt x="21600" y="10800"/>
                </a:lnTo>
                <a:lnTo>
                  <a:pt x="19400" y="21600"/>
                </a:lnTo>
                <a:lnTo>
                  <a:pt x="0" y="21600"/>
                </a:lnTo>
                <a:lnTo>
                  <a:pt x="2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89720" y="2629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60840" y="2157480"/>
            <a:ext cx="2514600" cy="1218960"/>
            <a:chOff x="3660840" y="2157480"/>
            <a:chExt cx="2514600" cy="1218960"/>
          </a:xfrm>
        </p:grpSpPr>
        <p:sp>
          <p:nvSpPr>
            <p:cNvPr id="113" name=""/>
            <p:cNvSpPr/>
            <p:nvPr/>
          </p:nvSpPr>
          <p:spPr>
            <a:xfrm>
              <a:off x="3660840" y="2157480"/>
              <a:ext cx="1295280" cy="1218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74" y="0"/>
                  </a:lnTo>
                  <a:lnTo>
                    <a:pt x="21600" y="10800"/>
                  </a:lnTo>
                  <a:lnTo>
                    <a:pt x="18874" y="21600"/>
                  </a:lnTo>
                  <a:lnTo>
                    <a:pt x="0" y="21600"/>
                  </a:lnTo>
                  <a:lnTo>
                    <a:pt x="2726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3840" y="2157480"/>
              <a:ext cx="1371600" cy="121896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7880" y="261468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17640" y="276696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Fluxo de produção &gt;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42756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&lt;&lt;&lt; Fluxo de receita (R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Midl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a tela principal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referência para o controlador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s objetos acima no startApp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o looping do jogo no control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stra a tela do jog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Contro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hread que contêm o looping 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todos os comandos “alto nível”do jo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o estado de pause/resume do jogo (lembrar que não tem relação com o pauseApp(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ição x e y n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ltura e larg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presentação gráf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cção de coli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locidades horizontal e vertic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abstratos update() e draw(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 de ba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dicação se a nave está explodi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nimação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s para mover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étodo pra disparar bala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F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a imagem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possui animação (uma imagem apena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mento ao sair da te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ualiza a posição, dada a velocidad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ne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um Sp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um comportamento ingênuo (randômic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magens anim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hipGameScre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iza e possui todos os objetos do jogo (Nave, Inimigos e Balas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entraliza a atualização dos estados d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balas com inimig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colisão de inimigos com a nave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nderiza todos os objetos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a e pinta informações do jogo (pontuação, level e vid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rata pressionamento das teclas (esquerda,direita e fire) (exercíci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6366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UILD &amp; RUN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Deplo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ver the Air” (O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bo ser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ra vermel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01932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5180040" y="5505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7267680" y="52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701120" y="3489480"/>
            <a:ext cx="607680" cy="67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7556400" y="2048040"/>
            <a:ext cx="60804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3713040" y="2282760"/>
            <a:ext cx="720720" cy="225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00200" y="3049560"/>
            <a:ext cx="1106280" cy="39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57964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05400" y="3805200"/>
            <a:ext cx="865440" cy="1295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89880" y="3105000"/>
            <a:ext cx="768240" cy="338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05280" y="3836880"/>
            <a:ext cx="960480" cy="140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97640" y="1065240"/>
            <a:ext cx="1243080" cy="635040"/>
          </a:xfrm>
          <a:prstGeom prst="wedgeRoundRectCallout">
            <a:avLst>
              <a:gd name="adj1" fmla="val -77967"/>
              <a:gd name="adj2" fmla="val 88750"/>
              <a:gd name="adj3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IDLet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9960" y="1998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57880" y="3726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9880" y="62467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2436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10560" y="36543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5000" y="27176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98640" y="58150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11280" y="56610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000000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648960" y="3008520"/>
            <a:ext cx="507960" cy="474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6265800" y="4107960"/>
            <a:ext cx="507960" cy="43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916000" y="2637000"/>
            <a:ext cx="191880" cy="5634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6680" y="3902040"/>
            <a:ext cx="288720" cy="1125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00680" y="5724360"/>
            <a:ext cx="115380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89760" y="5724360"/>
            <a:ext cx="1152360" cy="16848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40720" y="4220640"/>
            <a:ext cx="288720" cy="9558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8058240" y="3129120"/>
            <a:ext cx="47520" cy="67464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3984480" y="4160880"/>
            <a:ext cx="457200" cy="5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6649920" y="3008160"/>
            <a:ext cx="457200" cy="50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072320" y="4653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18600" y="26575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plash scre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men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lhorar tela de game 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bela com recordes (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Background com </a:t>
            </a:r>
            <a:r>
              <a:rPr b="0" i="1" lang="pt-BR" sz="2200" spc="-1" strike="noStrike">
                <a:solidFill>
                  <a:srgbClr val="000000"/>
                </a:solidFill>
                <a:latin typeface="Verdana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efe de f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leta de itens (campo de força, diferentes tiros, etc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ipos diferentes de inimig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.A dos inimig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pload de pontu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: Visão g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incipais Players: EA Mobile (Jamdat), Gameloft (Ubi Software), Glu Mobile, Hands On e I-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presas com atuação mund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turamentos crescentes e superiores a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60 milhõ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 dólares por 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delo de negócios padrão: revenue share em cima das vendas das operadoras para os usuários fin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rcando em processo de consolid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e, se necessá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fuscadores para diminuir tamanho de códig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guard, Retroguard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utela no uso de herança e excesso de cla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vite usar classes anônimas ou aninh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s a variáveis estáticas e métodos estáticos é mais rá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rays no lugar de Vec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oops de trás pra frente (comparação com 0,null e false é mais rápid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use obje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idado no uso d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timização (cont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mbine várias imagens em uma s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úmero de cores das imag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o Clip pra pin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ocup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anho do Jar (64k ~ 1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mória (200k ~ 600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cessamento (5 fps ~ 10 f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771640" y="2205000"/>
          <a:ext cx="84456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20500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995640" y="2276640"/>
          <a:ext cx="2732040" cy="30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27664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5004720" y="27082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34560" y="321300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P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ercício (Portar para MIDP 2.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341360"/>
            <a:ext cx="7920000" cy="358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cote Jogos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223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176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IDP 2.0 Pack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avax.microedition.lcdui.g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88440">
              <a:spcBef>
                <a:spcPts val="125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ide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77240">
              <a:spcBef>
                <a:spcPts val="125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http://java.sun.com/javame/reference/apis/jsr118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58920" y="2781360"/>
            <a:ext cx="6049440" cy="1728720"/>
            <a:chOff x="1258920" y="2781360"/>
            <a:chExt cx="6049440" cy="1728720"/>
          </a:xfrm>
        </p:grpSpPr>
        <p:sp>
          <p:nvSpPr>
            <p:cNvPr id="394" name=""/>
            <p:cNvSpPr/>
            <p:nvPr/>
          </p:nvSpPr>
          <p:spPr>
            <a:xfrm>
              <a:off x="1258920" y="3070080"/>
              <a:ext cx="42494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5640" y="3070080"/>
              <a:ext cx="151272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3600" y="3286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5520" y="4078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0480" y="4078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24800" y="3286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06880" y="4078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1" name=""/>
            <p:cNvCxnSpPr>
              <a:stCxn id="397" idx="0"/>
              <a:endCxn id="396" idx="2"/>
            </p:cNvCxnSpPr>
            <p:nvPr/>
          </p:nvCxnSpPr>
          <p:spPr>
            <a:xfrm flipH="1" flipV="1" rot="5400000">
              <a:off x="2086920" y="3445920"/>
              <a:ext cx="508680" cy="756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2" name=""/>
            <p:cNvCxnSpPr>
              <a:stCxn id="398" idx="0"/>
              <a:endCxn id="396" idx="2"/>
            </p:cNvCxnSpPr>
            <p:nvPr/>
          </p:nvCxnSpPr>
          <p:spPr>
            <a:xfrm flipV="1" rot="16200000">
              <a:off x="2725560" y="3562200"/>
              <a:ext cx="508680" cy="522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"/>
            <p:cNvCxnSpPr>
              <a:stCxn id="396" idx="3"/>
              <a:endCxn id="399" idx="1"/>
            </p:cNvCxnSpPr>
            <p:nvPr/>
          </p:nvCxnSpPr>
          <p:spPr>
            <a:xfrm>
              <a:off x="3026880" y="3428640"/>
              <a:ext cx="9687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4" name=""/>
            <p:cNvSpPr/>
            <p:nvPr/>
          </p:nvSpPr>
          <p:spPr>
            <a:xfrm>
              <a:off x="2995200" y="3213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3680" y="2781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7400" y="4078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0" idx="3"/>
              <a:endCxn id="406" idx="1"/>
            </p:cNvCxnSpPr>
            <p:nvPr/>
          </p:nvCxnSpPr>
          <p:spPr>
            <a:xfrm>
              <a:off x="5265360" y="4220640"/>
              <a:ext cx="9036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>
              <a:off x="5808240" y="2781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2960" y="3286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406" idx="0"/>
              <a:endCxn id="409" idx="2"/>
            </p:cNvCxnSpPr>
            <p:nvPr/>
          </p:nvCxnSpPr>
          <p:spPr>
            <a:xfrm flipH="1" flipV="1" rot="5400000">
              <a:off x="6291360" y="3822840"/>
              <a:ext cx="5086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1" name=""/>
          <p:cNvSpPr/>
          <p:nvPr/>
        </p:nvSpPr>
        <p:spPr>
          <a:xfrm>
            <a:off x="2916360" y="4076640"/>
            <a:ext cx="647640" cy="289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6320" y="3284640"/>
            <a:ext cx="618840" cy="28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914400" cy="342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61960" y="147312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3635280" y="1341360"/>
            <a:ext cx="4997520" cy="4638600"/>
            <a:chOff x="3635280" y="1341360"/>
            <a:chExt cx="4997520" cy="4638600"/>
          </a:xfrm>
        </p:grpSpPr>
        <p:pic>
          <p:nvPicPr>
            <p:cNvPr id="419" name="" descr=""/>
            <p:cNvPicPr/>
            <p:nvPr/>
          </p:nvPicPr>
          <p:blipFill>
            <a:blip r:embed="rId5"/>
            <a:stretch/>
          </p:blipFill>
          <p:spPr>
            <a:xfrm>
              <a:off x="5651640" y="134136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6"/>
            <a:stretch/>
          </p:blipFill>
          <p:spPr>
            <a:xfrm>
              <a:off x="3635280" y="306864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"/>
          <p:cNvSpPr/>
          <p:nvPr/>
        </p:nvSpPr>
        <p:spPr>
          <a:xfrm>
            <a:off x="5580000" y="1341360"/>
            <a:ext cx="3095640" cy="57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74800" y="4365720"/>
            <a:ext cx="369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508464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71600" y="95724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41760" y="508464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ssos ger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sar frame sequence no lugar de vetores de imag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 Sprite para herdar do Sprite do MIDP 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lterar classes dos objetos para adaptações da nova interface de Sp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Herdar Sprite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alhando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Fundir imagens separ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método Contants.loadImages()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ransformar vetores de imagens em frame sequences na classe Constants (</a:t>
            </a:r>
            <a:r>
              <a:rPr b="0" lang="pt-BR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terar classe Sp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clarar heranç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declaração de campos já herda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gar posicionamento a métodos do Sprite MIDP 2.0 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terface do construtor para receber fram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mplementar draw() usando Sprite.paint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Usar frame sequence para controlar as animações nas classes Ship, Enemy e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onverter chamadas a setImage(…) em setFrameSequence(…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nicializar frame sequences nos contrutores e nas mudanças de estado das classe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mover métodos draw(). Atualizar frames no update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inicialização das classes usando novo constru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daptar classe ShipGameScreen para passar frame sequence no lugar do vetor de image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exercíc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lhorias no uso de MIDP 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SzPct val="6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azer nosso Sprite herdar do Sprite de MIDP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colisão do sprite de MIDP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ar GameCan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tratamento de teclas usando getKeyState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back buffer usando getGraphic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r full scr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ição de som (sugestão MI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Um pouco mais sobre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ância do por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a parte do desenvolvimento (~ 40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nsar no porte desde o projeto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mplos de vari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anho de te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I de s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ão MI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gs do cel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i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ionalidades do jo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ga-se a gerar +1000 versões de um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Boas práticas para o por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ter código ún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é-processamento //#ifdef &lt;symbo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http://antenna.sourceforge.n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http://eclipseme.org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8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squisas acadê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stemas de bui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ável por gerar as várias versões da apl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é-processa código antes de compi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 resources: seleciona arquivos (imagens, sons, etc) por ver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acota tudo gerando executáveis (jar e j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ant.apache.org/manua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incipais Tecnolo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na troca de mensagens (forca, quiz, penalty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AP/xHTML/i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ogos baseados em páginas estáticas (velha, pedra papel tesou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rew (Binary Runtime Environment for Windo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iente de execução para chipset Qualcom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++ e API definida pela Qualcomm (animações, som, recursos de rede, etc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incipal mercado: E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ava otimizado para dispositivos com limit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dotado por todos os maiores players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I’s especificadas pela comunidade JC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3300"/>
                </a:solidFill>
                <a:latin typeface="Verdana"/>
              </a:rPr>
              <a:t>Padrão do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cas fi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ites interess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"/>
              </a:rPr>
              <a:t>www.forum.noki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3"/>
              </a:rPr>
              <a:t>www.motocoder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4"/>
              </a:rPr>
              <a:t>http://wireless.java.sun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5"/>
              </a:rPr>
              <a:t>http://www.microjava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6"/>
              </a:rPr>
              <a:t>http://www.midlet-review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8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istas de discuss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kvm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cc"/>
              </a:buClr>
              <a:buSzPct val="12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2me-brasi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1476360" y="386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úvidas, questionamentos ou afliçõ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tarcisio.camara@meantime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pr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3381120" cy="547668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11280" y="1341360"/>
            <a:ext cx="3132720" cy="750960"/>
            <a:chOff x="611280" y="1341360"/>
            <a:chExt cx="3132720" cy="750960"/>
          </a:xfrm>
        </p:grpSpPr>
        <p:pic>
          <p:nvPicPr>
            <p:cNvPr id="444" name="" descr=""/>
            <p:cNvPicPr/>
            <p:nvPr/>
          </p:nvPicPr>
          <p:blipFill>
            <a:blip r:embed="rId3"/>
            <a:stretch/>
          </p:blipFill>
          <p:spPr>
            <a:xfrm>
              <a:off x="611280" y="1341360"/>
              <a:ext cx="2581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78760" y="1846080"/>
              <a:ext cx="19652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76, 2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5466240" y="620640"/>
            <a:ext cx="210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Verdana"/>
              </a:rPr>
              <a:t>setTransform(Sprite.TRANS_…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11280" y="2276640"/>
            <a:ext cx="3410280" cy="1895400"/>
            <a:chOff x="611280" y="2276640"/>
            <a:chExt cx="3410280" cy="1895400"/>
          </a:xfrm>
        </p:grpSpPr>
        <p:pic>
          <p:nvPicPr>
            <p:cNvPr id="448" name="" descr="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28954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27960" y="2781360"/>
              <a:ext cx="1893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Verdana"/>
                </a:rPr>
                <a:t>defineReferencePixel(25,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66120" cy="460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elefones Java (&gt;650 dispositiv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365720"/>
            <a:ext cx="6264360" cy="358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4560" y="138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382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Verdana"/>
              </a:rPr>
              <a:t>http://developers.sun.com/techtopics/mobility/device/pub/device/list.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349360"/>
            <a:ext cx="136836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2160" y="4653000"/>
            <a:ext cx="755640" cy="1728720"/>
          </a:xfrm>
          <a:prstGeom prst="downArrow">
            <a:avLst>
              <a:gd name="adj1" fmla="val 66806"/>
              <a:gd name="adj2" fmla="val 3092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963920" y="5234040"/>
            <a:ext cx="14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disposi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pág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ção a plataform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6600" y="2414520"/>
            <a:ext cx="1440000" cy="385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95760" y="4056120"/>
            <a:ext cx="1440000" cy="221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1439640" cy="313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276960" y="4683240"/>
            <a:ext cx="1440000" cy="1589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97080" y="2060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8280" y="27608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3320" y="391320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MA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75280" y="1312920"/>
            <a:ext cx="1130400" cy="1298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753080" y="1305000"/>
            <a:ext cx="1155600" cy="128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4240" y="1320840"/>
            <a:ext cx="1152360" cy="128124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5200" y="1316160"/>
            <a:ext cx="1152720" cy="1280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6240" y="2604960"/>
            <a:ext cx="14400" cy="2433600"/>
          </a:xfrm>
          <a:prstGeom prst="line">
            <a:avLst/>
          </a:prstGeom>
          <a:ln cap="rnd" w="76320">
            <a:solidFill>
              <a:srgbClr val="ffcc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645000"/>
            <a:ext cx="1679400" cy="368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EL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549600" y="1376280"/>
            <a:ext cx="1127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quitetura J2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470480"/>
            <a:ext cx="475308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666960"/>
            <a:ext cx="475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863800"/>
            <a:ext cx="2376720" cy="792360"/>
          </a:xfrm>
          <a:prstGeom prst="rect">
            <a:avLst/>
          </a:prstGeom>
          <a:solidFill>
            <a:srgbClr val="ffc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060640"/>
            <a:ext cx="475308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5400" y="2868480"/>
            <a:ext cx="2376360" cy="38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3268800"/>
            <a:ext cx="2376360" cy="38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10:21:18Z</dcterms:created>
  <dc:creator>Windows_NT</dc:creator>
  <dc:description/>
  <dc:language>en-US</dc:language>
  <cp:lastModifiedBy>Tarcisio Pinto Camara</cp:lastModifiedBy>
  <cp:lastPrinted>1998-09-17T18:01:36Z</cp:lastPrinted>
  <dcterms:modified xsi:type="dcterms:W3CDTF">2006-12-14T08:42:21Z</dcterms:modified>
  <cp:revision>513</cp:revision>
  <dc:subject/>
  <dc:title>Slide sem título </dc:title>
</cp:coreProperties>
</file>