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2F79-FF03-4A31-A955-EA7E371E3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AF8D-BE7F-491E-B2EB-79DD06C45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3BCA-E6FA-4D82-81E1-8F19D295D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F977-DE4A-4267-9B48-CAA5559BB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6201-2ECF-44E3-A586-CACD2583B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2536-A7A7-402E-AC1A-E89B7481A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2F16-4415-43F6-8B89-BFFFA9665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3649-CF63-4AA2-AC09-7FDEE2192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462F-4BC6-471E-9551-A4C43DE80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0708-9E95-4783-BCC0-1CB381C0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6BAB-16A3-4E50-AA53-F3230256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6CFB-76A4-4922-B7E8-8AEDAAD90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BEEE5-CF95-464B-937A-2147D0908BC2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ntaxe Abstrata de Imp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n-UF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digmas de Linguagens Computacion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ntaxe Abstrata de Imp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0920" y="1628640"/>
            <a:ext cx="822960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Programa ::= Coman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Comando ::= Atribuica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|  ComandoDeclaraca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|  Wh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|  IfThen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|  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|  Comando "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" Coman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|  Ski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|  ChamadaProcedimen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Skip ::= “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skip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Atribuicao ::= Id "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:=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" Expressa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Expressao ::= Valor | ExpUnaria | ExpBinaria | I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Valor ::= ValorConcre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ValorConcreto ::= ValorInteiro | ValorBooleano | ValorStr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ExpUnaria ::= "-" Expressao | "not" Expressao | "length" Expressa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ExpBinaria ::= Expressao "+" Expressa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|   Expressao "-" Expressa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|   Expressao "and" Expressa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|   Expressao "or" Expressa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|   Expressao "==" Expressa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|   Expressao "++" Expressa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ntaxe Abstrata de Imp2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2280" y="1981080"/>
            <a:ext cx="87631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ComandoDeclaracao ::= "{" Declaracao ";" Comando "}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Declaracao ::= DeclaracaoVariav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|   DeclaracaoProcedimen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|   Declaracao "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" Declaraca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DeclaracaoVariavel ::= "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var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" Id "=" Expressa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DeclaracaoProcedimento ::= "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proc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" Id "(" [ ListaDeclaracaoParametro ] ")" "{" Comando "}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?ListaDeclaracaoParametro ::= Tipo Id | Tipo Id "," ListaDeclaracaoParametr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Tipo ::= "string" | "int" | "boolean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While ::= "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whil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" Expressao "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d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" Coman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IfThenElse ::= "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if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" Expressao "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then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" Comando "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els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" Coman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IO ::= "write" "(" Expressao ")" | "read" "(" Id ")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ChamadaProcedimento ::= "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call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" Id "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" ListaExpressao "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5T20:36:03Z</dcterms:created>
  <dc:creator>hermano</dc:creator>
  <dc:description/>
  <dc:language>en-US</dc:language>
  <cp:lastModifiedBy>jeane</cp:lastModifiedBy>
  <dcterms:modified xsi:type="dcterms:W3CDTF">2005-07-27T18:05:55Z</dcterms:modified>
  <cp:revision>11</cp:revision>
  <dc:subject/>
  <dc:title>Sintaxe Abstrata de Imp2</dc:title>
</cp:coreProperties>
</file>