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CF2-8B36-48AF-A47E-A2302515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A0D-D9EA-413E-A8F9-FCB9CF2D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1C23-0A5F-4B51-96BB-5CC09B35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3EE-B5BD-4A34-ACA6-382B6098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D817-4D6E-4EF1-A066-2D17B432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C567-1875-49CE-93BA-E01264C3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7BE0-84C2-46AE-B3FF-272BB069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E8A3-121B-45FD-8F3C-00A7F583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E8C7-6AB4-461D-A40D-211CD86F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DD75-1289-445B-839B-37B74C79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3E68-6B7C-4A1E-87F2-50B8AA9D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EF3-6180-47B9-89E0-56DE00D5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4BC0-E1D9-45B0-AECF-2AFAD53D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2C63-FBDF-4E95-942F-B365F45B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292B-64B6-4302-99C9-A73F2820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4204-F21A-4AC0-AA38-D40C2877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9704-8C1F-41F8-85F3-9823E126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C7A-0A0E-43F8-8BF7-4695A283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273-09BA-44E2-A730-FD3B0018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455-64E5-43FE-BA9D-BFCE0F14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62ED-BBC8-4DDD-8481-E2BAAE75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5DF6-72F0-4DD9-B087-A0F99491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1C09-AA97-432E-8ADA-E57102CF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6D61-C730-4587-A100-EEB07315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21FE-9658-4508-9B9A-C3F465409273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4E8C-0541-40A1-849B-453B8F2256F7}" type="slidenum">
              <a:rPr b="0" lang="pt-B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m Interpretador para Exp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ask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ática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emplos de programas Exp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1 = PROG (LITI 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2 = PROG (SOMA (LITI 4) (LITI 5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tidades Semânt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-- Val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-- data Valor = V1 Int | V2 Bool | V3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ata Valor = Int | Bool |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-- showValor :: Valor -&gt;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-- showValor (V1 i) = show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-- showValor (V2 b) = show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-- showValor (V3 s) = show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ção de Interpreta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terprete :: Programa -&gt;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terprete (PROG e) = show (eval 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-- Funcao de Avaliacao de Express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val :: Expressao -&gt; Va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val (LITI i) =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val (LITB b) =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val (LITS s) = 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val (NOT e) = not (eval 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val (SOMA e1 e2) = (eval e1) + (eval e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os algébricos recurs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ipos de dados recurs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data Expr = Lit 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| Add Expr Exp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| Sub Expr Exp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unções definidas recursiva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val :: Expr -&gt; Int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val (Lit n)     = n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val (Add e1 e2) = (eval e1) + (eval e2)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val (Sub e1 e2) = (eval e1) - (eval e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Tipos algébricos polimórf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ipos de dados polimórf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ata Pairs t = Pair t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air 6 8 :: Pairs 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air True True :: Pairs B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air [] [1,3] :: Pair [Int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is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ata List t = 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| Cons t (List 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rvores biná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ata Tree t = Ni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| Node t (Tree t) (Tree 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rivando instâncias de clas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ata List t = 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| Cons t (List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eriving (Eq,Ord,Sho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ata Tree t = Ni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| Node t (Tree t) (Tree 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eriving (Eq,Ord,Sho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ercí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fina as seguintes funçõ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howExpr :: Expr -&gt;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oList :: List t -&gt; [t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romList :: [t] -&gt; List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epth :: Tree t -&gt; 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ollapse :: Tree t -&gt; [t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apTree :: (t -&gt; u) -&gt; Tree t -&gt; Tree 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guagem Exp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clui apenas valores constantes (literais) e operações sobre val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alores e operações sobre inteiros, booleanos e string são admit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programa é uma express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grupa valores em tipos e uma verificação de tipos pode ser implement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ntaxe Abstrata da Linguagem Exp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Programa ::= Expressa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xpressao ::= Val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| ExpUnar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| ExpBinari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Valor ::= ValorConcret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ValorConcreto ::= ValorIntei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| ValorBoolea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| ValorString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xpUnaria ::=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|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|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length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xpBinaria ::= Expressa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| Expressa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| Expressa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| Expressa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| Expressa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==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| Expressao "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++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" Expressa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amas de Exp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a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a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4 +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ntaxe Abstrata de Exp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ata Programa = PROG Express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ata Expressao = LITI I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LITB Bo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LITS St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-- ExpUna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MINUS Express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NOT Express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LENGTH Express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-- ExpBina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SOMA Expressao Express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SUBTRACAO Expressao Express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AND Expressao Express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OR Expressao Express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IGUAL Expressao Express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| CONCATENA Expressao Expressa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7:58:46Z</dcterms:created>
  <dc:creator>Hermano Perrelli de Moura</dc:creator>
  <dc:description/>
  <dc:language>en-US</dc:language>
  <cp:lastModifiedBy>Hermano Perrelli de Moura</cp:lastModifiedBy>
  <dcterms:modified xsi:type="dcterms:W3CDTF">2004-08-17T11:07:29Z</dcterms:modified>
  <cp:revision>5</cp:revision>
  <dc:subject/>
  <dc:title>Um Interpretador para Exp1</dc:title>
</cp:coreProperties>
</file>